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413A-40DC-4AE0-AA90-B1DDE175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17DA-BB06-4AF5-AD0E-597CFD61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8666-A276-4753-898F-8EBC35ACC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206B-5AC5-4063-9C0E-8626B476F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413E-A0D9-409E-B86C-7510E2C1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F3F6-E106-4CAA-A729-D6DA7625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1C40-D11C-4C99-BD54-28DF1867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7F6B-E59A-45FD-ADB7-BD6990E0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21F8-F2F2-496B-A75D-06813CCF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6561-E02C-4450-AE5D-302A0648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3D69-7FC8-47CF-B5E6-9E73BF59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DEA0-2E83-4240-A644-A72F59DB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EFCD-7033-453D-A655-B83294BCD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P0250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AP0259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AP0260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AP0261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AP026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AP0251" descr=""/>
          <p:cNvPicPr/>
          <p:nvPr/>
        </p:nvPicPr>
        <p:blipFill>
          <a:blip r:embed="rId1"/>
          <a:stretch/>
        </p:blipFill>
        <p:spPr>
          <a:xfrm>
            <a:off x="0" y="-22860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AP025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AP025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AP025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AP0255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AP0256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AP0257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AP0258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1T04:06:28Z</dcterms:created>
  <dc:creator>USER</dc:creator>
  <dc:description/>
  <dc:language>en-US</dc:language>
  <cp:lastModifiedBy>USER</cp:lastModifiedBy>
  <dcterms:modified xsi:type="dcterms:W3CDTF">2003-02-08T04:16:39Z</dcterms:modified>
  <cp:revision>3</cp:revision>
  <dc:subject/>
  <dc:title>PowerPoint Presentation</dc:title>
</cp:coreProperties>
</file>