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9FD-4F61-403B-8E8D-A6034C19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F5E-E773-4747-B127-04226284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B71-19F6-44A4-9590-993F96C1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472-8528-4627-B7CF-AE9F0A66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550-5EBC-4C7C-B1DA-C6F9F5D0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069-E087-4EF7-8C40-80BB2BB8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20D-639A-44CA-9FFD-0420D1FA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390-F165-430C-8397-C17B211E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ACB-3E47-4655-8599-0B00CB23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11E-7965-4D52-8868-5E2642E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D72-7313-4812-81F6-6BC45DFC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6E9-EB05-4E6E-A925-0507C8F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EBDA-CAD6-4FB7-99BC-6D59E64A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59092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حبةُ القمح ذقتُ الموتَ كي أحيا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2819520" cy="86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لبي مِن طَعنِ الرُمحِ أسقى حبَّه الدنيا قوتاً روحيا حي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8915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لرسلِ قالَ الربُّ  لِم أنتُم مَحزونونا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ا تأسَوا لا تغتموا لاسلطانَ في الدنيا يَغلبُ المُحبي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49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28600"/>
            <a:ext cx="3276720" cy="91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المجدِ يومي آتٍ طالعٌ من بحرِ النو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خفقِ نصرٍ حيٍ يعلو هاماتِ الدهورْ إذ إني نورٌ من نور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57:03Z</dcterms:created>
  <dc:creator>SUZANNE.MD</dc:creator>
  <dc:description/>
  <dc:language>en-US</dc:language>
  <cp:lastModifiedBy>HANI SAFI</cp:lastModifiedBy>
  <dcterms:modified xsi:type="dcterms:W3CDTF">2003-04-17T11:12:33Z</dcterms:modified>
  <cp:revision>2</cp:revision>
  <dc:subject/>
  <dc:title>PowerPoint Presentation</dc:title>
</cp:coreProperties>
</file>