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B1E-0FAB-4C63-AB81-A21CFD2B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634-8EF0-4E9E-8765-6296C75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F4F-A887-4302-A782-8B059B98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ACD-993E-4E62-9AE1-C76936E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C0C-BEAD-4608-8A9A-E0BDC29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EBA-F830-4616-B293-EE5BBA36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768-A3E9-42E8-9269-B692DC8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E86-D456-491D-9A2C-9782DB47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D9B-6E77-468C-83A0-D76A201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013-FCB0-4D9B-924E-4242F96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39C-330F-44BC-AE1F-C4616316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A2B-7328-4047-8FE6-7BF6DF4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2C6-E90F-4E97-AB9D-645DA93A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5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P025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P026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P026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026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51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5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5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5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P025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P025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P025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P025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4:06:28Z</dcterms:created>
  <dc:creator>USER</dc:creator>
  <dc:description/>
  <dc:language>en-US</dc:language>
  <cp:lastModifiedBy>USER</cp:lastModifiedBy>
  <dcterms:modified xsi:type="dcterms:W3CDTF">2003-02-08T04:16:39Z</dcterms:modified>
  <cp:revision>3</cp:revision>
  <dc:subject/>
  <dc:title>PowerPoint Presentation</dc:title>
</cp:coreProperties>
</file>