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CC219-F0B8-41E7-9B0C-9514A1314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8AFC-0114-44BF-80E8-7F7A17664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AE70C-B511-44B7-AF9D-70CB3B95F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E0F91-21AF-47C1-8890-C38066CF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B191A-3399-4C1B-B1DE-21AE1AA43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64DF-7188-4416-B5B9-118E9287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3DA82-886F-4BA8-85EF-DCE67DF94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B4725-37C9-49F7-AB9C-595E0751E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F604-F353-430A-9EC0-FBC5B64E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0E71-4F31-4F0D-B5A4-BB8823EA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E845-BDBC-45BE-A342-C9B091D3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644B-8752-4425-BE26-3B89142A3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F7CB-A5FC-48A5-888A-212B4F9D57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أحب مساكنك يا رب الجنود. تشتاق وتذوب نفسي إلى ديـارالرب ويرنم قلبي وجسمـي للإلـه الحـي. العصفـور وجـد له مأوى واليمامـة عشـا  تضـع فيـه  أفراخهـا. مـن لـي بمذابحـك يـا رب الجنود ملكي وإلهي. طوبـى لسكـان بيتـك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إنهم لا يبرحون يُسَََبِِحو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3:11:13Z</dcterms:created>
  <dc:creator>HANI SAFI</dc:creator>
  <dc:description/>
  <dc:language>en-US</dc:language>
  <cp:lastModifiedBy>HANI SAFI</cp:lastModifiedBy>
  <dcterms:modified xsi:type="dcterms:W3CDTF">2003-04-10T03:22:12Z</dcterms:modified>
  <cp:revision>2</cp:revision>
  <dc:subject/>
  <dc:title>Slide 1</dc:title>
</cp:coreProperties>
</file>