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1D9-2040-4DBE-B3C5-8A0B843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6C7-B0DD-46C5-9459-FF2F2E7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D94-0F2D-484E-BCD4-A808F027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9A7-6751-4A3B-86A1-F3893689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0B6-DB69-44F1-9AD6-EAA1787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E2C-C7EB-4F60-AD18-4DD25EB8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B49B-92B7-4076-9ECC-34F62174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37E-9524-4598-A397-0FDBFEA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736-37CB-4F41-9C9C-D617726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063-FC21-419C-89E6-F823FA88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5CE-86F7-47E6-B2E1-FA0926E4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429-474D-4E71-BC8F-E0ADC1C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E15-038A-4796-A47C-636AE156D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5909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حبةُ القمح ذقتُ الموتَ كي أحي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2819520" cy="86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لبي مِن طَعنِ الرُمحِ أسقى حبَّه الدنيا قوتاً روحيا ح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8915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لرسلِ قالَ الربُّ  لِم أنتُم مَحزونونا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ا تأسَوا لا تغتموا لاسلطانَ في الدنيا يَغلبُ المُحبي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49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327672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لمجدِ يومي آتٍ طالعٌ من بحرِ الن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خفقِ نصرٍ حيٍ يعلو هاماتِ الدهورْ إذ إني نورٌ من نور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57:03Z</dcterms:created>
  <dc:creator>SUZANNE.MD</dc:creator>
  <dc:description/>
  <dc:language>en-US</dc:language>
  <cp:lastModifiedBy>HANI SAFI</cp:lastModifiedBy>
  <dcterms:modified xsi:type="dcterms:W3CDTF">2003-04-17T11:12:33Z</dcterms:modified>
  <cp:revision>2</cp:revision>
  <dc:subject/>
  <dc:title>PowerPoint Presentation</dc:title>
</cp:coreProperties>
</file>