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37E-EE9A-43A5-A513-020A7B5C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DEA-B446-4F69-9D9B-5ECF818C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C6F-5320-4BB3-B665-D484594E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052-2C09-4953-AD92-A32E1BA3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26B-BBDB-4F3B-9A64-FA9ED139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34F-15CF-47CF-990F-EA4E45AC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41F-6955-4242-85BA-A866AA0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AA0-F2B7-4D1D-BD53-1710D3D3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762-AD19-4658-BEB0-5588AB52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A8F-6A3E-4EC6-A8B4-B758C184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91B-5273-48BC-A4F5-EACD605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EF3-F4FF-47BD-8FBD-54ABF5DC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2035-0DF1-4999-9716-E491D23F7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324480" y="304920"/>
            <a:ext cx="2819520" cy="89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 يوماً واحداً في دياركَ خيرٌ من آل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ثرتُ أَن أَطرَحَ عِنْدَ عتبةِ بيتِ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أن أَنزلَ في منازلِ الخطأ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3451070cXNiyMwIsJ_ph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1368130RjrjRHULen_ph" descr="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0"/>
            <a:ext cx="297180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َن لي بمذابحِكَ يا ربَّ الأكوان ملكي وإله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بى لسكان بييتك إلى دهر الدهو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ُسَبِّحونكَ طوبى للذين نصَرتُهُم مِن قِبَلِكَ فإنَّ في قلوبِهِم مراقي إلي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7731970FdghszlVNG_ph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00800" y="304920"/>
            <a:ext cx="2438280" cy="83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رب إلَهَ الأكوانِ استَمِعْ صلاتي أَصِخْ يا إلَهَ يعقو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ُنْظُر أيُّها المحامي عنّا والتَفِت إلى وجهِ مسيحِ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9:03:33Z</dcterms:created>
  <dc:creator>SUZANNE.MD</dc:creator>
  <dc:description/>
  <dc:language>en-US</dc:language>
  <cp:lastModifiedBy>USER</cp:lastModifiedBy>
  <dcterms:modified xsi:type="dcterms:W3CDTF">2003-01-31T04:46:19Z</dcterms:modified>
  <cp:revision>3</cp:revision>
  <dc:subject/>
  <dc:title>PowerPoint Presentation</dc:title>
</cp:coreProperties>
</file>