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696-794F-4DAA-8328-64F43B87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F19-A1D7-4A24-BD11-B7E4BCE1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F1B-D2E5-4DDE-A5B0-C02BB180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E31-FE7E-46D7-8E97-344AF7F6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708-92C0-4FF9-8CF7-33534216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1B9-D714-48AE-9AA7-7AB524CB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A28-DE8A-48D6-A18A-3DE51424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51F-8A95-44F1-8C39-D646C2A5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AB5-E35D-47C0-A734-D4F83E16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6D4-D76E-4934-99A5-B66A42E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914-139B-46D8-B1FD-EAC0C0E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90F-9E0F-4F25-96EB-ED28E2A7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688A-8EC9-484B-BF1F-B56854A9F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حُنا بخورْ حنانُنا نبيذْ       إيمانُنا قربان لقاؤنا صلاةْ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    فرحُنا حنانُنا ايمانُنا لقاؤنا     قدّاسُنا محبَّة قداسنا محبَ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6200" y="0"/>
            <a:ext cx="61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2971800" cy="88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ما أجملَ أن يجتَمعَ الإخوة    تحتَ سقفٍ واح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الأرضُ تهلِّلُ والسماءُ تُباركْ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ما أجملَ أن يجتمعَ  الأخــوة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5:17:53Z</dcterms:created>
  <dc:creator>SUZANNE.MD</dc:creator>
  <dc:description/>
  <dc:language>en-US</dc:language>
  <cp:lastModifiedBy>HANI SAFI</cp:lastModifiedBy>
  <dcterms:modified xsi:type="dcterms:W3CDTF">2003-05-19T05:46:18Z</dcterms:modified>
  <cp:revision>2</cp:revision>
  <dc:subject/>
  <dc:title>PowerPoint Presentation</dc:title>
</cp:coreProperties>
</file>