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8ED-B907-4F81-9852-C8A79AE2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869C-E1FE-4EF4-8213-18D19997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D75-F461-4CB5-A5B2-E251D847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F94-F3D0-4552-B5FC-895923B9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FF1-3529-40C4-89B0-CE3290C0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F9D-44B4-48DE-98B2-D4630FAE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1CBC-2328-4FDD-B583-E9BB6F3F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B9B-00A7-4004-8996-CCFBFEEA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D08-E379-481C-8164-F37B6EF9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F32-0FB7-405D-B447-768CC6A4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522-9284-4CB8-8A08-7CDCE57E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3974-2279-4EDA-A0A1-E7DD445D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769B-2618-4119-8F27-DD142791B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221_wallpaper28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173600" y="4327560"/>
            <a:ext cx="6926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حكاية حبَّك للكِل حكينا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ما في مطرح إلا ما كتبنا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مكن نحن كبرنا ونسينا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جعنا زغار منفهم معنا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92760" y="0"/>
            <a:ext cx="84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قمحة اللي انزرعت بقل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وت وتنمى وتزهّر مح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ناس لْ منشوفن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َ در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ِتلاقو بوجَّك فينا يا 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000358eocWgsHZvH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1509120" y="4568760"/>
            <a:ext cx="84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قمحة اللي انزرعت بقل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وت وتنمى وتزهّر مح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ناس لْ منشوفن عَ در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ِتلاقو بوجَّك فينا يا 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3040" y="0"/>
            <a:ext cx="692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تنسّينا الكِلمة لْ قلتا عن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تو ملح الأرض وإنتو نور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تتركنا ضلك ساكن 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خلينا نكون عندك أجمل صور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6185893tpZAUN_ph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owerandglory" descr=""/>
          <p:cNvPicPr/>
          <p:nvPr/>
        </p:nvPicPr>
        <p:blipFill>
          <a:blip r:embed="rId3"/>
          <a:stretch/>
        </p:blipFill>
        <p:spPr>
          <a:xfrm>
            <a:off x="0" y="-144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15240" y="0"/>
            <a:ext cx="713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حدك إنتَ بعتم الدرب سراج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إنتَ الكنز لْ ما منتخلى عنو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لطرقات الخِطرة تبقى سياج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صّلنا لنبعك وسقينا من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1720" y="3429000"/>
            <a:ext cx="570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قمح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اللي انزرعت بقل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وت وتنمى وتزهّر مح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نا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لْ منشوفن عَ در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ِتلاقو بوجَّك فينا يا 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3-02-08T06:46:57Z</dcterms:modified>
  <cp:revision>3</cp:revision>
  <dc:subject/>
  <dc:title>PowerPoint Presentation</dc:title>
</cp:coreProperties>
</file>