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C1D-FFAA-412C-A7B1-DAF4AA27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46A-D276-44C9-B9CA-23821D18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E5A-C62F-489F-A90F-CF1827CD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A70-9D2D-4FDD-AD40-FDB504A3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A8D-EBE1-4893-A3FC-94D051B0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522-8C55-44A4-A0F0-F9026F51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A2A-99AE-4C18-AF11-BFC0FBC4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AF7-5999-4D48-ABCF-4DDFEFF3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44B-C1F1-43C2-8BD6-96C4A780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2D7-C1F2-48D8-97DA-9B8BE8D4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E59-8F54-47EA-A633-D3CD8D57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37CB-729F-44FE-9BFC-8D18BA7E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D384-280C-4738-8B1E-8DECCAA70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304920"/>
            <a:ext cx="259092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ي حبةُ القمح ذقتُ الموتَ كي أحيا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2819520" cy="86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لبي مِن طَعنِ الرُمحِ أسقى حبَّه الدنيا قوتاً روحيا حي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8915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لرسلِ قالَ الربُّ  لِم أنتُم مَحزونونا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ا تأسَوا لا تغتموا لاسلطانَ في الدنيا يَغلبُ المُحبي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499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28600"/>
            <a:ext cx="3276720" cy="91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المجدِ يومي آتٍ طالعٌ من بحرِ النو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خفقِ نصرٍ حيٍ يعلو هاماتِ الدهورْ إذ إني نورٌ من نور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57:03Z</dcterms:created>
  <dc:creator>SUZANNE.MD</dc:creator>
  <dc:description/>
  <dc:language>en-US</dc:language>
  <cp:lastModifiedBy>HANI SAFI</cp:lastModifiedBy>
  <dcterms:modified xsi:type="dcterms:W3CDTF">2003-04-17T11:12:33Z</dcterms:modified>
  <cp:revision>2</cp:revision>
  <dc:subject/>
  <dc:title>PowerPoint Presentation</dc:title>
</cp:coreProperties>
</file>