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59F-3FB5-4A20-AE66-34BCE2ED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917-1D5B-4051-987E-C9590931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91D-EEC4-4504-84D4-576C5403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E9F-6A65-4C09-99F1-44C3913D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1D3-8758-4A7E-937D-9EB4B5F5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829-E374-40B9-9713-DFECE486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1F3-50EE-4904-B292-68024AC2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BDB-BDEE-48CE-A67C-F81BB86A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1B6-3D39-49B1-9214-D959A04F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845B-A020-4582-A582-8355F964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AB6-9951-4303-BD3B-FC7DFA25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34C-4D2A-466A-877B-8EA93C78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7EA5-C52E-4EAC-9AA2-49D299EA8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2760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-257040"/>
            <a:ext cx="3047760" cy="13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هلِّلـي يا محبـّة رنـِّـم يـا رجـاءْ في لقاءِ الأحبَّة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لقاءِ الأحبَّ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في يومِ السماءْ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يومِ السماءْ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raditional Arabic"/>
              </a:rPr>
              <a:t>هلِّلــي، هلِّلــي   يا محبـَ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81280" cy="10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رحُنا بخورْ حنانُنا نبيذْ       إيمانُنا قربان لقاؤنا صلاةْ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      فرحُنا حنانُنا ايمانُنا لقاؤنا     قدّاسُنا محبَّة قداسنا محبَـ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276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-257040"/>
            <a:ext cx="3047760" cy="13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هلِّلـي يا محبـّة رنـِّـم يـا رجـاءْ في لقاءِ الأحبَّة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لقاءِ الأحبَّ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في يومِ السماءْ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يومِ السماءْ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raditional Arabic"/>
              </a:rPr>
              <a:t>هلِّلــي، هلِّلــي   يا محبـَ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6200" y="0"/>
            <a:ext cx="6157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80880"/>
            <a:ext cx="2971800" cy="88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ما أجملَ أن يجتَمعَ الإخوة    تحتَ سقفٍ واحد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الأرضُ تهلِّلُ والسماءُ تُباركْ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ما أجملَ أن يجتمعَ  الأخــوة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27600" cy="7086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-257040"/>
            <a:ext cx="3047760" cy="13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هلِّلـي يا محبـّة رنـِّـم يـا رجـاءْ في لقاءِ الأحبَّة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لقاءِ الأحبَّ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في يومِ السماءْ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يومِ السماءْ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raditional Arabic"/>
              </a:rPr>
              <a:t>هلِّلــي، هلِّلــي   يا محبـَ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5:17:53Z</dcterms:created>
  <dc:creator>SUZANNE.MD</dc:creator>
  <dc:description/>
  <dc:language>en-US</dc:language>
  <cp:lastModifiedBy>HANI SAFI</cp:lastModifiedBy>
  <dcterms:modified xsi:type="dcterms:W3CDTF">2003-05-19T05:46:18Z</dcterms:modified>
  <cp:revision>2</cp:revision>
  <dc:subject/>
  <dc:title>PowerPoint Presentation</dc:title>
</cp:coreProperties>
</file>