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8BB-AFAD-4E64-9F38-19F0462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0C8-6623-447C-BFB0-7D92AE1E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C7F-2BF6-41FD-9FA4-1698E91A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5EE-5C01-4509-BF8A-3490C859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D2B-4F2D-4775-88D6-90347EF6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6A6-5428-4A30-A2A2-A4906016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376-825D-4034-A543-F987513E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10B-1BED-4D50-99F5-1873878F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258-14FE-40F9-B1C2-13445F69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0E8-8735-498E-AD31-0DF34C4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07E-5106-4BF9-BF97-6627395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919-20F3-43BB-ACFF-47D7E9D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489B-A448-490F-BA05-3638A2070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1_wallpaper2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173600" y="4327560"/>
            <a:ext cx="69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كاية حبَّك للكِل حك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ا في مطرح إلا ما كتب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مكن نحن كبرنا ونس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جعنا زغار منفهم مع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760" y="0"/>
            <a:ext cx="84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509120" y="4568760"/>
            <a:ext cx="84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ّينا الكِلمة لْ قلتا عن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و ملح الأرض وإنتو نور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تركنا ضلك ساكن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لينا نكون عندك أجمل صور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6185893tpZAUN_ph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owerandglory" descr=""/>
          <p:cNvPicPr/>
          <p:nvPr/>
        </p:nvPicPr>
        <p:blipFill>
          <a:blip r:embed="rId3"/>
          <a:stretch/>
        </p:blipFill>
        <p:spPr>
          <a:xfrm>
            <a:off x="0" y="-144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5240" y="0"/>
            <a:ext cx="713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حدك إنتَ بعتم الدرب سر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َ الكنز لْ ما منتخلى عن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لطرقات الخِطرة تبقى سي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صّلنا لنبعك وسقينا من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1720" y="3429000"/>
            <a:ext cx="570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2-08T06:46:57Z</dcterms:modified>
  <cp:revision>3</cp:revision>
  <dc:subject/>
  <dc:title>PowerPoint Presentation</dc:title>
</cp:coreProperties>
</file>