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CA88-9FBD-45C9-8B48-5A257346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4E38-9569-4C39-B26C-E877FC4C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9FD-41C0-4954-A96E-FF6B4010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E40-8397-40B6-8FB4-ED51F34E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025-E086-4226-9DD3-1AC593C5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5C0-785A-4EBC-BDE0-F71F7B0E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411-69DD-4490-8528-FBD6FDBF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3B2-C190-4F72-A39C-1AB2CE1B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F9B7-3C12-41C8-8C2A-C133E489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481E-1F95-4C5B-A189-3A4A3D15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414C-4115-43FD-BD17-128BD588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35F-EE9C-4A6F-AB91-653A618F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B849-B354-488F-ACAE-4D92E595F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304920"/>
            <a:ext cx="28954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للإلهِ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495687_ph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458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457200" y="0"/>
            <a:ext cx="9372600" cy="73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إله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324480" y="304920"/>
            <a:ext cx="2819520" cy="89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 يوماً واحداً في دياركَ خيرٌ من آلا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آثرتُ أَن أَطرَحَ عِنْدَ عتبةِ بيتِ إ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لى أن أَنزلَ في منازلِ الخطأ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23451070cXNiyMwIsJ_ph" descr=""/>
          <p:cNvPicPr/>
          <p:nvPr/>
        </p:nvPicPr>
        <p:blipFill>
          <a:blip r:embed="rId2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248520" y="304920"/>
            <a:ext cx="28954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للإلهِ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495687_ph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458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457200" y="0"/>
            <a:ext cx="9372600" cy="73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إله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1368130RjrjRHULen_ph" descr=""/>
          <p:cNvPicPr/>
          <p:nvPr/>
        </p:nvPicPr>
        <p:blipFill>
          <a:blip r:embed="rId2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72200" y="0"/>
            <a:ext cx="2971800" cy="11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َن لي بمذابحِكَ يا ربَّ الأكوان ملكي وإله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وبى لسكان بييتك إلى دهر الدهو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ُسَبِّحونكَ طوبى للذين نصَرتُهُم مِن قِبَلِكَ فإنَّ في قلوبِهِم مراقي إلي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248520" y="304920"/>
            <a:ext cx="28954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للإلهِ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495687_ph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458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457200" y="0"/>
            <a:ext cx="9372600" cy="73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إله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27731970FdghszlVNG_ph" descr=""/>
          <p:cNvPicPr/>
          <p:nvPr/>
        </p:nvPicPr>
        <p:blipFill>
          <a:blip r:embed="rId1"/>
          <a:stretch/>
        </p:blipFill>
        <p:spPr>
          <a:xfrm>
            <a:off x="0" y="0"/>
            <a:ext cx="65721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400800" y="304920"/>
            <a:ext cx="2438280" cy="83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رب إلَهَ الأكوانِ استَمِعْ صلاتي أَصِخْ يا إلَهَ يعقوب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ُنْظُر أيُّها المحامي عنّا والتَفِت إلى وجهِ مسيحِ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248520" y="304920"/>
            <a:ext cx="28954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للإلهِ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495687_ph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45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457200" y="0"/>
            <a:ext cx="9372600" cy="73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إله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9:03:33Z</dcterms:created>
  <dc:creator>SUZANNE.MD</dc:creator>
  <dc:description/>
  <dc:language>en-US</dc:language>
  <cp:lastModifiedBy>USER</cp:lastModifiedBy>
  <dcterms:modified xsi:type="dcterms:W3CDTF">2003-01-31T04:46:19Z</dcterms:modified>
  <cp:revision>3</cp:revision>
  <dc:subject/>
  <dc:title>PowerPoint Presentation</dc:title>
</cp:coreProperties>
</file>