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F14-544D-4E17-A923-49257EA0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95A-C97E-459D-BBE6-3D8928A3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207-232D-46D5-A91A-A1D5E426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779-250F-4378-B55C-422FF8B6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305-1729-4F2A-A839-8F089EDF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211-A2B5-4CDA-B93D-38BBBACC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F6E-E6E7-4A4F-A2EB-ADA5651D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099-453F-4446-B3AB-31B67AEC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6BA-325D-4249-A55C-4E35FA2A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3B9-DDFF-48CF-A88B-5153D797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558-934B-4C18-9C57-224A99EC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89E-62C1-44F1-ABA6-412C7D15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08AC-803A-4E41-936E-5CD061BB5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50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AP0259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AP0260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AP026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AP026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51" descr="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5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5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P025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AP025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P025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AP025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P025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4:06:28Z</dcterms:created>
  <dc:creator>USER</dc:creator>
  <dc:description/>
  <dc:language>en-US</dc:language>
  <cp:lastModifiedBy>USER</cp:lastModifiedBy>
  <dcterms:modified xsi:type="dcterms:W3CDTF">2003-02-08T04:16:39Z</dcterms:modified>
  <cp:revision>3</cp:revision>
  <dc:subject/>
  <dc:title>PowerPoint Presentation</dc:title>
</cp:coreProperties>
</file>