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5D1E-3EB5-4C37-BD9B-5673807AE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88AF-96F1-49C8-9162-0BF6FEE3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A9BB-B1C0-4ADA-A0FA-79EBC9DF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6BB0-E817-4FE0-BA85-542B119B4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B7FF-FAFA-434E-8B08-9E7257FF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9AA5-5E19-4825-8289-0C136A6D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C5A4-3E0F-49DA-8E1C-15D29366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8247-41F3-44D1-8EEB-449CA0E4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A604-344E-43B5-B707-DC9CB420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CB45-3814-403F-8964-D3FE0205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468D-818B-407F-B734-3AEAC1EE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D2C0-A92B-4254-A729-7A873078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C8BD-4166-43BE-822A-CCB08F791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221_wallpaper28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173600" y="4327560"/>
            <a:ext cx="6926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حكاية حبَّك للكِل حكيناه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ما في مطرح إلا ما كتبناه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مكن نحن كبرنا ونسيناه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رجعنا زغار منفهم معناه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92760" y="0"/>
            <a:ext cx="846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نشا الله القمحة اللي انزرعت بقلوب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موت وتنمى وتزهّر محب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نشا الله الناس لْ منشوفن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عَ دروب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ِتلاقو بوجَّك فينا يا ر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2000358eocWgsHZvH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-1509120" y="4568760"/>
            <a:ext cx="846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نشا الله القمحة اللي انزرعت بقلوب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موت وتنمى وتزهّر محب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نشا الله الناس لْ منشوفن عَ دروب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ِتلاقو بوجَّك فينا يا ر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53040" y="0"/>
            <a:ext cx="6921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ا تنسّينا الكِلمة لْ قلتا عنا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نتو ملح الأرض وإنتو نور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ا تتركنا ضلك ساكن ع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خلينا نكون عندك أجمل صور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46185893tpZAUN_ph" descr="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8" name="powerandglory" descr=""/>
          <p:cNvPicPr/>
          <p:nvPr/>
        </p:nvPicPr>
        <p:blipFill>
          <a:blip r:embed="rId3"/>
          <a:stretch/>
        </p:blipFill>
        <p:spPr>
          <a:xfrm>
            <a:off x="0" y="-1440"/>
            <a:ext cx="4572000" cy="3430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315240" y="0"/>
            <a:ext cx="7136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حدك إنتَ بعتم الدرب سراج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إنتَ الكنز لْ ما منتخلى عنو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الطرقات الخِطرة تبقى سياج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صّلنا لنبعك وسقينا من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81720" y="3429000"/>
            <a:ext cx="5709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نشا الله القمح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اللي انزرعت بقلوب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موت وتنمى وتزهّر محب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نشا الله النا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لْ منشوفن عَ دروب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ِتلاقو بوجَّك فينا يا ر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3-02-08T06:46:57Z</dcterms:modified>
  <cp:revision>3</cp:revision>
  <dc:subject/>
  <dc:title>PowerPoint Presentation</dc:title>
</cp:coreProperties>
</file>