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737-FB73-4066-B2F8-D8679474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BD5-4736-40B9-B86A-78CC982E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D35-E802-4C85-9064-DDE4E341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1F2-6ACE-45DA-9C3D-D772DFC5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B6F-337D-4429-A9B6-E6463688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6F3-2CED-4BB5-9D18-3BA8B02E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B65-0099-4EA8-B3F0-5A1D7DFB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4FA-35B6-4411-BF0D-98E73837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F33-29DF-4A10-B309-3FF4040A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807-1DB1-46D2-81CB-DBDB879B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7FD-B8B3-4C90-BF50-4E0DBFA8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363-4D77-4847-836A-71C6A101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72FC-343C-4B50-8C50-22D1D631D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50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AP0259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AP0260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AP026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AP026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51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5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5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P025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AP025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P025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AP025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P025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4:06:28Z</dcterms:created>
  <dc:creator>USER</dc:creator>
  <dc:description/>
  <dc:language>en-US</dc:language>
  <cp:lastModifiedBy>USER</cp:lastModifiedBy>
  <dcterms:modified xsi:type="dcterms:W3CDTF">2003-02-08T04:16:39Z</dcterms:modified>
  <cp:revision>3</cp:revision>
  <dc:subject/>
  <dc:title>PowerPoint Presentation</dc:title>
</cp:coreProperties>
</file>