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E91D-42C1-4C44-A1D3-461AB1B0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6636-BF1A-4029-AAD1-30C8DFE8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FFD1-A550-401E-8EE0-D3E2403F3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4E8E-4A9B-4933-B071-B857BC6D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F716-46B8-4E96-A28C-331A2A9A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D180-55D0-424C-B6D0-0129803E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9F82-47AB-4971-AD3B-DE7B59BC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1985-CFC4-4404-A142-CB26C0ED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9B34-2976-4625-B825-D4B99A74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F408-3A88-4C7C-8201-7D6FBCF2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B025-D8C5-43E9-B01C-D861E134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47EB-304D-48BF-92EE-FA89E26E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BA0F-0BAB-4A7E-A370-927FB86F0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304920"/>
            <a:ext cx="2895480" cy="85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أحبَّ مساكِنَكَ يا ربَّ الأك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شتاقُ وتذوبُ نفسي إلى ديار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هتَزُّ قلبي وجِسمي للإلهِ الحي  للإلهِ الح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495687_ph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8458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-457200" y="0"/>
            <a:ext cx="9372600" cy="73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أحبَّ مساكِنَكَ يا ربَّ الأك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شتاقُ وتذوبُ نفسي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  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لى ديار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هتَزُّ قلبي وجِسمي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إله الحي  للإلهِ الح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324480" y="304920"/>
            <a:ext cx="2819520" cy="89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ن يوماً واحداً في دياركَ خيرٌ من آلا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آثرتُ أَن أَطرَحَ عِنْدَ عتبةِ بيتِ إله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لى أن أَنزلَ في منازلِ الخطأ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23451070cXNiyMwIsJ_ph" descr=""/>
          <p:cNvPicPr/>
          <p:nvPr/>
        </p:nvPicPr>
        <p:blipFill>
          <a:blip r:embed="rId2"/>
          <a:stretch/>
        </p:blipFill>
        <p:spPr>
          <a:xfrm>
            <a:off x="0" y="0"/>
            <a:ext cx="632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248520" y="304920"/>
            <a:ext cx="2895480" cy="85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أحبَّ مساكِنَكَ يا ربَّ الأك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شتاقُ وتذوبُ نفسي إلى ديار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هتَزُّ قلبي وجِسمي للإلهِ الحي  للإلهِ الح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495687_ph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8458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457200" y="0"/>
            <a:ext cx="9372600" cy="73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أحبَّ مساكِنَكَ يا ربَّ الأك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شتاقُ وتذوبُ نفسي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  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لى ديار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هتَزُّ قلبي وجِسمي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إله الحي  للإلهِ الح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31368130RjrjRHULen_ph" descr=""/>
          <p:cNvPicPr/>
          <p:nvPr/>
        </p:nvPicPr>
        <p:blipFill>
          <a:blip r:embed="rId2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72200" y="0"/>
            <a:ext cx="2971800" cy="11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َن لي بمذابحِكَ يا ربَّ الأكوان ملكي وإلهي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طوبى لسكان بييتك إلى دهر الدهور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ُسَبِّحونكَ طوبى للذين نصَرتُهُم مِن قِبَلِكَ فإنَّ في قلوبِهِم مراقي إليكَ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248520" y="304920"/>
            <a:ext cx="2895480" cy="85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أحبَّ مساكِنَكَ يا ربَّ الأك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شتاقُ وتذوبُ نفسي إلى ديار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هتَزُّ قلبي وجِسمي للإلهِ الحي  للإلهِ الح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495687_ph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8458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-457200" y="0"/>
            <a:ext cx="9372600" cy="73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أحبَّ مساكِنَكَ يا ربَّ الأك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شتاقُ وتذوبُ نفسي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  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لى ديار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هتَزُّ قلبي وجِسمي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إله الحي  للإلهِ الح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27731970FdghszlVNG_ph" descr=""/>
          <p:cNvPicPr/>
          <p:nvPr/>
        </p:nvPicPr>
        <p:blipFill>
          <a:blip r:embed="rId1"/>
          <a:stretch/>
        </p:blipFill>
        <p:spPr>
          <a:xfrm>
            <a:off x="0" y="0"/>
            <a:ext cx="65721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400800" y="304920"/>
            <a:ext cx="2438280" cy="83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رب إلَهَ الأكوانِ استَمِعْ صلاتي أَصِخْ يا إلَهَ يعقوب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ُنْظُر أيُّها المحامي عنّا والتَفِت إلى وجهِ مسيحِكَ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248520" y="304920"/>
            <a:ext cx="2895480" cy="85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أحبَّ مساكِنَكَ يا ربَّ الأك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شتاقُ وتذوبُ نفسي إلى ديار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هتَزُّ قلبي وجِسمي للإلهِ الحي  للإلهِ الح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495687_ph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8458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-457200" y="0"/>
            <a:ext cx="9372600" cy="73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أحبَّ مساكِنَكَ يا ربَّ الأك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شتاقُ وتذوبُ نفسي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  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لى ديار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هتَزُّ قلبي وجِسمي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إله الحي  للإلهِ الح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09:03:33Z</dcterms:created>
  <dc:creator>SUZANNE.MD</dc:creator>
  <dc:description/>
  <dc:language>en-US</dc:language>
  <cp:lastModifiedBy>USER</cp:lastModifiedBy>
  <dcterms:modified xsi:type="dcterms:W3CDTF">2003-01-31T04:46:19Z</dcterms:modified>
  <cp:revision>3</cp:revision>
  <dc:subject/>
  <dc:title>PowerPoint Presentation</dc:title>
</cp:coreProperties>
</file>