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788F-BEA7-46EE-9B22-8FA69D4D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B06C-408F-4774-B422-340A7349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335-1505-4F25-9B20-279E89D2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1FFE-75A2-4200-8B2C-3B50E062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DA5E-4F87-4C29-85E5-F2D4CE46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371B-91F1-4A0C-959D-638D2443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04C-E153-4F30-A54B-BA348D6F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EDD-BCBF-4A1E-9EA3-6F87DFD6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B09-C2E4-465D-BF45-33A26257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CF71-7438-4927-9E36-7EDE3D62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BD86-F7BB-4CE0-B386-D788DF6B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FEC-E0D2-4BA7-9B4B-7B00FF95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2FC9-9410-4BA6-8FFB-C55EB3B3E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727600" cy="7086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-257040"/>
            <a:ext cx="3047760" cy="132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هلِّلـي يا محبـّة رنـِّـم يـا رجـاءْ في لقاءِ الأحبَّة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لقاءِ الأحبَّ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في يومِ السماءْ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يومِ السماءْ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raditional Arabic"/>
              </a:rPr>
              <a:t>هلِّلــي، هلِّلــي   يا محبـَ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581280" cy="10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رحُنا بخورْ حنانُنا نبيذْ       إيمانُنا قربان لقاؤنا صلاةْ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      فرحُنا حنانُنا ايمانُنا لقاؤنا     قدّاسُنا محبَّة قداسنا محبَـ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727600" cy="7086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-257040"/>
            <a:ext cx="3047760" cy="132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هلِّلـي يا محبـّة رنـِّـم يـا رجـاءْ في لقاءِ الأحبَّة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لقاءِ الأحبَّ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في يومِ السماءْ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يومِ السماءْ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raditional Arabic"/>
              </a:rPr>
              <a:t>هلِّلــي، هلِّلــي   يا محبـَ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86200" y="0"/>
            <a:ext cx="6157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80880"/>
            <a:ext cx="2971800" cy="88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ما أجملَ أن يجتَمعَ الإخوة    تحتَ سقفٍ واحد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الأرضُ تهلِّلُ والسماءُ تُباركْ</a:t>
            </a:r>
            <a:r>
              <a:rPr b="1" lang="ar-SA" sz="4800" spc="-1" strike="noStrike">
                <a:solidFill>
                  <a:srgbClr val="ffcccc"/>
                </a:solidFill>
                <a:latin typeface="Times New Roman"/>
                <a:ea typeface="Times New Roman"/>
              </a:rPr>
              <a:t> ما أجملَ أن يجتمعَ  الأخــوة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727600" cy="7086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-257040"/>
            <a:ext cx="3047760" cy="132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هلِّلـي يا محبـّة رنـِّـم يـا رجـاءْ في لقاءِ الأحبَّة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لقاءِ الأحبَّ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في يومِ السماءْ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يومِ السماءْ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raditional Arabic"/>
              </a:rPr>
              <a:t>هلِّلــي، هلِّلــي   يا محبـَ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5:17:53Z</dcterms:created>
  <dc:creator>SUZANNE.MD</dc:creator>
  <dc:description/>
  <dc:language>en-US</dc:language>
  <cp:lastModifiedBy>HANI SAFI</cp:lastModifiedBy>
  <dcterms:modified xsi:type="dcterms:W3CDTF">2003-05-19T05:46:18Z</dcterms:modified>
  <cp:revision>2</cp:revision>
  <dc:subject/>
  <dc:title>PowerPoint Presentation</dc:title>
</cp:coreProperties>
</file>