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624-1D67-4D9E-A3C4-766A6DB9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EFC-8AED-4DD9-B07C-2FEA512A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C56-01E1-4E14-AE68-94EFA4CA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65E-6E04-4394-AEB9-8FC631F0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8B2-00B1-44A9-B2DD-E1F1CD18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59D-4D3F-45AF-A583-8FDE2F8D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EA1-53C8-4D39-BA26-1410A1BE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58A-0B49-468D-8D79-46E43271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E4D-1FA6-4B2A-9EFB-2C40E43C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42D-3581-40D1-9F16-1EFEACAD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C64-5E62-43F3-BB4E-8EFC0311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DF4-EBF8-4689-BDA5-94273899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F929-ADB6-4386-9F80-BE1A8422D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2666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لبي صحراءٌ دام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فة لا ماءَ في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بنا ماءَ الحيا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فيضُ فيها ويُحيي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pirit-jesus" descr="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0"/>
            <a:ext cx="7620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قلبي صحراءٌ دامسة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جافة لا ماءَ فيه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هبنا ماءَ الحياة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فيفيضُ فيها ويُحييها</a:t>
            </a:r>
            <a:r>
              <a:rPr b="0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rayboy1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3124080" cy="9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تعالَ في عمقِ يأس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يها الروحُ المعز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حررني جددني واملأن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أتَهَلّلَ بذِكر الرب</a:t>
            </a:r>
            <a:r>
              <a:rPr b="0" lang="ar-SA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yingdove" descr=""/>
          <p:cNvPicPr/>
          <p:nvPr/>
        </p:nvPicPr>
        <p:blipFill>
          <a:blip r:embed="rId2"/>
          <a:stretch/>
        </p:blipFill>
        <p:spPr>
          <a:xfrm>
            <a:off x="5943600" y="135000"/>
            <a:ext cx="28954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pirit-g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352680" cy="71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ستسلمُ بين يديك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 روحَ الله الح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م وانفح في روح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أُعلنْ أن يسوعَ حي</a:t>
            </a:r>
            <a:r>
              <a:rPr b="0" lang="ar-SA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00:43Z</dcterms:created>
  <dc:creator>SUZANNE.MD</dc:creator>
  <dc:description/>
  <dc:language>en-US</dc:language>
  <cp:lastModifiedBy>SUZANNE.MD</cp:lastModifiedBy>
  <dcterms:modified xsi:type="dcterms:W3CDTF">2003-05-22T09:35:26Z</dcterms:modified>
  <cp:revision>1</cp:revision>
  <dc:subject/>
  <dc:title>PowerPoint Presentation</dc:title>
</cp:coreProperties>
</file>