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9E3-0A11-4A5B-9EEF-AEB2D55D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1E0-BDEA-4B48-A547-5FFBDA1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280-2237-4018-8DFF-E23FB9DC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E54-02CE-4A62-8323-A09C504F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384-A3A7-4709-ABC2-295DF2C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BE2-F73E-4371-91A0-431F7539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F9A-4014-4252-B16D-F8A570E6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923-761D-406E-B60D-AFD3E584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A25-EB1F-4CDE-9B28-BDEC824A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CB8-50B0-4808-93BF-39E00924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E39-7345-4BE7-BDBE-9313EB8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6F5-4D90-4151-A194-6AD7ABF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62BE-0FFC-4862-93F1-F352AD2ED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ماءُ ما صا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طحينُ خبز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صبَحنا سُكن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زيت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اعطى السراجُ نوراً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فَرشنا نورَ الله</a:t>
            </a: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329862NhSMZy_ph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معُنا هللوي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وح يجعلنا أبناءَ الل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لولا الحب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كان القلبُ حي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عَرفنا حُبَ الله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لولا النور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ما اعطى الوردُ عِطراً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لولا الرو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ما نثرنا عِطرَ الله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7T13:01:03Z</dcterms:modified>
  <cp:revision>3</cp:revision>
  <dc:subject/>
  <dc:title>PowerPoint Presentation</dc:title>
</cp:coreProperties>
</file>