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D8B-58B8-4AED-AE57-AAA445BD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2C6-2655-40A3-94BA-E0D16F82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DB9-ED58-4F9C-B3B5-2384727B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D77-47B6-4DC3-A719-A48366D8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562-450D-44CF-A0A2-E19A89B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58-5569-4329-83B4-9021852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97D-C738-419C-BC7F-CFE6BBD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B71-7DA7-4740-A021-37B5ECE6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743-B983-4872-AED9-7B74F9D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A22-EE98-4F9B-9488-8481D3F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FF2-8EF7-4E2B-8F5A-AFF8827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B5D-37BF-48A4-A5BF-E936FD9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671D-339F-4D81-A960-8BE9E824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57200"/>
            <a:ext cx="16002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Arial"/>
              </a:rPr>
              <a:t>إنَ الروحَ يصلي فيكم بأَنّاتٍ لا توصَ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71960" y="0"/>
            <a:ext cx="5972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2895480" cy="76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روحُ الربِّ يُرَفرِفُ على الميا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2743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إن الروحَ يشهدُ مع أرواحنا بأننا أبناءُ ا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12:06Z</dcterms:created>
  <dc:creator>HANI SAFI</dc:creator>
  <dc:description/>
  <dc:language>en-US</dc:language>
  <cp:lastModifiedBy>HANI SAFI</cp:lastModifiedBy>
  <dcterms:modified xsi:type="dcterms:W3CDTF">2003-05-30T11:27:51Z</dcterms:modified>
  <cp:revision>2</cp:revision>
  <dc:subject/>
  <dc:title>Slide 1</dc:title>
</cp:coreProperties>
</file>