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CFA-55B2-45DF-9527-E8B12137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E43-8ABF-4D95-B820-66E531B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1C0-06E3-4898-9EB1-FFBFCB90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D4A-C805-47DF-918F-42F86B24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897-CEE1-49E4-A580-A776B60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6EB-9B00-4B0A-9A24-E5EFBFE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7AD-9A80-4578-8F4B-9CF7E03C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B63-8E50-4824-8063-B1C520E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74D-75F6-4992-B064-74AD095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5CE-7F70-4D0F-BA87-E2FD3D2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A95-FC5D-46D4-A9DF-58A2811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5DB-F021-4F5C-8D21-794FFA2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BA0A-AB6E-47A6-9345-75EF44498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57200"/>
            <a:ext cx="16002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Arial"/>
              </a:rPr>
              <a:t>إنَ الروحَ يصلي فيكم بأَنّاتٍ لا توصَ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71960" y="0"/>
            <a:ext cx="5972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2895480" cy="76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روحُ الربِّ يُرَفرِفُ على الميا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04920"/>
            <a:ext cx="2743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إن الروحَ يشهدُ مع أرواحنا بأننا أبناءُ ا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َرسِل روحَكَ أيها المسيح فيتجدّدَ وجهُ الأ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12:06Z</dcterms:created>
  <dc:creator>HANI SAFI</dc:creator>
  <dc:description/>
  <dc:language>en-US</dc:language>
  <cp:lastModifiedBy>HANI SAFI</cp:lastModifiedBy>
  <dcterms:modified xsi:type="dcterms:W3CDTF">2003-05-30T11:27:51Z</dcterms:modified>
  <cp:revision>2</cp:revision>
  <dc:subject/>
  <dc:title>Slide 1</dc:title>
</cp:coreProperties>
</file>