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1FB-15BF-4CD4-802F-0C6EADDD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3FD-DDAE-4FFE-9E56-67E7DBD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066-5BEB-4C38-89E8-5EB1187F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050-8B18-40F5-AB54-B998765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06C-0F8A-4597-9359-F9F2C09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18B-2990-4EAB-A85C-3E86E264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E59-6FEC-420C-861C-600A0348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992-86B5-4BEF-B792-301F483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7C-7463-488C-9847-A74B9DC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1EC-EAFC-4F15-99A5-9F5513F8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5E-8F23-45A1-B5DB-599B4B9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E6A-47D4-4974-BA0D-CF343B8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48F-2A45-4FAC-ABF7-A6B43E80B11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روحُ الر بِّ عَـليَّ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لأشفي القلوب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وباً كسير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عتقَ الأسرى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هب العميانَ البص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يؤمنون إن لم يسمعوا كيف يسمعون بلا مبشّر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بشّرون إن لم يرسَلو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جمل أقدام الـمبشر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سلا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ـمبشرين بالخير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2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 الرب عليَّ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سحني وأرسلني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بشّر الـمساكين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مرسل ملاكي يهيّئ الطريق أمامي وللوقت يأتي السيد الذي تلتمسونه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رسل ومن ينطلق؟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3120" y="-171360"/>
            <a:ext cx="6081480" cy="68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ت: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ا أنا ذا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سلني.</a:t>
            </a:r>
            <a:endParaRPr b="0" lang="en-US" sz="1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49:48Z</dcterms:created>
  <dc:creator>Charbel Azar</dc:creator>
  <dc:description/>
  <dc:language>en-US</dc:language>
  <cp:lastModifiedBy>-</cp:lastModifiedBy>
  <dcterms:modified xsi:type="dcterms:W3CDTF">2002-12-16T07:38:35Z</dcterms:modified>
  <cp:revision>7</cp:revision>
  <dc:subject/>
  <dc:title>Slide 1</dc:title>
</cp:coreProperties>
</file>