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14C2-9987-4A86-BA49-4CF8C213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824F-3DE4-44FB-B53B-34829DE8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0623-DCA8-483E-93B7-98249526C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1425-7C6C-4E22-9D04-D2C8F62A3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2FC0-D83C-4C5B-8684-AD9B441B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D167-E49D-4E86-9FB1-92B46862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8B1D-1B00-440C-B4DD-FFD8ECB0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D1F0-A2F7-4978-9598-ECDC2FEB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6EA9-EDD6-4AA3-A8A9-41C8DF68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02D0-6FDD-4F1B-B889-79A2DEF0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AEF5-8C7A-4E2F-8E5A-6FBEB5E4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831B-806B-474A-9DF8-A1129216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5B5F-0410-4D84-8F34-F7C35C21A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28800" y="4267080"/>
            <a:ext cx="556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َرسِل روحَكَ أيها المسيح فيتجدّدَ وجهُ الأر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457200"/>
            <a:ext cx="160020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Arial"/>
              </a:rPr>
              <a:t>إنَ الروحَ يصلي فيكم بأَنّاتٍ لا توصَ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828800" y="4267080"/>
            <a:ext cx="556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َرسِل روحَكَ أيها المسيح فيتجدّدَ وجهُ الأر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171960" y="0"/>
            <a:ext cx="59720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52280"/>
            <a:ext cx="2895480" cy="76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5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"/>
              </a:rPr>
              <a:t>روحُ الربِّ يُرَفرِفُ على الميا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828800" y="4267080"/>
            <a:ext cx="556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َرسِل روحَكَ أيها المسيح فيتجدّدَ وجهُ الأر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100000">
              <a:srgbClr val="fbe4a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304920"/>
            <a:ext cx="274320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إن الروحَ يشهدُ مع أرواحنا بأننا أبناءُ الل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828800" y="4267080"/>
            <a:ext cx="556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َرسِل روحَكَ أيها المسيح فيتجدّدَ وجهُ الأر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0T07:12:06Z</dcterms:created>
  <dc:creator>HANI SAFI</dc:creator>
  <dc:description/>
  <dc:language>en-US</dc:language>
  <cp:lastModifiedBy>HANI SAFI</cp:lastModifiedBy>
  <dcterms:modified xsi:type="dcterms:W3CDTF">2003-05-30T11:27:51Z</dcterms:modified>
  <cp:revision>2</cp:revision>
  <dc:subject/>
  <dc:title>Slide 1</dc:title>
</cp:coreProperties>
</file>