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D93-FA65-4B79-AF6A-7FAFCC3A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93A-0D16-4F08-AA9A-86A08E5E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643-20D0-45C7-8C2B-DF38FBA0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609-708C-4040-9833-22E7BF4E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14A-FE0C-4348-973E-C19BF090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054B-C2B5-4F72-A91F-31BC201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7A56-516C-4CCE-8393-7205B439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1FE-F563-459C-8940-02F5BFF9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6629-E3F1-472C-8FD5-15DBF366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CBB-602B-428D-BDA3-D9CDCE8A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FFE3-58CD-4192-B927-FE2BAB13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D6D-D52E-4AA4-A87B-F970A6E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F63D-B145-4744-B7BF-E1157F9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9DEE-3903-40BF-A044-AB8B7E0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E312-A0C2-4469-AD1E-C3EDA51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D3B0-1482-43FE-A7BB-3DD31972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5F6F-D1F4-4E97-A575-68DFBCEC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D41-6AA0-4292-88F9-2612002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65E-DB8A-4056-A64D-A75B227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325-A82D-434C-A15A-823BF3B4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6AF-4BD3-41E6-B440-2338DC5A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37F-2FB2-4F67-9CCB-EF6F849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838-334A-4543-B29D-6D1BBDCB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601-6369-4069-8BE4-E4CFB03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C3CA-F718-467A-8B5E-906BB54CD9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060F-E26B-48BC-9D9E-37E863EDCA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0" y="4653000"/>
            <a:ext cx="831708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وح يجمعن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128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508640"/>
            <a:ext cx="90378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30120" y="458136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00720" y="-579240"/>
            <a:ext cx="4500360" cy="78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ماءُ ما صارَ الطحينُ خبزا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روح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أصبحن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ُكنى الله</a:t>
            </a:r>
            <a:r>
              <a:rPr b="1" lang="ar-LB" sz="6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88720" y="450864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-649080"/>
            <a:ext cx="900108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زيتُ ما أعطى السراجُ نوراً لولا الروحُ ما فرشنا نورَ الل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43700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17440" y="448632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-2158560"/>
            <a:ext cx="4284720" cy="106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لا الحبُ ما كان القلبُ حياً لولا الروحُ ما عرفنا حبّ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280" y="4581360"/>
            <a:ext cx="90378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معنا هللوي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2130120" y="4653000"/>
            <a:ext cx="13291560" cy="14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734560"/>
            <a:ext cx="9144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ولا النورُ ما أعطى الوردُ عطراً لولا الروحُ ما نثرنا عطرَ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07:32Z</dcterms:created>
  <dc:creator>Charbel Azar</dc:creator>
  <dc:description/>
  <dc:language>en-US</dc:language>
  <cp:lastModifiedBy>ف</cp:lastModifiedBy>
  <dcterms:modified xsi:type="dcterms:W3CDTF">2006-06-05T21:07:23Z</dcterms:modified>
  <cp:revision>11</cp:revision>
  <dc:subject/>
  <dc:title>Slide 1</dc:title>
</cp:coreProperties>
</file>