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34D-AAD0-41DB-9534-14017B37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50A-C291-45F2-B77B-96C68993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769-AC0F-4780-9647-850C0DEE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6BA-6942-474D-8799-C558EC15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679-683D-4A32-B4AC-DD9992A1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827-6592-45D3-9AB9-521B734E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7C3-F47E-46F1-A5E3-40B5D22E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73E-9194-43BF-9F78-6B389EF6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0BE-076D-47CC-AC8A-6DE363CD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FE7A-725F-477F-8A52-7E74961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AAC-C6E9-44B0-AF94-570555A1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124-F059-47C2-8651-8ACCA563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7978-E810-4B16-A1D9-F9963E38A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ntacoast1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048120" cy="11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Arial"/>
                <a:cs typeface="Arabic Transparent"/>
              </a:rPr>
              <a:t>الروحُ القدسُ حلَّ </a:t>
            </a:r>
            <a:r>
              <a:rPr b="1" lang="ar-SA" sz="4800" spc="-1" strike="noStrike">
                <a:solidFill>
                  <a:srgbClr val="ffcc99"/>
                </a:solidFill>
                <a:latin typeface="Arial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Arial"/>
                <a:cs typeface="Arabic Transparent"/>
              </a:rPr>
              <a:t>اليومَ </a:t>
            </a:r>
            <a:r>
              <a:rPr b="1" lang="en-US" sz="4800" spc="-1" strike="noStrike">
                <a:solidFill>
                  <a:srgbClr val="ffcc99"/>
                </a:solidFill>
                <a:latin typeface="Arial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99"/>
                </a:solidFill>
                <a:latin typeface="Arial"/>
                <a:cs typeface="Arabic Transparent"/>
              </a:rPr>
              <a:t>في الرُسْل الأطهار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روحُ الحقِّ    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   تجلّى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      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ي ألسنةٍ </a:t>
            </a:r>
            <a:r>
              <a:rPr b="1" lang="en-US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من نـار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entecost002" descr=""/>
          <p:cNvPicPr/>
          <p:nvPr/>
        </p:nvPicPr>
        <p:blipFill>
          <a:blip r:embed="rId1"/>
          <a:stretch/>
        </p:blipFill>
        <p:spPr>
          <a:xfrm>
            <a:off x="3809880" y="0"/>
            <a:ext cx="5596200" cy="7086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733920" cy="79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اضَ الروحُ البهيُّ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ea typeface="Arabic Transparent"/>
              </a:rPr>
              <a:t>     اليومَ في الرُسل الأطهارْ       قـد رآهُ النـبـيّ 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ألســنةٍ من نـارْ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ho01" descr=""/>
          <p:cNvPicPr/>
          <p:nvPr/>
        </p:nvPicPr>
        <p:blipFill>
          <a:blip r:embed="rId1"/>
          <a:stretch/>
        </p:blipFill>
        <p:spPr>
          <a:xfrm>
            <a:off x="3605040" y="0"/>
            <a:ext cx="55389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4920"/>
            <a:ext cx="312408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ربِّ ، يا مَن تَقَبَّلْ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ِدْمـاً خِدْمـَةَ الأبـر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حنونُ ، تقبَّل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سـتجِبـنا كالأبـر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9:15:25Z</dcterms:created>
  <dc:creator>SUZANNE.MD</dc:creator>
  <dc:description/>
  <dc:language>en-US</dc:language>
  <cp:lastModifiedBy>SUZANNE.MD</cp:lastModifiedBy>
  <dcterms:modified xsi:type="dcterms:W3CDTF">2003-05-21T09:47:14Z</dcterms:modified>
  <cp:revision>1</cp:revision>
  <dc:subject/>
  <dc:title>PowerPoint Presentation</dc:title>
</cp:coreProperties>
</file>