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ABC-F645-4AA3-87E4-F4E5BEDC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845-E5A3-4827-86B7-0C64DB19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7C1-B4EC-48C1-A539-EABFC84D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D76-AB76-4D2D-AEAB-CD256F05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6AF-42D6-4F9D-B15C-03528397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E3A-5D1D-4552-A6E9-FF70CA4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3BC-0BC9-4573-9806-415C6842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8CA-9E0D-4739-8C24-7A8F71B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99-C5D4-4395-BE8A-701D40D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C52-4D66-4829-98CB-CACDFC9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F1D-2B59-4C62-B09D-80B43AB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BCC-0D57-4981-A388-3220750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F4C-112A-4900-B7A4-7B688BF4780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3924360" y="2637000"/>
            <a:ext cx="496872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4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رسل روحَك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3645000"/>
            <a:ext cx="9144000" cy="18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ميا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16280"/>
            <a:ext cx="52196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 الروحَ يشه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ع أرواح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أننا أبناء الل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Personal</cp:lastModifiedBy>
  <dcterms:modified xsi:type="dcterms:W3CDTF">2008-04-23T17:22:08Z</dcterms:modified>
  <cp:revision>9</cp:revision>
  <dc:subject/>
  <dc:title>Slide 1</dc:title>
</cp:coreProperties>
</file>