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832-DB3F-4404-8B9F-AB7A1EC6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F18-7810-492C-B96F-52139FF0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FB1-1DAA-41E9-A403-A753E9FE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28C-C146-4A42-A65B-C444C096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DAE-733B-452C-8AC7-25767D05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4CC-2EF4-47E0-92AD-CB2EA218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E71-3D35-4ED8-A17C-7FC050E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223-127A-4474-9BB7-FD0FBA76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C63-98B7-44A9-8EB8-C2BE1B1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302-309A-4133-9F34-88C1785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32E-1BF1-472C-B84E-7106A4A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517-2C95-4ADA-9359-66BECBD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FC14-6890-4E52-B37C-7C229693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coast1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11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روحُ القدسُ حلَّ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يومَ </a:t>
            </a:r>
            <a:r>
              <a:rPr b="1" lang="en-US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في الرُسْل الأطهار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روحُ الحقِّ  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تجلّى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  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ي ألسنةٍ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من نـا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tecost002" descr=""/>
          <p:cNvPicPr/>
          <p:nvPr/>
        </p:nvPicPr>
        <p:blipFill>
          <a:blip r:embed="rId1"/>
          <a:stretch/>
        </p:blipFill>
        <p:spPr>
          <a:xfrm>
            <a:off x="3809880" y="0"/>
            <a:ext cx="55962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73392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اضَ الروحُ البهيُّ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اليومَ في الرُسل الأطهارْ       قـد رآهُ النـبـيّ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ألســنةٍ من نـارْ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o01" descr=""/>
          <p:cNvPicPr/>
          <p:nvPr/>
        </p:nvPicPr>
        <p:blipFill>
          <a:blip r:embed="rId1"/>
          <a:stretch/>
        </p:blipFill>
        <p:spPr>
          <a:xfrm>
            <a:off x="360504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12408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، يا مَن تَقَبّ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ِدْمـاً خِدْمـَةَ الأبـ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نونُ ، تقبَّل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سـتجِبـنا كالأبـ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5:25Z</dcterms:created>
  <dc:creator>SUZANNE.MD</dc:creator>
  <dc:description/>
  <dc:language>en-US</dc:language>
  <cp:lastModifiedBy>SUZANNE.MD</cp:lastModifiedBy>
  <dcterms:modified xsi:type="dcterms:W3CDTF">2003-05-21T09:47:14Z</dcterms:modified>
  <cp:revision>1</cp:revision>
  <dc:subject/>
  <dc:title>PowerPoint Presentation</dc:title>
</cp:coreProperties>
</file>