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634-03AF-4644-A4A8-5DAE9EFF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BAF-54C8-4BCB-AD73-DD46DDFA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4B6-1CE7-4BF8-9249-75CA9DB3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53D-6F4B-4022-83AA-387B2863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A87-6301-4A07-B07E-5BB9AEB8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375-E750-4123-A546-AD2C1EC1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C6D-3149-4A90-B122-44D9DEE4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69D-0340-42A8-BAF3-3BB0F55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946-2014-4635-8F5B-D8C65B3A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007-BCC3-460E-BBED-FCBCC74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A0B-B1E4-46B8-AF5B-24725EA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4E7-F1C4-4D77-93B5-60C3B46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38E9-4220-4EE0-A025-D2B80E932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20360" y="87480"/>
            <a:ext cx="4704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قُلوبَنَ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اسْكُن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خَلّصْنا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أجْسَاد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أشْرِق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َنَوِّرْ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4760" y="87480"/>
            <a:ext cx="4831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 أرواح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حَرِّر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قَدّسْن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َق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22560" y="87480"/>
            <a:ext cx="470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ُب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6:26Z</dcterms:modified>
  <cp:revision>9</cp:revision>
  <dc:subject/>
  <dc:title>PowerPoint Presentation</dc:title>
</cp:coreProperties>
</file>