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CA0-E37C-4E9E-9A6F-134D2254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A49-5087-4357-BF5C-724DEEA5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A31-EC9D-4A4E-862A-E00BF0F5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8B2-1A38-41AB-AF8A-0D4E8FF3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F46-C683-499E-B2D9-A200253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5CF-8D31-4966-8BB3-A997CA6B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C96-FCFF-413F-8957-9527DE6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D35-B1B8-4AEE-8CFE-F4E7A87B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2C9-C5ED-43EA-BC72-6921AAD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288-9E52-4AFC-A886-0B7E422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8AE-CF84-404D-A9DA-0BF448B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73D-9EE1-4976-87D6-A013E12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9AE5-B43A-473B-B771-09A6D77C9E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924360" y="2637000"/>
            <a:ext cx="496872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4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رسل روحَك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3645000"/>
            <a:ext cx="9144000" cy="18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ميا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16280"/>
            <a:ext cx="52196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 الروحَ يشه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ع أرواح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أننا أبناء ال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Personal</cp:lastModifiedBy>
  <dcterms:modified xsi:type="dcterms:W3CDTF">2008-04-23T17:22:08Z</dcterms:modified>
  <cp:revision>9</cp:revision>
  <dc:subject/>
  <dc:title>Slide 1</dc:title>
</cp:coreProperties>
</file>