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0CC-996A-41BD-93AE-AE27D412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A4C-505D-4713-8D20-F7C54B0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2BC-AA20-4F12-AF8E-DE110D68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9AD-C2A3-4E4F-9F4F-605A3C3C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2C9-2C7A-4693-AA87-B3EDE1A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D7D-2FA7-48A5-84F2-9E0716AF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CEC-055B-47D9-A416-109721FC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A45-E10E-4CB8-97E6-5EF23226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7C7-C2E4-4A21-B836-7647B233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EA6-8978-4478-B153-DBCA2D25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B11-EE73-4551-9DC3-5BD4B9F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BB1-5FD3-414C-8377-CEA3AE1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0359-4418-4568-84B9-3FA51D7D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20360" y="87480"/>
            <a:ext cx="4704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قُلوبَنَ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اسْكُن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خَلّصْنا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ْ أجْسَاد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أشْرِقْ في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َلَ وَنَوِّرْ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4760" y="87480"/>
            <a:ext cx="4831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ُذ أرواحَنا لَك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حَرِّرن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عَالَ وقَدّسْن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َق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 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ceSun" descr="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22560" y="87480"/>
            <a:ext cx="470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نَفْحُ الحَيْ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ُوحُ الرَّبِّ نَفْحُ النَّارْ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ُوحُ الرَّبِّ مُعَزِّ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ُصَلّي في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قُدْس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َلُمَّ رُوحَ الحُبّ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َلُمَّ رُوحَ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ُحِبَّ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6:26Z</dcterms:modified>
  <cp:revision>9</cp:revision>
  <dc:subject/>
  <dc:title>PowerPoint Presentation</dc:title>
</cp:coreProperties>
</file>