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728-1E99-4794-BA0D-2F4B3EFC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841-2C80-4B86-BCF0-E80B8530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B0E-DA3B-43AC-B157-F39724F6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88-2FAD-4B79-B082-8D906888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3AD-58A9-455D-A177-79936CE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431-29C3-4C72-8188-F68629CD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164-8DF6-4859-B43E-CCE48BB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66C-CE0C-4480-9B79-58522C7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89D-D68A-4182-BDAF-110CDDC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4C4-0B05-447C-A779-D128BAE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9CC-A5A0-4061-9998-B1EB77B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E92-2E11-4845-9E65-36043CD9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FC8-826F-4B8F-A58B-AAD1675C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ماءُ ما ص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حينُ خبز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صبَحنا سُكن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زيت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عطى السراجُ نور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فَرشنا نورَ الله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لولا الحب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كان القلبُ حي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عَرفنا حُبَ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نور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اعطى الوردُ عِطر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ما نثرنا عِطرَ الله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7T13:01:03Z</dcterms:modified>
  <cp:revision>3</cp:revision>
  <dc:subject/>
  <dc:title>PowerPoint Presentation</dc:title>
</cp:coreProperties>
</file>