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97F-50F3-479B-869C-3645810D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F86-7AE6-48AC-8DD0-D5AE3FA0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339-3200-49FB-BBAC-39465B3D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EEE-D4BD-4C12-AF8F-92354871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BFD-8D61-4FEC-A85E-029A5B07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CF4-A065-4CAB-B995-0CEF3A4E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4F0-A1C3-41FE-8658-E75CD9A0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702-6C09-4F05-99EE-BBFB1EEC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610-6EE4-4972-9AC2-85431AD8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F83-6EA5-4455-B0F9-010A859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79F-3606-40F9-9365-D53A443C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3C1-F383-4EF5-BF89-41240D9E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BD76-51F0-4E62-8B12-C9DEE07024B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9000"/>
            <a:ext cx="9144000" cy="48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روحُ الر بِّ عَـليَّ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لأشفي القلوب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وباً كسيرة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عتقَ الأسرى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هب العميانَ البصر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يؤمنون إن لم يسمعوا كيف يسمعون بلا مبشّر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بشّرون إن لم يرسَلو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37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ا أجمل أقدام الـمبشري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ـمبشرين بالسلا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ـمبشرين بالخير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ا أنا مرسل ملاكي يهيّئ الطريق أمامي وللوقت يأتي السيد الذي تلتمسونه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رسل ومن ينطلق؟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63120" y="-171360"/>
            <a:ext cx="6081480" cy="68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ت: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ا أنا ذا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سلني.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4:49:48Z</dcterms:created>
  <dc:creator>Charbel Azar</dc:creator>
  <dc:description/>
  <dc:language>en-US</dc:language>
  <cp:lastModifiedBy>-</cp:lastModifiedBy>
  <dcterms:modified xsi:type="dcterms:W3CDTF">2002-12-16T07:38:35Z</dcterms:modified>
  <cp:revision>7</cp:revision>
  <dc:subject/>
  <dc:title>Slide 1</dc:title>
</cp:coreProperties>
</file>