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AC0-7B02-4E3C-9AD5-1CB22E8A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825-FCC4-4671-A571-B733AB56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2FE2-D707-4013-AAAB-0BBBEDBB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9A7-C99E-4DE0-BBD5-BFCB4ACD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94C-7450-44B5-8402-50924177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364C-140B-454D-A724-C15D0605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A21-7F82-4A1A-B239-680503C6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039-29A4-47D0-89F0-65DBAC9A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1FC-D53F-49EC-B46C-3A1209D7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7D0-6EDC-4986-BD52-4942F948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6D7-F66B-4889-BC97-37B3FF83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9AF1-4B9F-4533-A3D6-32CC8B43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51CC-554C-4F74-8E16-8060C641D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aceSun" descr="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20360" y="87480"/>
            <a:ext cx="4704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نَفْحُ الحَيْ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ُوحُ الرَّبِّ نَفْحُ النَّارْ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مُعَزِّ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ُصَلّي في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ُذْ قُلوبَنَا لَك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اسْكُنْ فين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َلَ وخَلّصْنا 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ُذْ أجْسَادَنا لَك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أشْرِقْ فين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َلَ وَنَوِّرْنا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aceSun" descr="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4760" y="87480"/>
            <a:ext cx="4831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نَفْحُ الحَيْ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ُوحُ الرَّبِّ نَفْحُ النَّارْ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مُعَزِّ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ُصَلّي في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ُذ أرواحَنا لَك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حَرِّرن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قَدّسْن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قُدْس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َلُمَّ رُوحَ الحَقِّ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آبِ 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aceSun" descr="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22560" y="87480"/>
            <a:ext cx="4704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نَفْحُ الحَيْ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ُوحُ الرَّبِّ نَفْحُ النَّارْ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مُعَزِّ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ُصَلّي في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قُدْس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َلُمَّ رُوحَ الحُبِّ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آب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9:06:26Z</dcterms:modified>
  <cp:revision>9</cp:revision>
  <dc:subject/>
  <dc:title>PowerPoint Presentation</dc:title>
</cp:coreProperties>
</file>