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327-2D3F-45C4-B0FA-395E7E04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99E-435F-44DC-B237-8C7BAF1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AE9-14AE-4809-8764-82456376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FCB-7702-4CDC-8F7F-C240820E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5C8-90D5-4692-BBFB-9CA59B33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1C1-A48F-479C-BF81-A26D0C34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911-602F-4285-B133-C1D9D2D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346-4F7E-4E26-BB7D-01D3D9B8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ACE-4F05-4036-A12C-886F551D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A38-D4F9-4FCF-8546-3DC43E6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ED6-EFA8-403D-A0A4-259BAECD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E91-5382-4C3E-8A10-953DC1BC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8660-61AA-4A35-9560-B27DBC5F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2666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لبي صحراءٌ دام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نا ماءَ الحي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irit-jesus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0"/>
            <a:ext cx="7620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قلبي صحراءٌ دامس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هبنا ماءَ الحيا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rayboy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124080" cy="9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عالَ في عمقِ يأس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وحُ المعز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حررني جددني واملأن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تَهَلّلَ بذِكر الرب</a:t>
            </a:r>
            <a:r>
              <a:rPr b="0" lang="ar-SA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yingdove" descr=""/>
          <p:cNvPicPr/>
          <p:nvPr/>
        </p:nvPicPr>
        <p:blipFill>
          <a:blip r:embed="rId2"/>
          <a:stretch/>
        </p:blipFill>
        <p:spPr>
          <a:xfrm>
            <a:off x="5943600" y="135000"/>
            <a:ext cx="2895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pirit-g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71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ستسلمُ بين يديك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 روحَ الله ال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م وانفح في رو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ُعلنْ أن يسوعَ حي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00:43Z</dcterms:created>
  <dc:creator>SUZANNE.MD</dc:creator>
  <dc:description/>
  <dc:language>en-US</dc:language>
  <cp:lastModifiedBy>SUZANNE.MD</cp:lastModifiedBy>
  <dcterms:modified xsi:type="dcterms:W3CDTF">2003-05-22T09:35:26Z</dcterms:modified>
  <cp:revision>1</cp:revision>
  <dc:subject/>
  <dc:title>PowerPoint Presentation</dc:title>
</cp:coreProperties>
</file>