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135-1022-4CCA-95F3-1FB2D055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A76-A634-49C9-A05E-F342CF70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7A0-D124-4BB8-B490-97FBECCF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7BD-CFEE-45CF-A4DF-B85AFCB9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67A-A019-4B5D-BFF9-792717C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5F6-AD67-4DC7-AD06-56C4805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949-05AC-4A5E-95CD-2B999D4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84-5A97-451F-9679-5F2CFEE7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5A6-E888-483C-998F-B1E7C74C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E3C-0DB8-4A4A-A6D7-BC0EF30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26B-4A06-4B19-A400-D473813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8DC-7743-4C99-9F2E-C5DE687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C03-838A-41B9-A9BE-C2ED70EFB00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924360" y="2637000"/>
            <a:ext cx="496872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4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رسل روحَك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3645000"/>
            <a:ext cx="9144000" cy="188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ميا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16280"/>
            <a:ext cx="52196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 الروحَ يشه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ع أرواح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أننا أبناء الل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635280" y="1989000"/>
            <a:ext cx="550872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Personal</cp:lastModifiedBy>
  <dcterms:modified xsi:type="dcterms:W3CDTF">2008-04-23T17:22:08Z</dcterms:modified>
  <cp:revision>9</cp:revision>
  <dc:subject/>
  <dc:title>Slide 1</dc:title>
</cp:coreProperties>
</file>