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132-4B44-4A52-B6D4-AC61A174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A82-331E-4FA1-B6BC-86A00025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793-8AC5-4B92-81EC-CF71FA65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205-AA5F-4FD4-B18B-06D4B3BC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D8E-8236-4278-9F65-A69D47A7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CEA-5824-46EA-9C34-3AA87F05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39E-C98F-4EA5-96EC-9F7CC8D7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456-BE19-41BD-8A1A-2F174277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AAF-D378-4A37-9E3D-514FB47C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616-F344-417F-B510-39C96A4C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981-F31F-4682-B011-749709B3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217-6B51-44A7-B598-097DA21F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05E6-8F6D-4697-830C-535FF3CDC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8329862NhSMZy_ph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معُنا هللوي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علنا أبناءَ الل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ماءُ ما صا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طحينُ خبزاً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اصبَحنا سُكن الله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زيت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اعطى السراجُ نوراً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فَرشنا نورَ الله</a:t>
            </a:r>
            <a:br>
              <a:rPr sz="3600"/>
            </a:b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8329862NhSMZy_ph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معُنا هللوي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علنا أبناءَ الل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لولا الحب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كان القلبُ حياً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عَرفنا حُبَ الله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نور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اعطى الوردُ عِطراً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ما نثرنا عِطرَ الله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5:45:11Z</dcterms:created>
  <dc:creator>USER</dc:creator>
  <dc:description/>
  <dc:language>en-US</dc:language>
  <cp:lastModifiedBy>USER</cp:lastModifiedBy>
  <dcterms:modified xsi:type="dcterms:W3CDTF">2003-02-07T13:01:03Z</dcterms:modified>
  <cp:revision>3</cp:revision>
  <dc:subject/>
  <dc:title>PowerPoint Presentation</dc:title>
</cp:coreProperties>
</file>