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B1B4-3E86-4946-9C96-81CEA564D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A2A7-7C59-4280-82CB-88CE5A42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B0F3-D5DA-4A0D-B4F6-D810CC5E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E36E-9F5D-446A-BEBC-076593DC0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C33D-8E47-45BE-9EF5-A2F1784F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7EE1-DC5A-419C-853A-5AA66752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767D-2F90-48DA-93A3-53D0F7C7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3B75-F869-4EDD-AC57-96D7814F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48EC-BB5A-4321-813B-18D1C536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5684-BD2B-4477-BE1A-CE981108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AB02-26F2-4384-8D34-E6CF4E85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944A-83A4-4630-9F98-8453D3E7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A5A8-7356-4284-9351-6EE70C7E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4B4B-8677-439D-909E-1A3DCEB2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13C8-112E-4FA7-BAF8-B177E8C3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D487-2C36-4D3F-A3BE-9B433FF0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09A9-B145-4057-BE35-BC74429A4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7A29-705E-4F15-9BDC-83AF93C2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ABD3-5897-4B79-AB37-A98AEEBA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2BD2-0264-457E-9C80-1413A3A3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D014-E30B-4267-AB1A-62C6B432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F485-B9FC-4879-9FA8-EFD17149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4B57-2041-4621-A946-17ABEE92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A9DD-5A7F-4142-B65D-BF88857F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7E40-9853-4B94-A2D4-39AE0EF4A20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1AA9-D39B-4056-93AD-304A1B0C51A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83" name=""/>
          <p:cNvSpPr/>
          <p:nvPr/>
        </p:nvSpPr>
        <p:spPr>
          <a:xfrm>
            <a:off x="0" y="4653000"/>
            <a:ext cx="8317080" cy="22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0" spc="-1" strike="noStrike">
                <a:solidFill>
                  <a:srgbClr val="ffffff"/>
                </a:solidFill>
                <a:latin typeface="Tahoma"/>
                <a:cs typeface="????Boutros Rokaa"/>
              </a:rPr>
              <a:t>الروح يجمعنا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1280" y="4508640"/>
            <a:ext cx="9037800" cy="162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معنا هللويا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2130120" y="4581360"/>
            <a:ext cx="13291560" cy="14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4508640"/>
            <a:ext cx="9037800" cy="162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معنا هللويا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2130120" y="4581360"/>
            <a:ext cx="13291560" cy="14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500720" y="-579240"/>
            <a:ext cx="4500360" cy="78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ولا الماءُ ما صارَ الطحينُ خبزا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ولا الروح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ا أصبحن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  <a:cs typeface="Akhbar MT"/>
              </a:rPr>
              <a:t>سُكنى الله</a:t>
            </a:r>
            <a:r>
              <a:rPr b="1" lang="ar-LB" sz="66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4437000"/>
            <a:ext cx="9037800" cy="16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معنا هللويا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2088720" y="4508640"/>
            <a:ext cx="13291560" cy="14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4920" y="-649080"/>
            <a:ext cx="9001080" cy="451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ولا الزيتُ ما أعطى السراجُ نوراً لولا الروحُ ما فرشنا نورَ الل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4437000"/>
            <a:ext cx="9037800" cy="16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معنا هللويا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2017440" y="4486320"/>
            <a:ext cx="13291560" cy="14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716360" y="-2158560"/>
            <a:ext cx="4284720" cy="1062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ولا الحبُ ما كان القلبُ حياً لولا الروحُ ما عرفنا حبَّ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1280" y="4581360"/>
            <a:ext cx="9037800" cy="16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معنا هللويا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2130120" y="4653000"/>
            <a:ext cx="13291560" cy="14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2734560"/>
            <a:ext cx="914400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ولا النورُ ما أعطى الوردُ عطراً لولا الروحُ ما نثرنا عطرَ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20:07:32Z</dcterms:created>
  <dc:creator>Charbel Azar</dc:creator>
  <dc:description/>
  <dc:language>en-US</dc:language>
  <cp:lastModifiedBy>ف</cp:lastModifiedBy>
  <dcterms:modified xsi:type="dcterms:W3CDTF">2006-06-05T21:07:23Z</dcterms:modified>
  <cp:revision>11</cp:revision>
  <dc:subject/>
  <dc:title>Slide 1</dc:title>
</cp:coreProperties>
</file>