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7C2-F740-4B70-9485-2E276C19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E65-7887-4FEF-954B-405641A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F04-C2F6-4864-8974-D3A9B7C9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2FE-3A07-47D6-9B4C-AFA5ADD2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BB3-0FEB-48B0-BB63-6E56640E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83E-1B7F-4EB6-A38C-08DA24B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3F5-5DF2-4B20-AD72-2CD3420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F24-6BA3-4000-944D-079B3D4C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D84-9C7A-4976-A078-28B6B8D7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FA0-A4D5-4967-8CF5-42C0236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B8B-2085-4D5B-8791-4DB70F4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7F6-11A8-4D39-9042-A703868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88DD-8A54-4D9D-9F13-BB4BE22A8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1940193eoCHDP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6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ق ما كان دنسا أرو ما كان جافا     واشف منا الجرا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1619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715000"/>
            <a:ext cx="914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منح أبناءك المواهب والفضيلة ثوابا  و الخلاص مصيراً والسعادة الأبد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099056GfuHbDJfYF_ph" descr=""/>
          <p:cNvPicPr/>
          <p:nvPr/>
        </p:nvPicPr>
        <p:blipFill>
          <a:blip r:embed="rId2"/>
          <a:stretch/>
        </p:blipFill>
        <p:spPr>
          <a:xfrm>
            <a:off x="3430440" y="57240"/>
            <a:ext cx="571356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520"/>
            <a:ext cx="2971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م يا أبا المساكين ، هلم يا مانح المواهب،                                                       هلم يا ضياء القلو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6257769qxRtHzTkJC_ph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5880" y="609480"/>
            <a:ext cx="27432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عزيا جليلا يا ضيف النفس العذ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   يا هناءً حلواً يا رفيق الدرب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8120"/>
            <a:ext cx="26668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cs typeface="Times New Roman"/>
              </a:rPr>
              <a:t>أنت في الكد راحة وفي الحر برود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  وفي البكاء عزاء</a:t>
            </a:r>
            <a:r>
              <a:rPr b="0" lang="ar-SA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990720"/>
            <a:ext cx="243828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بهجة النور الساطع إملأ قلوب ال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ضرمها بنار المحبة إملأها حتى الصميم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04:22Z</dcterms:created>
  <dc:creator>SUZANNE.MD</dc:creator>
  <dc:description/>
  <dc:language>en-US</dc:language>
  <cp:lastModifiedBy>USER</cp:lastModifiedBy>
  <dcterms:modified xsi:type="dcterms:W3CDTF">2002-12-16T13:47:47Z</dcterms:modified>
  <cp:revision>2</cp:revision>
  <dc:subject/>
  <dc:title>PowerPoint Presentation</dc:title>
</cp:coreProperties>
</file>