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00A-0B84-4185-880C-74382EBF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54B-CB81-4B16-9F33-B991B256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880-3F5B-40AD-BCFF-6DC664DA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C45-E171-4F78-B914-54B24D6B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E998-B284-482C-897F-DBA1845D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2C97-8387-4F79-82D1-1B2924C8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FE6B-F0A8-46ED-B3BD-1A1BD9B3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6BB8-372C-4416-AE81-7F3003BF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9B85-6A78-41D0-880B-60471275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E455-3A2D-484F-97B1-DB8AFC8E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FC72-72FD-4E28-9A5D-1BE5D8A4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C32-E8FD-435F-97EF-FC421145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B074-A1C1-40E2-8F30-36997528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DCE9-02FB-4E1A-899E-07D7FEEB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C402-86A7-42A9-9ACE-0B54372A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7634-1D2D-418E-89DA-28A3AB72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DE9C-B91E-46C3-8E99-E0499B67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5F1-110E-405A-A741-24C7A168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0BD-7721-4828-BEBF-ACB5075E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BC0-6835-487E-A6E3-87FB5320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B8F-CFC4-40AB-9C3B-024A2D6D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B07-51E5-4724-82F2-9F7A5676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274-787F-4209-A150-05AB353B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C77-40BD-4980-BC42-552C5E52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0458-500F-425B-9397-4873A4544A2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8982-63B5-4213-8FD6-86D9F243ED0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3" name=""/>
          <p:cNvSpPr/>
          <p:nvPr/>
        </p:nvSpPr>
        <p:spPr>
          <a:xfrm>
            <a:off x="0" y="4653000"/>
            <a:ext cx="8317080" cy="22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ffffff"/>
                </a:solidFill>
                <a:latin typeface="Tahoma"/>
                <a:cs typeface="????Boutros Rokaa"/>
              </a:rPr>
              <a:t>الروح يجمعن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1280" y="4508640"/>
            <a:ext cx="903780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2130120" y="458136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508640"/>
            <a:ext cx="903780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130120" y="458136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00720" y="-579240"/>
            <a:ext cx="4500360" cy="78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لا الماءُ ما صارَ الطحينُ خبزا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لا الروح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ا أصبحن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سُكنى الله</a:t>
            </a:r>
            <a:r>
              <a:rPr b="1" lang="ar-LB" sz="66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437000"/>
            <a:ext cx="90378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088720" y="450864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920" y="-649080"/>
            <a:ext cx="9001080" cy="45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ولا الزيتُ ما أعطى السراجُ نوراً لولا الروحُ ما فرشنا نورَ الل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4437000"/>
            <a:ext cx="90378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2017440" y="448632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16360" y="-2158560"/>
            <a:ext cx="4284720" cy="1062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لا الحبُ ما كان القلبُ حياً لولا الروحُ ما عرفنا حبَّ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280" y="4581360"/>
            <a:ext cx="90378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2130120" y="465300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2734560"/>
            <a:ext cx="914400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ولا النورُ ما أعطى الوردُ عطراً لولا الروحُ ما نثرنا عطرَ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07:32Z</dcterms:created>
  <dc:creator>Charbel Azar</dc:creator>
  <dc:description/>
  <dc:language>en-US</dc:language>
  <cp:lastModifiedBy>ف</cp:lastModifiedBy>
  <dcterms:modified xsi:type="dcterms:W3CDTF">2006-06-05T21:07:23Z</dcterms:modified>
  <cp:revision>11</cp:revision>
  <dc:subject/>
  <dc:title>Slide 1</dc:title>
</cp:coreProperties>
</file>