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445-6DF0-4A6E-9405-E1CD2696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AF2-D33C-4C48-B5E1-455C4883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8D0-036D-444C-871D-420D2514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588-2B45-4059-8841-26D07CBE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A48B-BE68-482B-B9AE-8D776612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284-F781-4235-9B78-DA1DCD5C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754-8CE3-449A-A091-F0A7F43C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9CA-1037-46DD-A85B-10A8F596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B75-9396-47AF-A855-AEB40239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231-BCFE-4878-BD85-F76F114F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9F0-4D9D-45B0-B251-8D809046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43A-1770-48CF-8EEC-F0EEE82C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3156-2AC1-4FF3-92CC-70F565023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pirit%20of%20god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8195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هلم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 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أغمرني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بحضورك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جددني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واجعلني أحيا ب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ird012" descr=""/>
          <p:cNvPicPr/>
          <p:nvPr/>
        </p:nvPicPr>
        <p:blipFill>
          <a:blip r:embed="rId2"/>
          <a:stretch/>
        </p:blipFill>
        <p:spPr>
          <a:xfrm>
            <a:off x="0" y="4514760"/>
            <a:ext cx="2971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457200"/>
            <a:ext cx="2666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لبي صحراءٌ دام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فة لا ماءَ في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بنا ماءَ الحيا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فيضُ فيها ويُحييه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pirit-jesus" descr=""/>
          <p:cNvPicPr/>
          <p:nvPr/>
        </p:nvPicPr>
        <p:blipFill>
          <a:blip r:embed="rId1"/>
          <a:stretch/>
        </p:blipFill>
        <p:spPr>
          <a:xfrm>
            <a:off x="0" y="-6840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0"/>
            <a:ext cx="76201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Arabic Transparent"/>
              </a:rPr>
              <a:t>قلبي صحراءٌ دامسة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Arabic Transparent"/>
              </a:rPr>
              <a:t>جافة لا ماءَ فيه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Arabic Transparent"/>
              </a:rPr>
              <a:t>هبنا ماءَ الحياة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فيفيضُ فيها ويُحييها</a:t>
            </a:r>
            <a:r>
              <a:rPr b="0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pirit%20of%20god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086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28195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هلم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 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أغمرني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بحضورك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جددني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واجعلني أحيا ب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ird012" descr=""/>
          <p:cNvPicPr/>
          <p:nvPr/>
        </p:nvPicPr>
        <p:blipFill>
          <a:blip r:embed="rId2"/>
          <a:stretch/>
        </p:blipFill>
        <p:spPr>
          <a:xfrm>
            <a:off x="0" y="4514760"/>
            <a:ext cx="2971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rayboy1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3124080" cy="90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تعالَ في عمقِ يأسي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يها الروحُ المعز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حررني جددني واملأني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أتَهَلّلَ بذِكر الرب</a:t>
            </a:r>
            <a:r>
              <a:rPr b="0" lang="ar-SA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lyingdove" descr=""/>
          <p:cNvPicPr/>
          <p:nvPr/>
        </p:nvPicPr>
        <p:blipFill>
          <a:blip r:embed="rId2"/>
          <a:stretch/>
        </p:blipFill>
        <p:spPr>
          <a:xfrm>
            <a:off x="5943600" y="135000"/>
            <a:ext cx="28954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pirit%20of%20god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086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28195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هلم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 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أغمرني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بحضورك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جددني يا روحَ الله</a:t>
            </a:r>
            <a:r>
              <a:rPr b="1" lang="en-US" sz="4400" spc="-1" strike="noStrike">
                <a:solidFill>
                  <a:srgbClr val="ccecff"/>
                </a:solidFill>
                <a:latin typeface="Arabic Transparent"/>
              </a:rPr>
              <a:t> </a:t>
            </a:r>
            <a:r>
              <a:rPr b="1" lang="ar-SA" sz="4400" spc="-1" strike="noStrike">
                <a:solidFill>
                  <a:srgbClr val="ccecff"/>
                </a:solidFill>
                <a:latin typeface="Arabic Transparent"/>
              </a:rPr>
              <a:t>واجعلني أحيا ب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ird012" descr=""/>
          <p:cNvPicPr/>
          <p:nvPr/>
        </p:nvPicPr>
        <p:blipFill>
          <a:blip r:embed="rId2"/>
          <a:stretch/>
        </p:blipFill>
        <p:spPr>
          <a:xfrm>
            <a:off x="0" y="4514760"/>
            <a:ext cx="2971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pirit-g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010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3352680" cy="71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ستسلمُ بين يديك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ا روحَ الله الح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م وانفح في روح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أُعلنْ أن يسوعَ حي</a:t>
            </a:r>
            <a:r>
              <a:rPr b="0" lang="ar-SA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9:00:43Z</dcterms:created>
  <dc:creator>SUZANNE.MD</dc:creator>
  <dc:description/>
  <dc:language>en-US</dc:language>
  <cp:lastModifiedBy>SUZANNE.MD</cp:lastModifiedBy>
  <dcterms:modified xsi:type="dcterms:W3CDTF">2003-05-22T09:35:26Z</dcterms:modified>
  <cp:revision>1</cp:revision>
  <dc:subject/>
  <dc:title>PowerPoint Presentation</dc:title>
</cp:coreProperties>
</file>