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AD7-F19C-4C70-9860-03417361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753-D898-4CD2-A62E-1FC2361E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B16-3841-4633-AEC3-C56DDA30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41F-FF7D-4FC6-9DA1-CEE089BB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C03-B0DF-404A-82D4-A8FBCD2E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334-AE69-461D-9EB8-7338EE2C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7D4-AAC4-4A8C-94FD-E97406AA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722-E9E6-4F14-AD7C-373DF32F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3BE-3768-4C3B-8710-FA3AF984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120-E0AB-4FEE-ACCD-D2D41648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4DF-06D7-42BC-95D1-380AD8E6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051-DA2C-4939-B087-1C68963E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821C-97BB-400A-8500-950D2E47B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1940193eoCHDP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867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ق ما كان دنسا أرو ما كان جافا     واشف منا الجرا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1619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715000"/>
            <a:ext cx="914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منح أبناءك المواهب والفضيلة ثوابا  و الخلاص مصيراً والسعادة الأبد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099056GfuHbDJfYF_ph" descr=""/>
          <p:cNvPicPr/>
          <p:nvPr/>
        </p:nvPicPr>
        <p:blipFill>
          <a:blip r:embed="rId2"/>
          <a:stretch/>
        </p:blipFill>
        <p:spPr>
          <a:xfrm>
            <a:off x="3430440" y="57240"/>
            <a:ext cx="5713560" cy="680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520"/>
            <a:ext cx="2971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م يا أبا المساكين ، هلم يا مانح المواهب،                                                       هلم يا ضياء القلو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6257769qxRtHzTkJC_ph" descr=""/>
          <p:cNvPicPr/>
          <p:nvPr/>
        </p:nvPicPr>
        <p:blipFill>
          <a:blip r:embed="rId2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5880" y="609480"/>
            <a:ext cx="27432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معزيا جليلا يا ضيف النفس العذ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   يا هناءً حلواً يا رفيق الدرب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8120"/>
            <a:ext cx="266688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ff"/>
                </a:solidFill>
                <a:latin typeface="Times New Roman"/>
                <a:cs typeface="Times New Roman"/>
              </a:rPr>
              <a:t>أنت في الكد راحة وفي الحر برود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  وفي البكاء عزاء</a:t>
            </a:r>
            <a:r>
              <a:rPr b="0" lang="ar-SA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6257861dvzHEdJlPs_ph" descr=""/>
          <p:cNvPicPr/>
          <p:nvPr/>
        </p:nvPicPr>
        <p:blipFill>
          <a:blip r:embed="rId1"/>
          <a:stretch/>
        </p:blipFill>
        <p:spPr>
          <a:xfrm>
            <a:off x="0" y="0"/>
            <a:ext cx="6700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990720"/>
            <a:ext cx="243828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بهجة النور الساطع إملأ قلوب المؤمن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ضرمها بنار المحبة إملأها حتى الصميم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7114482UUnDKOoat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02920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م أيها الروح القدس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رسل من السماء شعاع نورك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04:22Z</dcterms:created>
  <dc:creator>SUZANNE.MD</dc:creator>
  <dc:description/>
  <dc:language>en-US</dc:language>
  <cp:lastModifiedBy>USER</cp:lastModifiedBy>
  <dcterms:modified xsi:type="dcterms:W3CDTF">2002-12-16T13:47:47Z</dcterms:modified>
  <cp:revision>2</cp:revision>
  <dc:subject/>
  <dc:title>PowerPoint Presentation</dc:title>
</cp:coreProperties>
</file>