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54DD-D8F4-44D2-81B9-3E764D141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D563-903A-4C99-99B2-BCA0CAE19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445C-B609-4F88-BBF1-04F909F92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0A20-A7D2-45AA-945F-B7DB5BF33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2FF6-528A-459F-8468-2B2A4FAF4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4F4F-E9C8-4B85-B930-6CB50913C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B624-812A-413D-8583-0A5703858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8BEA-D360-447C-BB46-56322CE87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AAF4-29CE-477A-81A2-1F12633DA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2885-4747-4368-8B28-80D2A1B43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A655-6E4E-4F26-BC2C-3D07A39CD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0A30-FAE3-4F85-83F9-759072364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8110F-4499-43AE-83EF-9F7DEAA280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27114482UUnDKOoatf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05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5029200"/>
            <a:ext cx="89154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هلم أيها الروح القدس  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وأرسل من السماء شعاع نورك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41940193eoCHDP_ph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0" y="58672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نق ما كان دنسا أرو ما كان جافا     واشف منا الجراح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27114482UUnDKOoatf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05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5029200"/>
            <a:ext cx="89154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هلم أيها الروح القدس  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وأرسل من السماء شعاع نورك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T1619L" descr=""/>
          <p:cNvPicPr/>
          <p:nvPr/>
        </p:nvPicPr>
        <p:blipFill>
          <a:blip r:embed="rId1"/>
          <a:stretch/>
        </p:blipFill>
        <p:spPr>
          <a:xfrm>
            <a:off x="0" y="-34920"/>
            <a:ext cx="9144000" cy="59022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0" y="5715000"/>
            <a:ext cx="9144000" cy="18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إمنح أبناءك المواهب والفضيلة ثوابا  و الخلاص مصيراً والسعادة الأبدية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27114482UUnDKOoatf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055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0" y="5029200"/>
            <a:ext cx="89154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هلم أيها الروح القدس  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وأرسل من السماء شعاع نورك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11099056GfuHbDJfYF_ph" descr=""/>
          <p:cNvPicPr/>
          <p:nvPr/>
        </p:nvPicPr>
        <p:blipFill>
          <a:blip r:embed="rId2"/>
          <a:stretch/>
        </p:blipFill>
        <p:spPr>
          <a:xfrm>
            <a:off x="3430440" y="57240"/>
            <a:ext cx="5713560" cy="68007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533520"/>
            <a:ext cx="297180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هلم يا أبا المساكين ، هلم يا مانح المواهب،                                                       هلم يا ضياء القلوب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27114482UUnDKOoatf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05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5029200"/>
            <a:ext cx="89154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هلم أيها الروح القدس  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وأرسل من السماء شعاع نورك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26257769qxRtHzTkJC_ph" descr=""/>
          <p:cNvPicPr/>
          <p:nvPr/>
        </p:nvPicPr>
        <p:blipFill>
          <a:blip r:embed="rId2"/>
          <a:stretch/>
        </p:blipFill>
        <p:spPr>
          <a:xfrm>
            <a:off x="0" y="0"/>
            <a:ext cx="601992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095880" y="609480"/>
            <a:ext cx="2743200" cy="57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يا معزيا جليلا يا ضيف النفس العذ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Arial"/>
                <a:ea typeface="Arial"/>
              </a:rPr>
              <a:t>    يا هناءً حلواً يا رفيق الدرب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27114482UUnDKOoatf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055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5029200"/>
            <a:ext cx="89154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هلم أيها الروح القدس  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وأرسل من السماء شعاع نورك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2286622bSprOQQocd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3048120"/>
            <a:ext cx="2666880" cy="45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6699ff"/>
                </a:solidFill>
                <a:latin typeface="Times New Roman"/>
                <a:cs typeface="Times New Roman"/>
              </a:rPr>
              <a:t>أنت في الكد راحة وفي الحر برودة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6699ff"/>
                </a:solidFill>
                <a:latin typeface="Times New Roman"/>
                <a:ea typeface="Times New Roman"/>
              </a:rPr>
              <a:t>    وفي البكاء عزاء</a:t>
            </a:r>
            <a:r>
              <a:rPr b="0" lang="ar-SA" sz="2400" spc="-1" strike="noStrike">
                <a:solidFill>
                  <a:srgbClr val="6699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27114482UUnDKOoatf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055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5029200"/>
            <a:ext cx="89154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هلم أيها الروح القدس  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وأرسل من السماء شعاع نورك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26257861dvzHEdJlPs_ph" descr=""/>
          <p:cNvPicPr/>
          <p:nvPr/>
        </p:nvPicPr>
        <p:blipFill>
          <a:blip r:embed="rId1"/>
          <a:stretch/>
        </p:blipFill>
        <p:spPr>
          <a:xfrm>
            <a:off x="0" y="0"/>
            <a:ext cx="670068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705720" y="990720"/>
            <a:ext cx="2438280" cy="77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ا بهجة النور الساطع إملأ قلوب المؤمني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أضرمها بنار المحبة إملأها حتى الصميم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27114482UUnDKOoatf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055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0" y="5029200"/>
            <a:ext cx="89154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هلم أيها الروح القدس  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وأرسل من السماء شعاع نورك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2T06:04:22Z</dcterms:created>
  <dc:creator>SUZANNE.MD</dc:creator>
  <dc:description/>
  <dc:language>en-US</dc:language>
  <cp:lastModifiedBy>USER</cp:lastModifiedBy>
  <dcterms:modified xsi:type="dcterms:W3CDTF">2002-12-16T13:47:47Z</dcterms:modified>
  <cp:revision>2</cp:revision>
  <dc:subject/>
  <dc:title>PowerPoint Presentation</dc:title>
</cp:coreProperties>
</file>