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B26A-EB12-4869-B904-387A4C522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689C-9AC5-476C-94E7-4F0FD98DB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508B-D797-4BFF-88AC-9C539DB91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5AF9-33FA-49A4-AD75-7F55F5765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5B8D-AE97-4882-AAD7-FB3229624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FF11-7328-4DB2-B375-FE490137D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C0C9-5D64-4726-8464-79F986A15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F030-1DD5-4F30-A232-DC34BD95E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4929-0419-4D42-A413-5CF8D153C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B182-85FC-4743-AD3C-9E43599DD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799C-FC3E-4A30-9098-D561F3646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EF51-36E4-46BC-82F9-8BF930DA0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53A4F-5144-408F-AA2D-5E20DC72415C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989000"/>
            <a:ext cx="9144000" cy="481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900" spc="-1" strike="noStrike">
                <a:solidFill>
                  <a:srgbClr val="ffffff"/>
                </a:solidFill>
                <a:latin typeface="Tahoma"/>
                <a:cs typeface="????Boutros Rokaa"/>
              </a:rPr>
              <a:t>روحُ الر بِّ عَـليَّ 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1422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300" spc="-1" strike="noStrike">
                <a:solidFill>
                  <a:srgbClr val="ffffff"/>
                </a:solidFill>
                <a:latin typeface="Times New Roman"/>
                <a:cs typeface="Akhbar MT"/>
              </a:rPr>
              <a:t>روح الرب عليَّ</a:t>
            </a:r>
            <a:endParaRPr b="0" lang="en-US" sz="103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300" spc="-1" strike="noStrike">
                <a:solidFill>
                  <a:srgbClr val="ffffff"/>
                </a:solidFill>
                <a:latin typeface="Times New Roman"/>
                <a:cs typeface="Akhbar MT"/>
              </a:rPr>
              <a:t>مسحني وأرسلني</a:t>
            </a:r>
            <a:endParaRPr b="0" lang="en-US" sz="103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300" spc="-1" strike="noStrike">
                <a:solidFill>
                  <a:srgbClr val="ffffff"/>
                </a:solidFill>
                <a:latin typeface="Times New Roman"/>
                <a:cs typeface="Akhbar MT"/>
              </a:rPr>
              <a:t>لأبشّر الـمساكين</a:t>
            </a:r>
            <a:endParaRPr b="0" lang="en-US" sz="10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1019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مسحني لأشفي القلوب،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قلوباً كسيرة،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أعتقَ الأسرى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أهب العميانَ البصر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1422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300" spc="-1" strike="noStrike">
                <a:solidFill>
                  <a:srgbClr val="ffffff"/>
                </a:solidFill>
                <a:latin typeface="Times New Roman"/>
                <a:cs typeface="Akhbar MT"/>
              </a:rPr>
              <a:t>روح الرب عليَّ</a:t>
            </a:r>
            <a:endParaRPr b="0" lang="en-US" sz="103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300" spc="-1" strike="noStrike">
                <a:solidFill>
                  <a:srgbClr val="ffffff"/>
                </a:solidFill>
                <a:latin typeface="Times New Roman"/>
                <a:cs typeface="Akhbar MT"/>
              </a:rPr>
              <a:t>مسحني وأرسلني</a:t>
            </a:r>
            <a:endParaRPr b="0" lang="en-US" sz="103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300" spc="-1" strike="noStrike">
                <a:solidFill>
                  <a:srgbClr val="ffffff"/>
                </a:solidFill>
                <a:latin typeface="Times New Roman"/>
                <a:cs typeface="Akhbar MT"/>
              </a:rPr>
              <a:t>لأبشّر الـمساكين</a:t>
            </a:r>
            <a:endParaRPr b="0" lang="en-US" sz="10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1330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كيف يؤمنون إن لم يسمعوا كيف يسمعون بلا مبشّر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هل يبشّرون إن لم يرسَلوا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1422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300" spc="-1" strike="noStrike">
                <a:solidFill>
                  <a:srgbClr val="ffffff"/>
                </a:solidFill>
                <a:latin typeface="Times New Roman"/>
                <a:cs typeface="Akhbar MT"/>
              </a:rPr>
              <a:t>روح الرب عليَّ</a:t>
            </a:r>
            <a:endParaRPr b="0" lang="en-US" sz="103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300" spc="-1" strike="noStrike">
                <a:solidFill>
                  <a:srgbClr val="ffffff"/>
                </a:solidFill>
                <a:latin typeface="Times New Roman"/>
                <a:cs typeface="Akhbar MT"/>
              </a:rPr>
              <a:t>مسحني وأرسلني</a:t>
            </a:r>
            <a:endParaRPr b="0" lang="en-US" sz="103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300" spc="-1" strike="noStrike">
                <a:solidFill>
                  <a:srgbClr val="ffffff"/>
                </a:solidFill>
                <a:latin typeface="Times New Roman"/>
                <a:cs typeface="Akhbar MT"/>
              </a:rPr>
              <a:t>لأبشّر الـمساكين</a:t>
            </a:r>
            <a:endParaRPr b="0" lang="en-US" sz="10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1376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imes New Roman"/>
                <a:cs typeface="Akhbar MT"/>
              </a:rPr>
              <a:t>ما أجمل أقدام الـمبشرين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imes New Roman"/>
                <a:cs typeface="Akhbar MT"/>
              </a:rPr>
              <a:t>الـمبشرين بالسلام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imes New Roman"/>
                <a:cs typeface="Akhbar MT"/>
              </a:rPr>
              <a:t>الـمبشرين بالخيرات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1422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300" spc="-1" strike="noStrike">
                <a:solidFill>
                  <a:srgbClr val="ffffff"/>
                </a:solidFill>
                <a:latin typeface="Times New Roman"/>
                <a:cs typeface="Akhbar MT"/>
              </a:rPr>
              <a:t>روح الرب عليَّ</a:t>
            </a:r>
            <a:endParaRPr b="0" lang="en-US" sz="103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300" spc="-1" strike="noStrike">
                <a:solidFill>
                  <a:srgbClr val="ffffff"/>
                </a:solidFill>
                <a:latin typeface="Times New Roman"/>
                <a:cs typeface="Akhbar MT"/>
              </a:rPr>
              <a:t>مسحني وأرسلني</a:t>
            </a:r>
            <a:endParaRPr b="0" lang="en-US" sz="103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300" spc="-1" strike="noStrike">
                <a:solidFill>
                  <a:srgbClr val="ffffff"/>
                </a:solidFill>
                <a:latin typeface="Times New Roman"/>
                <a:cs typeface="Akhbar MT"/>
              </a:rPr>
              <a:t>لأبشّر الـمساكين</a:t>
            </a:r>
            <a:endParaRPr b="0" lang="en-US" sz="10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1356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ها أنا مرسل ملاكي يهيّئ الطريق أمامي وللوقت يأتي السيد الذي تلتمسونه.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من أرسل ومن ينطلق؟ 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563120" y="-171360"/>
            <a:ext cx="6081480" cy="680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300" spc="-1" strike="noStrike">
                <a:solidFill>
                  <a:srgbClr val="ffffff"/>
                </a:solidFill>
                <a:latin typeface="Times New Roman"/>
                <a:cs typeface="Akhbar MT"/>
              </a:rPr>
              <a:t>قلت:</a:t>
            </a:r>
            <a:endParaRPr b="0" lang="en-US" sz="113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300" spc="-1" strike="noStrike">
                <a:solidFill>
                  <a:srgbClr val="ffffff"/>
                </a:solidFill>
                <a:latin typeface="Times New Roman"/>
                <a:cs typeface="Akhbar MT"/>
              </a:rPr>
              <a:t>ها أنا ذا</a:t>
            </a:r>
            <a:endParaRPr b="0" lang="en-US" sz="113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300" spc="-1" strike="noStrike">
                <a:solidFill>
                  <a:srgbClr val="ffffff"/>
                </a:solidFill>
                <a:latin typeface="Times New Roman"/>
                <a:cs typeface="Akhbar MT"/>
              </a:rPr>
              <a:t>أرسلني.</a:t>
            </a:r>
            <a:endParaRPr b="0" lang="en-US" sz="1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2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2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7T14:49:48Z</dcterms:created>
  <dc:creator>Charbel Azar</dc:creator>
  <dc:description/>
  <dc:language>en-US</dc:language>
  <cp:lastModifiedBy>-</cp:lastModifiedBy>
  <dcterms:modified xsi:type="dcterms:W3CDTF">2002-12-16T07:38:35Z</dcterms:modified>
  <cp:revision>7</cp:revision>
  <dc:subject/>
  <dc:title>Slide 1</dc:title>
</cp:coreProperties>
</file>