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BDD-47AC-4318-90C1-8D673D55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0A1-A2C6-4A66-92F3-C9BC57C8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27F-F316-4F26-8AF5-C3BE6AFF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699-11EB-4969-A840-E39F69FB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FD9-3815-4421-8B35-6CB51129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7CF-5F68-45F5-AAEF-4A9B3C80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B99-4803-4457-8BDE-5FEDDCF1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1B7-96FA-4361-816E-2E839A9A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563-177E-419D-BB1C-D5F1648A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542-FB98-489F-9BFF-EDDEC1A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7CD-5C9B-48BF-84E4-DA45D80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910-64E1-44EF-89D0-386BDA8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CAA5-8494-4C55-85A4-AD95B3EA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53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3047760" cy="89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يَقُم ليقُمِ الله  وليبتهج بهِ أبناؤه وليفرحِ المؤمنون بخلاص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0574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نمو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شيدوا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اسم ال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عترفو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6092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2971800" cy="9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لهم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ندَ ظهورِك قدامَ شعبِكَ من القبر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جفتِ الأرضُ قطرتِ السماءُ من وجهِ فادينا الجبّار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327672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ه معنا وهو إله التخل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الله يفتدي جميعَ أبنائه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في وَسطِ عذار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-11160"/>
            <a:ext cx="6248520" cy="549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8195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اليوم قام الربُ حقاً من بين الأموات هللوا هللوا لله تباركَ الل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يقم ليقُم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59:59Z</dcterms:created>
  <dc:creator>SUZANNE.MD</dc:creator>
  <dc:description/>
  <dc:language>en-US</dc:language>
  <cp:lastModifiedBy>HANI SAFI</cp:lastModifiedBy>
  <dcterms:modified xsi:type="dcterms:W3CDTF">2003-04-16T13:58:24Z</dcterms:modified>
  <cp:revision>2</cp:revision>
  <dc:subject/>
  <dc:title>PowerPoint Presentation</dc:title>
</cp:coreProperties>
</file>