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9EF7-C641-43EA-A02A-9C62A4316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84DF-E026-4A7F-9085-DF200CB30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BF10-3A40-40CD-9766-D1DBB567A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3624-00F2-48BB-8870-6008D4DD1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F189-4536-44B2-9069-2FBFAFEAC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A254-C553-4DED-AF4B-5F8E67E9B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D55F-3BC2-42F3-A310-2C723501C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7E6D-8B15-40C5-A860-274D1FB20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12E5-88AD-4AAC-96EB-641B5F128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F192-C3E4-464A-8AFD-E219F2D7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B2CD-9CE6-409F-86C4-EE0F2F402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DD6C-1468-4ED8-8B16-DA7B403C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3473F-A3EF-4A2F-A09E-DC7FD9F5F5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5421725fFfbzrbssG_th" descr=""/>
          <p:cNvPicPr/>
          <p:nvPr/>
        </p:nvPicPr>
        <p:blipFill>
          <a:blip r:embed="rId1"/>
          <a:stretch/>
        </p:blipFill>
        <p:spPr>
          <a:xfrm>
            <a:off x="0" y="0"/>
            <a:ext cx="5048280" cy="4800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572000" y="0"/>
            <a:ext cx="4343400" cy="61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و الرب، هو الرب،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د قام من الأموات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هو الرب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كل ركبة تنحني ولسانٍ يعترف أنَّ يسوعَ المسيح                 هو الرب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5181480"/>
            <a:ext cx="88390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قا قام، حقا قام،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قد قام من الأموات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قا قا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كل ركبة تنحني ولسانٍ يعترف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نَّ يسوعَ المسيح حقا قام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2T15:45:11Z</dcterms:created>
  <dc:creator>USER</dc:creator>
  <dc:description/>
  <dc:language>en-US</dc:language>
  <cp:lastModifiedBy>USER</cp:lastModifiedBy>
  <dcterms:modified xsi:type="dcterms:W3CDTF">2003-02-08T04:20:10Z</dcterms:modified>
  <cp:revision>6</cp:revision>
  <dc:subject/>
  <dc:title>PowerPoint Presentation</dc:title>
</cp:coreProperties>
</file>