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C67C-5395-4A5D-A5C1-F911C919C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D299-DF46-4B79-92AF-CCC1743B9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028A-7CBA-477D-94E8-696ADF3C9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E3A9-402C-4C37-B2D7-98AF662BC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AA59-60C2-421B-AF72-317D2C848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2541-3157-4124-A92B-E07E5954B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3238-A8D1-4233-AF6A-1B2B0F22F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5CEA-89D5-482A-AFCC-387117571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24FA-CA9A-4F06-9988-25C77DF64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9A27-DB0C-4045-AB0E-D66053A9B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F408-A8B7-487C-8029-FFA680F6B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41E5-494C-4B5C-922A-56EEC08D2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BE924-8245-4A2C-B890-289DBEABD4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809880" y="0"/>
            <a:ext cx="55324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04920" y="0"/>
            <a:ext cx="3047760" cy="89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ِيَقُم ليقُمِ الله  وليبتهج بهِ أبناؤه وليفرحِ المؤمنون بخلاصه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304920"/>
            <a:ext cx="2057400" cy="61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رنموا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أشيدوا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لاسم الله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واعترفوا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760920" y="0"/>
            <a:ext cx="538308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57200" y="380880"/>
            <a:ext cx="2971800" cy="997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اللهم 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  <a:ea typeface="Simplified Arabic"/>
              </a:rPr>
              <a:t>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عندَ ظهورِك قدامَ شعبِكَ من القبرِ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رجفتِ الأرضُ قطرتِ السماءُ من وجهِ فادينا الجبّار</a:t>
            </a:r>
            <a:r>
              <a:rPr b="0" lang="ar-SA" sz="4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276720" y="0"/>
            <a:ext cx="58672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228600"/>
            <a:ext cx="3276720" cy="67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له معنا وهو إله التخلي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إن الله يفتدي جميعَ أبنائه</a:t>
            </a:r>
            <a:r>
              <a:rPr b="0" lang="ar-SA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733920" y="-119160"/>
            <a:ext cx="5410080" cy="7096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04920" y="380880"/>
            <a:ext cx="2971800" cy="110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3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تقدّمَ المُغنونَ وخلفهم ناقروا الأوتار في وَسطِ عذارى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3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ينقُرن الدفو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895480" y="-11160"/>
            <a:ext cx="6248520" cy="54975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0"/>
            <a:ext cx="2819520" cy="10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يا ممالكَ الأرضِ رنموا لله اليوم قام الربُ حقاً من بين الأموات هللوا هللوا لله تباركَ الله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ليقم ليقُمِ الله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6T07:59:59Z</dcterms:created>
  <dc:creator>SUZANNE.MD</dc:creator>
  <dc:description/>
  <dc:language>en-US</dc:language>
  <cp:lastModifiedBy>HANI SAFI</cp:lastModifiedBy>
  <dcterms:modified xsi:type="dcterms:W3CDTF">2003-04-16T13:58:24Z</dcterms:modified>
  <cp:revision>2</cp:revision>
  <dc:subject/>
  <dc:title>PowerPoint Presentation</dc:title>
</cp:coreProperties>
</file>