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2579-14F0-47B0-A6A4-CFC0CE78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8CAC-2328-482A-B808-E341584B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689A-6FF2-4BAC-A0D1-8E2F6725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F9B-D2B0-4EB3-95EB-3BA401D4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4F5-AF76-4360-A18F-A3639F99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253-AA72-45BB-A461-FB0CD795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2DE-EE8F-4D74-BC94-EE1E43FF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CCC-61E2-45DC-8851-8AB75D99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4466-608B-492F-AA67-A068D113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2ED-50A4-44B9-AC4F-AE32E9D0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5E2-008E-474A-BAC2-0FB99623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EA03-032D-49F4-96D0-1FEC36D7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3976-F3FB-472E-A40F-65514AFA4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5421725fFfbzrbssG_th" descr=""/>
          <p:cNvPicPr/>
          <p:nvPr/>
        </p:nvPicPr>
        <p:blipFill>
          <a:blip r:embed="rId1"/>
          <a:stretch/>
        </p:blipFill>
        <p:spPr>
          <a:xfrm>
            <a:off x="0" y="0"/>
            <a:ext cx="504828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0" y="0"/>
            <a:ext cx="4343400" cy="61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و الرب، هو الرب،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قام من الأموات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هو الر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ركبة تنحني ولسانٍ يعترف أنَّ يسوعَ المسيح                 هو الر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181480"/>
            <a:ext cx="8839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ا قام، حقا قام،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قد قام من الأموات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ا ق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ركبة تنحني ولسانٍ يعترف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َّ يسوعَ المسيح حقا ق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5:45:11Z</dcterms:created>
  <dc:creator>USER</dc:creator>
  <dc:description/>
  <dc:language>en-US</dc:language>
  <cp:lastModifiedBy>USER</cp:lastModifiedBy>
  <dcterms:modified xsi:type="dcterms:W3CDTF">2003-02-08T04:20:10Z</dcterms:modified>
  <cp:revision>6</cp:revision>
  <dc:subject/>
  <dc:title>PowerPoint Presentation</dc:title>
</cp:coreProperties>
</file>