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64A-44A1-4703-9F1D-5C0464E5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8EA-187C-40B3-8BBB-1D0B4C54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13B-6F7C-4583-A44F-2544F0A6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6C5-1810-4AFA-BB9A-119C965E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976-CF81-45BF-A224-3EBB5C80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F6B-F962-4DA2-91AF-85F7F05E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EB5-D5B9-4787-8B67-E97A8337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B85-5BE6-43D1-8340-523F49C7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BD4-8BC9-4839-867D-7F23873E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25C-209A-4D82-821A-24999D9E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5CF-A756-44BC-B6DA-58E4D885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819-E091-4783-9D70-5FADD75A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8490-C9A7-4CE2-A4FB-340751179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4343400" cy="9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ُوذا قَدْ صارَ لَيْلٌ           مُظلِمٌ نِصْفَ النَّهار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الصُّخورُ الصُّمُ شُقَّتْ       فلِماذا ذاكَ صارْ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ذاقَ ربُ المجدِ مَوتاً         بعدَ صلبٍ واحتقارْ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351760" cy="739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962520" cy="115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ُنظروا كيفََ يَداهُ            سُمِّرَتْ فوقَ الخَشَ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لهُ إكليلُ شَوكٍ              نابَ عنْ تاجِ الذَّه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آهِ ما أَقسى عُداةً            صَنَعَتْ هذا العَجَب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581280" cy="117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ُنظروا كيفَ دِماهُ           قطَرَتْ مِنْ جَنبِهِ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اسمعوا صوتَ أَنينٍ           صاعدٍ منْ قلبِهِ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يا تُرى ذاكَ لماذا            هلْ لَكُمْ عِلمٌ بِهِ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81600" y="0"/>
            <a:ext cx="5162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657600" cy="9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ِالخطايا قدْ وُلِدنا            مُسْتَحقِّينَ الغَضَ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أتانا وَفدانا                 مِنْ عَذابٍ في اللّهب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يا أُلي الآثامِ أَصغُوا          وَاعرِفُوا هذا السَّبَب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451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4343400" cy="11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ِرفعوا الأَيْدي وَصَلُّوا        واشْكُرُوا ربَّ الفِدَ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طلُبُوا عَفواً وَظَلّوا         قائِلينَ سُجّد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َدْ قَبِلْتَ المَوتَ طَوعاً        مُنِْقذاً أَهلَ الرَّد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9:37:01Z</dcterms:created>
  <dc:creator>SUZANNE.MD</dc:creator>
  <dc:description/>
  <dc:language>en-US</dc:language>
  <cp:lastModifiedBy>HANI SAFI</cp:lastModifiedBy>
  <dcterms:modified xsi:type="dcterms:W3CDTF">2003-04-17T11:11:47Z</dcterms:modified>
  <cp:revision>2</cp:revision>
  <dc:subject/>
  <dc:title>PowerPoint Presentation</dc:title>
</cp:coreProperties>
</file>