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862-929E-4920-B9C7-5583382D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0CF-6410-4454-B079-6E85E473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16B-5FFA-4B20-B596-DA009650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87C-3653-4B16-8872-502A9E6B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46C-4BB8-48D3-B1B9-D39E4BE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AAD-8DE5-432A-BB5F-16A02AC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705-DA33-4A46-8D33-B851DF72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F30-B728-4B6D-B644-7EC03ADE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1A8-D6AE-45CC-AF7B-13E27EE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80F-5A30-4E83-B32B-E501187B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197-4A47-4A1C-9ADE-25B4CAF6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26D-D92A-4805-957B-E4150E8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2243-22B5-4B25-BF19-196A763F6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58128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خلِّني قربَ الصليب حيث سالَ المج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مِن دمِ الفادي الحبيب داءُ نفسي يبرأ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50532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د محا عندَ الصليب دمُ ربي إثم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عنِ القلبِ الكئيب زالَ كلُّ الهمّ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19320"/>
            <a:ext cx="320040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قد رأينا في الصليب قوَّةَ الرَّحمان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إذ بدا أمرٌ عجيب فِديةٌ للجاني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04920"/>
            <a:ext cx="2209680" cy="89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قضى فوقَ الصليب ذاكَ جُلُّ القَصد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َأراهُ عن قريب فوقَ عرشِ المجد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1066680"/>
            <a:ext cx="17524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ما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عنّ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9:52:21Z</dcterms:created>
  <dc:creator>SUZANNE.MD</dc:creator>
  <dc:description/>
  <dc:language>en-US</dc:language>
  <cp:lastModifiedBy>HANI SAFI</cp:lastModifiedBy>
  <dcterms:modified xsi:type="dcterms:W3CDTF">2003-03-17T14:16:02Z</dcterms:modified>
  <cp:revision>2</cp:revision>
  <dc:subject/>
  <dc:title>PowerPoint Presentation</dc:title>
</cp:coreProperties>
</file>