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B1A-1542-49DB-80E1-B4C068A8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9C4-AC5E-46F4-B25E-16FE2E4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C9D-4AA4-49D8-9EFC-0EEEB376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07E-CBB2-4239-B97E-5866C323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7B2-BC5E-43ED-95C6-B3B44C3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72F-711F-4CDB-8435-512AFF3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C95-2846-4353-AA69-42228A4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54D-D97D-4553-8BD3-153FE148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F6F-BB9D-41A8-AC6E-3943DF0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4BA-8AF7-4572-B1E7-4F094A95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93C-01A2-48BE-BBFF-BA0A33B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7CB-C7BF-480F-A720-95A3260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4744-A605-45AA-A75E-8F87F55C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1948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048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القيامة ، مَن آمنَ بي يَحيا وإن 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236232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حنُ الذين لنا باكورةُ الرو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ئنُ منتظرين التّبني، إفتداءَ أجسادنا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ذا كان أحدٌ في المسيح فهو خلقٌ 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42:38Z</dcterms:created>
  <dc:creator>SUZANNE.MD</dc:creator>
  <dc:description/>
  <dc:language>en-US</dc:language>
  <cp:lastModifiedBy>HANI SAFI</cp:lastModifiedBy>
  <dcterms:modified xsi:type="dcterms:W3CDTF">2003-04-16T14:08:13Z</dcterms:modified>
  <cp:revision>2</cp:revision>
  <dc:subject/>
  <dc:title>PowerPoint Presentation</dc:title>
</cp:coreProperties>
</file>