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441-227B-4DC8-869A-E52E17B6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702-C7D7-4A48-A983-CE6D289E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311-5748-41C4-B8F7-20FACE5F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618-8A64-44A5-84EE-784AEE41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9E2-0AEE-458A-8E8F-4D51CDA2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D1C-726B-43E4-BAB4-8F4A8440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ED9-75E2-4E55-AABE-7721DA38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AAE-40B4-44D0-A036-8EEFAB70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FEF-FC2A-4F86-A211-41975260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7AD-AF9D-4B9A-A4E6-48C8A488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BB7-54E9-49E6-9B00-0E879B7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575-3DFE-42FF-9779-6983C81C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0FF2-AD13-49F0-8BB6-66A554E4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532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0"/>
            <a:ext cx="3047760" cy="89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يَقُم ليقُمِ الله  وليبتهج بهِ أبناؤه وليفرحِ المؤمنون بخلاصه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20574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رنمو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شيدوا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اسم الل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عترفو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6092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380880"/>
            <a:ext cx="2971800" cy="9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لهم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عندَ ظهورِك قدامَ شعبِكَ من القبر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رجفتِ الأرضُ قطرتِ السماءُ من وجهِ فادينا الجبّار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327672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ه معنا وهو إله التخلي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الله يفتدي جميعَ أبنائه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33920" y="-119160"/>
            <a:ext cx="5410080" cy="7096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380880"/>
            <a:ext cx="2971800" cy="11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دّمَ المُغنونَ وخلفهم ناقروا الأوتار في وَسطِ عذار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قُرن الدفو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-11160"/>
            <a:ext cx="6248520" cy="5497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8195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ممالكَ الأرضِ رنموا لله اليوم قام الربُ حقاً من بين الأموات هللوا هللوا لله تباركَ الل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يقم ليقُمِ ال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7:59:59Z</dcterms:created>
  <dc:creator>SUZANNE.MD</dc:creator>
  <dc:description/>
  <dc:language>en-US</dc:language>
  <cp:lastModifiedBy>HANI SAFI</cp:lastModifiedBy>
  <dcterms:modified xsi:type="dcterms:W3CDTF">2003-04-16T13:58:24Z</dcterms:modified>
  <cp:revision>2</cp:revision>
  <dc:subject/>
  <dc:title>PowerPoint Presentation</dc:title>
</cp:coreProperties>
</file>