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1518-3C2B-4C13-99A5-D3994E1B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ED48-3B2B-4C22-9711-513322DD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53D5-72EB-4120-BA65-D59DAAE0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E06-42DE-411F-88D8-8A6AA3D0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D78-B655-4DC4-95F8-27CF69E5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BC7D-3F94-4F36-A3B2-BC829A39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6B6-0128-4D12-BE3B-652E41E8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30D1-36F1-48EC-B5A1-4E25B5A7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ADC6-0D48-4263-A293-0A5DD193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9EC-BBAB-45E0-ABB5-06732CCD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E54B-A58B-439E-8A32-D9A34DBE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2159-40DB-4AFB-AE60-8FBF2B88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F2C8-7A99-41D1-8676-CC2F4A8FF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81680" y="0"/>
            <a:ext cx="2362320" cy="48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مسيحُ قام من بين الاموات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وطىء الموت بالموت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"/>
            <a:ext cx="19969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ووهب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الحيـــــاةَ للذيـــن فــي القبـــــو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8:49:58Z</dcterms:created>
  <dc:creator>SUZANNE.MD</dc:creator>
  <dc:description/>
  <dc:language>en-US</dc:language>
  <cp:lastModifiedBy>HANI SAFI</cp:lastModifiedBy>
  <dcterms:modified xsi:type="dcterms:W3CDTF">2003-04-16T13:50:42Z</dcterms:modified>
  <cp:revision>2</cp:revision>
  <dc:subject/>
  <dc:title>PowerPoint Presentation</dc:title>
</cp:coreProperties>
</file>