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2EC2-ED0B-4DAD-8F32-CB4AFE8EB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70D8-8E04-425E-846E-A9B3B3924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8200-556C-4243-90D9-11ABC3464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E51F-788D-4824-95C4-A1EC9BC07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E878-78C0-4790-8285-4E266C94C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1CD7-A9FC-4007-B7EC-D168510A2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4A56-7E68-49E6-865F-D04E6FEC9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6DD1-FB91-4893-B541-A73A5E9AD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1D4B-07B3-44D2-B65C-82E21157C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D39B-7779-4CCF-81E8-A6F6AEA2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1FF7-B333-4F4E-BF76-BFC87BB1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8BCD-92F0-42F7-9A52-11252F4D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037E6-0D09-491B-B3E1-CB011B70B2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41972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228600"/>
            <a:ext cx="4343400" cy="9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هُوذا قَدْ صارَ لَيْلٌ           مُظلِمٌ نِصْفَ النَّهارْ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والصُّخورُ الصُّمُ شُقَّتْ       فلِماذا ذاكَ صارْ؟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ذاقَ ربُ المجدِ مَوتاً         بعدَ صلبٍ واحتقارْ</a:t>
            </a:r>
            <a:r>
              <a:rPr b="0" lang="ar-SA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038480" y="0"/>
            <a:ext cx="5351760" cy="7391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28600"/>
            <a:ext cx="3962520" cy="115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أُنظروا كيفََ يَداهُ            سُمِّرَتْ فوقَ الخَشَبْ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ولهُ إكليلُ شَوكٍ              نابَ عنْ تاجِ الذَّهبْ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ffcc99"/>
                </a:solidFill>
                <a:latin typeface="Times New Roman"/>
                <a:cs typeface="Times New Roman"/>
              </a:rPr>
              <a:t>آهِ ما أَقسى عُداةً            صَنَعَتْ هذا العَجَبْ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3581280" cy="117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أُنظروا كيفَ دِماهُ           قطَرَتْ مِنْ جَنبِهِ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واسمعوا صوتَ أَنينٍ           صاعدٍ منْ قلبِهِ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يا تُرى ذاكَ لماذا            هلْ لَكُمْ عِلمٌ بِهِ؟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981600" y="0"/>
            <a:ext cx="51624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3657600" cy="9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بِالخطايا قدْ وُلِدنا            مُسْتَحقِّينَ الغَضَبْ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فأتانا وَفدانا                 مِنْ عَذابٍ في اللّهب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يا أُلي الآثامِ أَصغُوا          وَاعرِفُوا هذا السَّبَبْ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4514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228600"/>
            <a:ext cx="4343400" cy="11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إِرفعوا الأَيْدي وَصَلُّوا        واشْكُرُوا ربَّ الفِدَ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اطلُبُوا عَفواً وَظَلّوا         قائِلينَ سُجّد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قَدْ قَبِلْتَ المَوتَ طَوعاً        مُنِْقذاً أَهلَ الرَّد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5T09:37:01Z</dcterms:created>
  <dc:creator>SUZANNE.MD</dc:creator>
  <dc:description/>
  <dc:language>en-US</dc:language>
  <cp:lastModifiedBy>HANI SAFI</cp:lastModifiedBy>
  <dcterms:modified xsi:type="dcterms:W3CDTF">2003-04-17T11:11:47Z</dcterms:modified>
  <cp:revision>2</cp:revision>
  <dc:subject/>
  <dc:title>PowerPoint Presentation</dc:title>
</cp:coreProperties>
</file>