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2C0B-8D19-4EA7-9D83-CB0FF9C08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31D2-7D4B-436C-A582-AA7C1A63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B3A4-F167-4A92-A5DF-28100F27E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04AD-1FD7-4B14-9220-33DB64B3C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BFCF-ED51-4799-8D70-4D4C7F81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F010-3DBC-4D63-9980-B809F47B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07B5-4E62-4CDF-9E2F-4B59C1C6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536F-B7E4-45A8-A630-AA215805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33F3-9A59-4BFE-9D26-AEB58B6F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2688-C1E6-481C-8F26-CB93C336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6487-4F5C-4C6B-9C6B-28EDE3DF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B226-39E6-48EE-B295-DFF9E33F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E874-E155-4A37-AF1A-205E42B4D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124080"/>
            <a:ext cx="32004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cc"/>
                </a:solidFill>
                <a:latin typeface="Arabic Transparent"/>
              </a:rPr>
              <a:t>يا سيدي كم كان قاسيا موتُ صليبِ العار وقبلَ أن يحمِلَك حمَلته يا با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8620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80880"/>
            <a:ext cx="3581280" cy="61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فوق الصليب يا حبيبي كم لقيتَ آلا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ممَّن تمادَوا في إيذائك وقد غفرتَ آثا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124080"/>
            <a:ext cx="32004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cc"/>
                </a:solidFill>
                <a:latin typeface="Arabic Transparent"/>
              </a:rPr>
              <a:t>يا سيدي كم كان قاسيا موتُ صليبِ العار وقبلَ أن يحمِلَك حمَلته يا با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988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380880"/>
            <a:ext cx="2971800" cy="85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هل كل هذا يا إلهي كي تُعيدَ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إلى حِماكَ أحيا معك وتعزين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124080"/>
            <a:ext cx="32004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cc"/>
                </a:solidFill>
                <a:latin typeface="Arabic Transparent"/>
              </a:rPr>
              <a:t>يا سيدي كم كان قاسيا موتُ صليبِ العار وقبلَ أن يحمِلَك حمَلته يا با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194000" y="0"/>
            <a:ext cx="4950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380880"/>
            <a:ext cx="3581280" cy="60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يا ليتَ قلبي يدنو منك فأفوزُ ب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أحيا لأجلك أمينا خاضعاً ل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3124080"/>
            <a:ext cx="32004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cc"/>
                </a:solidFill>
                <a:latin typeface="Arabic Transparent"/>
              </a:rPr>
              <a:t>يا سيدي كم كان قاسيا موتُ صليبِ العار وقبلَ أن يحمِلَك حمَلته يا با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09:22:10Z</dcterms:created>
  <dc:creator>SUZANNE.MD</dc:creator>
  <dc:description/>
  <dc:language>en-US</dc:language>
  <cp:lastModifiedBy>HANI SAFI</cp:lastModifiedBy>
  <dcterms:modified xsi:type="dcterms:W3CDTF">2003-03-14T12:19:06Z</dcterms:modified>
  <cp:revision>2</cp:revision>
  <dc:subject/>
  <dc:title>PowerPoint Presentation</dc:title>
</cp:coreProperties>
</file>