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F09-F862-41F1-8B3C-8CBB645A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294-8AF1-425A-B1A0-01CBE9CF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A0A-F6C6-4D1A-87A3-BDADD050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05A-F57E-4E8C-9015-AFBC481F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2302-90F2-41A4-A918-D99B0A33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1AE3-8732-494A-8952-AC9C67FB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4527-E11B-474D-A6A7-69C54A6C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FA9A-34AC-4CC9-AFF1-1ACD6344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3CD6-A919-4601-8450-22CB8C57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2286-0394-40CD-AF26-86F32DAB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61AF-F64E-46B0-8A38-A3A17DA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3E2-6D9E-4942-8564-2FFE5CEF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6CBD-4594-4A94-B24E-E32AE4EA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9F82-4DEC-4B66-AD36-5F8D916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1E1C-D3F3-4FD6-B828-0514555F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75F9-5AF1-4E78-97E4-5CE21ADF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F764-CFBD-4AD7-BC45-41708AC2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8BB-722F-4419-BE10-B34EF98B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F66-74C8-48C1-8689-36C51637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97E-1525-49FE-8075-3B758086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DA8-9270-4EC0-A1DA-35930960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D10-C8E5-41A3-B40D-4FE035CE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DB2-D370-4396-A8EE-C612900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00E-F565-4415-AFFA-B1355E9A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F8AD-5418-4FAE-91D8-A300F1D2270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8F87-9109-4089-851C-54A051674ED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010120"/>
            <a:ext cx="55800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859280" cy="117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ا القيامة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ن آمن ب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حيا وإن م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10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حن الذين لنا باكورةُ الروح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ئنُّ منتظرين التبنّي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فتداءَ أجسادِن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11640" y="154080"/>
            <a:ext cx="4211640" cy="130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ا كان أحد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ـي الـمسيح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هو خلقٌ جديد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55:35Z</dcterms:created>
  <dc:creator>Charbel Azar</dc:creator>
  <dc:description/>
  <dc:language>en-US</dc:language>
  <cp:lastModifiedBy>ف</cp:lastModifiedBy>
  <dcterms:modified xsi:type="dcterms:W3CDTF">2006-04-17T20:34:29Z</dcterms:modified>
  <cp:revision>10</cp:revision>
  <dc:subject/>
  <dc:title>Slide 1</dc:title>
</cp:coreProperties>
</file>