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634-A843-4CE0-BA96-FA8DA5AC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F7B-6C95-4154-BE8B-73C4BF88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719-2C20-4531-BDB7-FBCB7E79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965-FE8E-4D42-AE40-9772FAF6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252-1437-43D2-A910-091DC14E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499-8959-42D5-B1EA-6D91F917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7CB-1925-4CCE-96FC-6CB7E51C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074-B72A-4CC2-9F96-C6361901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413-1DFF-4AFC-8C86-90200178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8D5-0E71-4A94-8CF7-F2ABEB98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7BE1-FDD2-4CF6-9CFA-38022193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F3F-2B4D-4C5E-9FFD-D1A01F32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54E8-71A4-44DF-B4BF-C196B17A3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7055312TKFvGq_ph" descr=""/>
          <p:cNvPicPr/>
          <p:nvPr/>
        </p:nvPicPr>
        <p:blipFill>
          <a:blip r:embed="rId1"/>
          <a:stretch/>
        </p:blipFill>
        <p:spPr>
          <a:xfrm>
            <a:off x="2057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505320" cy="9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يا من مات على الصليب من أجل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فلتكن كأس دمك مشعلاً  لهدايت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 أيها الربُ الإله يا من خلصتنا من خطايانــا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طلـب منك اليـوم أن تخلصنـا من آلامنـ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9:28:14Z</dcterms:created>
  <dc:creator>SUZANNE.MD</dc:creator>
  <dc:description/>
  <dc:language>en-US</dc:language>
  <cp:lastModifiedBy>SUZANNE.MD</cp:lastModifiedBy>
  <dcterms:modified xsi:type="dcterms:W3CDTF">2003-03-16T09:29:47Z</dcterms:modified>
  <cp:revision>1</cp:revision>
  <dc:subject/>
  <dc:title>PowerPoint Presentation</dc:title>
</cp:coreProperties>
</file>