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D68-C2F3-49B1-8F5F-8C5977D7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CC4-4121-4827-A5AD-EE4B4EF5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96F-E610-44B8-B576-FC26366C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6FC-DF8B-4C13-9D73-ED95D925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446-CF5F-46C0-9A87-FD05400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512-92AF-4F90-953C-1EBF0F1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BC4-9A81-4A69-BD80-87481DD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1E2-0E90-4953-AAFF-A3A260EF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9E3-585F-4633-9B1C-4EFBA397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4DA-E164-49A8-9982-7F7D40B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7A9-8934-440B-95CC-49AC532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0EC-73E9-4170-83E1-54144E3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412E-EB92-4D10-A86D-B667EF705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362911HLMymE_ph" descr=""/>
          <p:cNvPicPr/>
          <p:nvPr/>
        </p:nvPicPr>
        <p:blipFill>
          <a:blip r:embed="rId1"/>
          <a:stretch/>
        </p:blipFill>
        <p:spPr>
          <a:xfrm>
            <a:off x="3046320" y="-82440"/>
            <a:ext cx="6935760" cy="770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971800" cy="10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يا حاملاً صَليبَ الفـداء،  صليبَ الفـداء،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مُـرَّ مـن صّوبِنـا نحنُ الذينَ نحيا الوفاء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حُـبــُّـــكَ فــي  قَلبِنــــــا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055312TKFvGq_ph" descr=""/>
          <p:cNvPicPr/>
          <p:nvPr/>
        </p:nvPicPr>
        <p:blipFill>
          <a:blip r:embed="rId1"/>
          <a:stretch/>
        </p:blipFill>
        <p:spPr>
          <a:xfrm>
            <a:off x="31240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2819520" cy="10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أمامَكَ نَنحني، أنزِلْ صليبَك، ضَعْهُ على أَكتافِنا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وارتَحْ عندَنا قليلاً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طريقُ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لاصِ طويـلٌ على مَدِّ آمالِكَ</a:t>
            </a:r>
            <a:r>
              <a:rPr b="0" lang="ar-SA" sz="46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11:46Z</dcterms:created>
  <dc:creator>SUZANNE.MD</dc:creator>
  <dc:description/>
  <dc:language>en-US</dc:language>
  <cp:lastModifiedBy>SUZANNE.MD</cp:lastModifiedBy>
  <dcterms:modified xsi:type="dcterms:W3CDTF">2003-03-10T06:18:13Z</dcterms:modified>
  <cp:revision>1</cp:revision>
  <dc:subject/>
  <dc:title>PowerPoint Presentation</dc:title>
</cp:coreProperties>
</file>