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C8C-7616-4030-9E6E-313E5608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21D-3083-4E5C-AE72-48DF7BB7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3FF-FCBA-425C-9ED0-23FC44A1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F43-9C44-424A-8994-F37E155B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825-1347-4D8D-8066-ACF00822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574-B378-46E1-AC86-BCB3C7DA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9EA-189B-484D-82F2-C8404F37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A15-2D38-4D0A-80BD-F10258B7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53A-9BED-473B-84C6-3A356D5C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517-5691-46DF-9682-2FE57395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BB9-3632-4807-BB8A-F6A22194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CFA-D34A-45A2-8B3D-CFAE04DF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1DB-1DC6-4260-A6C8-15631F17B19A}" type="slidenum">
              <a:rPr b="0" lang="ar-SA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2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يوم عُلق</a:t>
            </a:r>
            <a:endParaRPr b="0" lang="en-US" sz="1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ea typeface="Akhbar MT"/>
              </a:rPr>
              <a:t> اليوم عُلِّق على خَشَبَ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عَلَّقَ الأرضَ على المياه. إكليلٌ من شوكٍ وُضِعَ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على هامَةِ مَلِكِ الملائكة.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رفيراً كاذباً تسربل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وشّح السماءَ بالغيوم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قَبلَ لطمةً الذ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عتقَ آدمَ في الأردُن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خَتَنُ البيعةِ سُمِّرَ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مسامير وابنُ العذراءِ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طُعِنَ بحربة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سجدُ لآلامِكَ أيها المسيح 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أرِنا قيامَتَكَ المجيدة.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1:44:59Z</dcterms:created>
  <dc:creator>-</dc:creator>
  <dc:description/>
  <dc:language>en-US</dc:language>
  <cp:lastModifiedBy>-</cp:lastModifiedBy>
  <dcterms:modified xsi:type="dcterms:W3CDTF">2003-04-18T11:44:59Z</dcterms:modified>
  <cp:revision>1</cp:revision>
  <dc:subject/>
  <dc:title>Slide 1</dc:title>
</cp:coreProperties>
</file>