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6F3-4DE1-49FD-8A01-BC6DCF87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E0C-BA26-48F8-876B-874492D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3AD-F378-449A-92BD-0BC7D3E2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CA5-7D5F-443D-8BFE-1F1F7906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2A5-6976-4D5D-8A10-EB8FEB69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9FD-AD20-46FE-90FD-B49D76E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F51-7CB7-48BB-8492-71B6B51E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135-11F3-4213-8BE6-55EDC246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698-2DF6-400F-A19C-502E7E23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5B5-62F8-4D2D-ABF6-215B1EA1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BD1-737D-4B53-BC50-18C5BF3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4D2-C5CF-44BE-BD8E-B8F3F8E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31DA-A307-4820-A4E2-3876D877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73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وذا عودُ الصلي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عليه عُلِّقَ خلاصُ العا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لموا نسجدُ ل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36:23Z</dcterms:created>
  <dc:creator>SUZANNE.MD</dc:creator>
  <dc:description/>
  <dc:language>en-US</dc:language>
  <cp:lastModifiedBy>HANI SAFI</cp:lastModifiedBy>
  <dcterms:modified xsi:type="dcterms:W3CDTF">2003-04-17T11:12:14Z</dcterms:modified>
  <cp:revision>1</cp:revision>
  <dc:subject/>
  <dc:title>PowerPoint Presentation</dc:title>
</cp:coreProperties>
</file>