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C77-5EA0-4686-B348-A6CA244D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8A94-849D-4DEE-A541-711A8D96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E22-2AF1-4EB0-9FE8-DC99EA73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E3BC-830D-4E53-A96E-1AA93914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A832-14DE-4257-906A-0B303389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79ED-30A1-4757-B11D-17FD565D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A41-7ABA-4C12-9D73-CC568B3E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628-1697-4E7D-98C4-0E425B58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87FA-5035-4DE7-AF9D-FF62C1FC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5C1-2295-4DC8-A225-5DD0B68B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619-A42D-47AD-B3A2-85139698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0C06-5481-481D-9551-F3E59C2B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1B19-578A-477E-AC77-49FC6EB6BBC7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4076640"/>
            <a:ext cx="5508720" cy="33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900" spc="-1" strike="noStrike">
                <a:solidFill>
                  <a:srgbClr val="ffffff"/>
                </a:solidFill>
                <a:latin typeface="Times New Roman"/>
                <a:cs typeface="????Boutros Rokaa"/>
              </a:rPr>
              <a:t>يا سيدي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00360" y="0"/>
            <a:ext cx="6443640" cy="9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سيِّدي كَمْ كانَ قاسياً مَوتُ صَليبِ العار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قبلَ أنْ يَحمِلَكَ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َمَلْتَهُ يا بَار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00360" y="0"/>
            <a:ext cx="6443640" cy="853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أَلتَ ماءً، ذُقْتَ خَلاً ذُقتَ كُلَّ مَرَارْ ،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َالَتْ دِمَاكَ مِنْ حَشاكَ لتَفتَدِي الأَشرار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00360" y="0"/>
            <a:ext cx="6443640" cy="853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َوقَ الصلِّيبِ يا حَبيبي كَمْ لَقِيتَ آلامْ 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ِمَّنْ تَمادَوْا في إِيذَائِكَ وقَدْ غَفَرْتَ آثَام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00360" y="0"/>
            <a:ext cx="6443640" cy="9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سيِّدي كَمْ كانَ قاسياً مَوتُ صَليبِ العار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قبلَ أنْ يَحمِلَكَ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َمَلْتَهُ يا بَار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00360" y="0"/>
            <a:ext cx="6443640" cy="713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َل كُلُّ هذا يا إِلَهي كَيْ تُعِيدُني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حِمَاكَ أَحْيا مَعَكَ وتُعَزِّيني،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700360" y="0"/>
            <a:ext cx="6443640" cy="853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لَيْتَ قَلبِي يَدْنُو مِنْكَ فَأَفُوزُ بكَ،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َحْيا لأجلِكَ أَمِيناً خَاضِعاً لَكَ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00360" y="0"/>
            <a:ext cx="6443640" cy="9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سيِّدي كَمْ كانَ قاسياً مَوتُ صَليبِ العار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قبلَ أنْ يَحمِلَكَ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َمَلْتَهُ يا بَار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20:03:11Z</dcterms:created>
  <dc:creator>Charbel Azar</dc:creator>
  <dc:description/>
  <dc:language>en-US</dc:language>
  <cp:lastModifiedBy>ف</cp:lastModifiedBy>
  <dcterms:modified xsi:type="dcterms:W3CDTF">2006-04-11T20:19:27Z</dcterms:modified>
  <cp:revision>12</cp:revision>
  <dc:subject/>
  <dc:title>Slide 1</dc:title>
</cp:coreProperties>
</file>