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6A2-C0AB-4074-9349-465274BD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F36-0FEB-4CA2-A5D3-A1D6D37B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3B71-FA2F-4965-8084-0E51F992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D9D1-576E-4175-94FF-F233328D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762E-A1D5-400E-9605-DAC8C3B9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BBE-5B3D-4C65-9A6F-6D15E911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2DE-B6DD-443C-B985-42F77961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911-BD59-4E59-A466-41D92DA1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37CE-5B21-45D8-A125-F0BE9ADA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74C-79A2-453A-AE1F-675DD595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5692-B554-4126-802F-30647D73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5F7-98C5-4FE0-8DC5-0A122439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414C-70EB-4F17-922C-C51E37ED0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532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0"/>
            <a:ext cx="3047760" cy="89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ِيَقُم ليقُمِ الله  وليبتهج بهِ أبناؤه وليفرحِ المؤمنون بخلاصه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20574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رنمو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شيدوا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اسم الله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اعترفو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60920" y="0"/>
            <a:ext cx="5383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380880"/>
            <a:ext cx="2971800" cy="9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لهم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عندَ ظهورِك قدامَ شعبِكَ من القبر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رجفتِ الأرضُ قطرتِ السماءُ من وجهِ فادينا الجبّار</a:t>
            </a:r>
            <a:r>
              <a:rPr b="0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3276720" cy="67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له معنا وهو إله التخلي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 الله يفتدي جميعَ أبنائه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33920" y="-119160"/>
            <a:ext cx="5410080" cy="7096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380880"/>
            <a:ext cx="2971800" cy="11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قدّمَ المُغنونَ وخلفهم ناقروا الأوتار في وَسطِ عذارى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نقُرن الدفو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-11160"/>
            <a:ext cx="6248520" cy="5497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2819520" cy="10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ا ممالكَ الأرضِ رنموا لله اليوم قام الربُ حقاً من بين الأموات هللوا هللوا لله تباركَ الل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يقم ليقُمِ الل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7:59:59Z</dcterms:created>
  <dc:creator>SUZANNE.MD</dc:creator>
  <dc:description/>
  <dc:language>en-US</dc:language>
  <cp:lastModifiedBy>HANI SAFI</cp:lastModifiedBy>
  <dcterms:modified xsi:type="dcterms:W3CDTF">2003-04-16T13:58:24Z</dcterms:modified>
  <cp:revision>2</cp:revision>
  <dc:subject/>
  <dc:title>PowerPoint Presentation</dc:title>
</cp:coreProperties>
</file>