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17A-8044-4B22-8DDA-8261F6F6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EF5-BBD2-499C-9F3B-3BFD7ED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55F-E533-4884-9F52-27041F0B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711-A22B-47D1-95FA-488BDD30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6E8-B71F-4D43-865C-D0D4ED62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FD5-8D35-4F54-887B-F78598E9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F90-5A98-4DD6-8673-C8AD3AE8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4AA-3A25-43A2-841C-1E5CD6E7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20B-8136-44CB-BA32-C9C994E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EFA-1C67-43E9-8F4F-7BC6B48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918-20E4-485E-BB35-9DE9388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E31-41A0-4E33-88E0-612D7146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532-FAC2-48B9-B1CF-694E1461D910}" type="slidenum">
              <a:rPr b="0" lang="ar-SA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2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يوم عُلق</a:t>
            </a:r>
            <a:endParaRPr b="0" lang="en-US" sz="1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ea typeface="Akhbar MT"/>
              </a:rPr>
              <a:t> اليوم عُلِّق على خَشَبَ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عَلَّقَ الأرضَ على المياه. إكليلٌ من شوكٍ وُضِعَ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على هامَةِ مَلِكِ الملائكة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رفيراً كاذباً تسربل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وشّح السماءَ بالغيوم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قَبلَ لطمةً الذ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عتقَ آدمَ في الأردُن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خَتَنُ البيعةِ سُمِّر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مسامير وابنُ العذراء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طُعِنَ بحربة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سجدُ لآلامِكَ أيها المسيح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أرِنا قيامَتَكَ المجيدة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44:59Z</dcterms:created>
  <dc:creator>-</dc:creator>
  <dc:description/>
  <dc:language>en-US</dc:language>
  <cp:lastModifiedBy>-</cp:lastModifiedBy>
  <dcterms:modified xsi:type="dcterms:W3CDTF">2003-04-18T11:44:59Z</dcterms:modified>
  <cp:revision>1</cp:revision>
  <dc:subject/>
  <dc:title>Slide 1</dc:title>
</cp:coreProperties>
</file>