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5C3-E279-4325-872E-A2BDE592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DE6-C207-4DC5-85A8-4E431963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6E2-C444-4919-8F5D-DA507B82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F0A-8925-474A-9510-894A0101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C8CB-7D82-4438-A3FB-0E486678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B7AE-E513-4776-B6F4-669AF506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C80E-9CA1-48D1-A553-51198443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1093-DF0C-4A84-8325-A9F1C16A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6532-CE3F-4FA8-8259-F0E8267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7C8F-AFA9-425C-82E0-A243257F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C39F-DA13-463C-9CC5-F07FB14C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320-FF45-45C9-BE13-494BC530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A2E8-2C4C-4016-B707-2EF015E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00F8-1087-4B3C-8A12-ACD034E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0F39-7A55-496D-9EBD-98F45F1B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FC00-0A02-4707-B88B-1C273776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08AC-D751-4B89-A804-AF06CB41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954-FB80-46BC-99FA-567D3149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8A5-BD73-4415-BE59-B9A87184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16B-90FC-451C-BB13-56ECA089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EF7-D679-4730-ACCD-1260709E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FC6-2897-4A6A-8BBE-291B1B30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732-10FC-4834-8CD1-43D8656A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0B6-B905-43CA-A3B2-FD4B65D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9814-44A4-490D-AA8A-1ECB37CD4CE7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FEFC-7D8E-48EE-9978-856B89F7852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156280"/>
            <a:ext cx="6659640" cy="33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نا غلبت المو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0"/>
            <a:ext cx="8136000" cy="85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لأجلِ زلاّتِنا ماتَ الـمسيح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ولأجلِ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تبريرِ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قد قام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5508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نتم أموات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لخطيئ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حياءٌ لله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ـمسيح يسوع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238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0"/>
            <a:ext cx="594036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أنتم قمتم م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حياتُكم هيَ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انظروا إلى الأعال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إلى مجده ارتفعو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1600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-</cp:lastModifiedBy>
  <dcterms:modified xsi:type="dcterms:W3CDTF">2003-04-20T07:08:51Z</dcterms:modified>
  <cp:revision>14</cp:revision>
  <dc:subject/>
  <dc:title>Slide 1</dc:title>
</cp:coreProperties>
</file>