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CBA-F1F3-42EE-984E-C7843F9E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907-F423-4057-8E55-293B60E6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AB0-70DD-458C-9AAF-37C78340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0D7-AA00-4FFA-9773-CF5EC8F9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677-159C-4B4C-9646-39FE9C5D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0B7-1107-4B3D-ADE7-50A4DA07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317-C78C-4EC3-989E-302F6E56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E86-23B3-4E1B-9BE8-5D0C095C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757-95D6-4584-B815-0D7BFA7C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768-3ACF-4D41-B5D5-B374A62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9EC-AE2B-4FA8-B0ED-E5EE091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D1A-FB87-4BEB-B453-39CB97F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464C-BB93-45D4-B6DA-721DCD898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7055312TKFvGq_ph" descr=""/>
          <p:cNvPicPr/>
          <p:nvPr/>
        </p:nvPicPr>
        <p:blipFill>
          <a:blip r:embed="rId1"/>
          <a:stretch/>
        </p:blipFill>
        <p:spPr>
          <a:xfrm>
            <a:off x="2057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من مات على الصليب من أج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لتكن كأس دمك مشعلاً  لهدايت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 أيها الربُ الإله يا من خلصتنا من خطايانــا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طلـب منك اليـوم أن تخلصنـا من آلامنـ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28:14Z</dcterms:created>
  <dc:creator>SUZANNE.MD</dc:creator>
  <dc:description/>
  <dc:language>en-US</dc:language>
  <cp:lastModifiedBy>SUZANNE.MD</cp:lastModifiedBy>
  <dcterms:modified xsi:type="dcterms:W3CDTF">2003-03-16T09:29:47Z</dcterms:modified>
  <cp:revision>1</cp:revision>
  <dc:subject/>
  <dc:title>PowerPoint Presentation</dc:title>
</cp:coreProperties>
</file>