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29F5-F558-438E-AB16-EF402601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3940-2212-4580-87CC-530CF097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9F48-3974-4F7C-9E93-B5A51D29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17B2-1F51-47C9-A645-2BB72749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1D15-8EDC-408A-9A6E-061550A8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414B-26B6-425A-BDC7-A20AD591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EFA-DD34-4975-9A77-32BB5F30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BEDC-7F0B-4A48-B3E7-609BCBFF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EA20-3357-4EAD-8EC0-AAB85B5E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AB0-A5B6-4277-9FCE-EC134100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086F-DBFB-4A30-9060-16C1A914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3C36-0FBC-40FA-A2EF-F590B49E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3641-8259-4737-93F7-089AE9CCB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57520" y="0"/>
            <a:ext cx="5586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8600"/>
            <a:ext cx="342900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ا لن أرى حباً أعظم وأقوى من حبك فوق الصليب يا سيد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خترتَه طوعا...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وهو عقابٌ عادلٌ  لآثم متمر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352680" cy="9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شاةٍ تُساقُ للذبح لم تفتح فاكَ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نعجةٍ صامتةٍ اقتادوكَ للصلب هناك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في الجلجلة فوق الصليب في الجلجل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297180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لُمنا وعيَّرنا بطرس بالجبن يومَ أَنكرك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</a:rPr>
              <a:t>كلُّنا  قد قلنا خائن ليهوذا حين أسلمك</a:t>
            </a:r>
            <a:r>
              <a:rPr b="0" lang="ar-SA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11010960" cy="7924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352680" cy="9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نحن اليوم أمامَ الناس نستحي بك ننكر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قطعتين من النحاس مثل يهوذا نُسلم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رغم ذاك ... نحن نراك... تنسى أساك...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حبك المتجدد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3352680" cy="9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شاةٍ تُساقُ للذبح لم تفتح فاكَ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نعجةٍ صامتةٍ اقتادوكَ للصلب هناك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في الجلجلة فوق الصليب في الجلجل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0880"/>
            <a:ext cx="3733920" cy="87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جمع كان ينادي لباراباس يطلق بالإفرا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صلبَك كان مطلبهم أن تُجلد أنت بالكرباج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286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4191120" cy="9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اكموك عيّروك حمّلوك صليب الع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بين لصوص علّقوك أيها القدوس الب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ورغم ذاك ... نحن نراك... تنسى أساك...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حبك المتجدد</a:t>
            </a:r>
            <a:r>
              <a:rPr b="0" lang="ar-SA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3352680" cy="9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شاةٍ تُساقُ للذبح لم تفتح فاكَ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نعجةٍ صامتةٍ اقتادوكَ للصلب هناك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في الجلجلة فوق الصليب في الجلجل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0:43:39Z</dcterms:created>
  <dc:creator>SUZANNE.MD</dc:creator>
  <dc:description/>
  <dc:language>en-US</dc:language>
  <cp:lastModifiedBy>HANI SAFI</cp:lastModifiedBy>
  <dcterms:modified xsi:type="dcterms:W3CDTF">2003-03-17T14:23:37Z</dcterms:modified>
  <cp:revision>7</cp:revision>
  <dc:subject/>
  <dc:title>PowerPoint Presentation</dc:title>
</cp:coreProperties>
</file>