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AF1-0826-4E9F-AE34-778C1F66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71A-53B3-495D-99DC-E7D667C2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E12-E48B-4A28-B37F-1AA2E5E4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EBA-D914-4FFA-8429-FB1D6297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BD2-9661-41BB-89CE-8CAA9A5C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615-4FB2-4116-8E8B-419D3FCA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FD6-2901-49A9-8084-5E5406C7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145-909D-4113-AB68-94E1DA79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DCF-CF3B-488C-87BD-04CA231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9E8-A09D-413F-9211-8E5B7E4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964-9887-495C-8EEE-D0B0652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DCC-28E1-4FF8-A63F-242D482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2D07-FA5A-4A23-A2AA-41F96C485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619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صوم يُفتح بابُ السماءِ مَن صام يُمنح مُلك العلاء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5118wOgIICHEKd_ph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85800"/>
            <a:ext cx="2590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بُّ العلاءِ يُعلي مقاما مَن بالنقاءِ يقضي الصيا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60642WcABmRMkZD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13372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حياتي هَبني غُفرانا واقبل صلاتي صومي قربان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29:08Z</dcterms:created>
  <dc:creator>SUZANNE.MD</dc:creator>
  <dc:description/>
  <dc:language>en-US</dc:language>
  <cp:lastModifiedBy>USER</cp:lastModifiedBy>
  <dcterms:modified xsi:type="dcterms:W3CDTF">2003-03-03T15:01:39Z</dcterms:modified>
  <cp:revision>2</cp:revision>
  <dc:subject/>
  <dc:title>PowerPoint Presentation</dc:title>
</cp:coreProperties>
</file>