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0A2-3DDF-42FF-8233-6A5E9AA7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21BB-FC92-4B33-AB04-164AE57F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B55-26D2-4452-9052-24698C64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175-C55A-42EB-8740-B843C0CA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2C0-D6CE-46A8-B303-64377271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17B-950F-4098-BEEA-3795BBBA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9273-9919-4716-BC90-62889000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A6B-F7CE-4EB5-BCEA-554AD6A9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275-5B91-4EF5-BC1A-A6DBB2EA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92C-F6E1-45A3-9C7F-2EE19D92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90C6-3015-48DC-B8DA-3E594BA4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2A8-BB99-4332-B543-77B785F8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2ACA-0BE7-42AC-89EB-2C9BFD15C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048120" cy="11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واحبيبي واحبيبي                        سُلّــمَ الموتُ إلي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فتسلَّمنـا حياةً مـن جراحـات يديــ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كـلُّ ميتٍ عاد حيـاًّ والتقى الكلُّ لدي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يـومَ أبطلتَ</a:t>
            </a:r>
            <a:r>
              <a:rPr b="1" lang="en-US" sz="4000" spc="-1" strike="noStrike">
                <a:solidFill>
                  <a:srgbClr val="ffffcc"/>
                </a:solidFill>
                <a:latin typeface="Simplified Arabic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المنايا بمواعـيدِ الحيــا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40200" y="0"/>
            <a:ext cx="5203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3657600" cy="9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أيُّ حبٍّ قد تفانى مثلُ هذا في  حبيـ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أيُّ ربٍ قد تجلـى مجدُه فوق صليـ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دهشةً بين البرايـا عجباً عند  الشع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وهو في البيعةِ حقٌ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</a:rPr>
              <a:t>وســـلامٌ ولقـــــاء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94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28600" y="0"/>
            <a:ext cx="3809880" cy="9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قادكَ الحبُّ إليَّ فتقلدْتَ  الصل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وتحمَّلتَ لأَجلي غصَّةَ الموت  الره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ليتني أَقضي حياتي أُهرقُ العمرَ  سك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في وصاياك وأَحيا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</a:rPr>
              <a:t>بيـن أســـرارِ  الفــداء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572000" cy="11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   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واحبيبي واحبيب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 أيُّ  حالٍ أنت في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 مَن شجاك من مَناك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 ما لذا الامرِ شبي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 يا حبيبي أيَّ ذنـبٍ      قد صنعت أو كري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أنت مجهود  جريحٌ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</a:rPr>
              <a:t>ليس فيـكَ مــن شِفــاء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80880"/>
            <a:ext cx="3886200" cy="9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كنتُ في البستان ليلاً والحشا منّي اضط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 خِفتُ صلّيتُ الى أن عرقٌ مني انسكـب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 قلتُ ربّي إن رأيتَ فادفعَنْ عنّي  العطب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حزنُ نفسي فاق </a:t>
            </a:r>
            <a:r>
              <a:rPr b="1" lang="ar-SA" sz="3800" spc="-1" strike="noStrike">
                <a:solidFill>
                  <a:srgbClr val="ffffcc"/>
                </a:solidFill>
                <a:latin typeface="Arial"/>
                <a:cs typeface="Simplified Arabic"/>
              </a:rPr>
              <a:t>وصفاً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كلَّ قــولٍ أو  نــــداءْ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57640" y="0"/>
            <a:ext cx="49737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28600"/>
            <a:ext cx="4038480" cy="9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قد ربطت وضربت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  مثل أدنى  الآث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بسياط قد جلدت         مثل شرً المجرمي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 كل هذا من جراكـم     كي تكونوا سالميـ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فانظروني هل رأيتـم    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شبه ذا  تحت السمــاء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7:11:06Z</dcterms:created>
  <dc:creator>SUZANNE.MD</dc:creator>
  <dc:description/>
  <dc:language>en-US</dc:language>
  <cp:lastModifiedBy>HANI SAFI</cp:lastModifiedBy>
  <dcterms:modified xsi:type="dcterms:W3CDTF">2003-04-18T05:48:39Z</dcterms:modified>
  <cp:revision>2</cp:revision>
  <dc:subject/>
  <dc:title>PowerPoint Presentation</dc:title>
</cp:coreProperties>
</file>