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F3B-06C3-40F9-A591-C3C192BE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47C-C745-4683-88C6-7CCCBFE9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A8B-4B59-4A88-9097-87B8BFE9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C4C-BF95-4C35-B7F3-C76E9D00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C27-F7AF-44A4-A17D-0F2BD675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6E9-7B45-4A9C-B0B9-40FE7C01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7BA-C6E5-4B79-9796-937E5C73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B47-B683-4F5B-89C5-E9521670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9E8-CF34-4BD3-B2EA-5E7F2114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1C8-3E5E-4457-B459-3F56B19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329-02B8-4A5A-9D6C-CA74C907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0BE-7B92-4A27-AE94-62501AEE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C06F-4075-4232-9535-54ADD6C27272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0"/>
            <a:ext cx="693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000000"/>
                </a:solidFill>
                <a:uFillTx/>
                <a:latin typeface="Times New Roman"/>
                <a:cs typeface="Diwany6 Normal"/>
              </a:rPr>
              <a:t>نشيد المناولة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لوحي يا غصون الز يت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ّي يا قدس التذك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ير 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ردّي ك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اس زغ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صللوا للفجر الب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عوب الأرض تهن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شعال السلم ال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لّيكي بإلف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ّي إنت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قدس بلادي هوشعنا الربّ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 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سوع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مّ الاطفال غنيّة صوت الشادي 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إسمك عاطول الأجيال ع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هلّلْ وتنادي هوشعنا الربّ الفاد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بيت لح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يل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أطفال انقطفوا شه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اليوم شهدوا بأعي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وا بالقدس زي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4:43Z</dcterms:created>
  <dc:creator>Charbel Azar</dc:creator>
  <dc:description/>
  <dc:language>en-US</dc:language>
  <cp:lastModifiedBy>Charbel Azar</cp:lastModifiedBy>
  <dcterms:modified xsi:type="dcterms:W3CDTF">2003-03-14T21:26:50Z</dcterms:modified>
  <cp:revision>4</cp:revision>
  <dc:subject/>
  <dc:title>Slide 1</dc:title>
</cp:coreProperties>
</file>