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0BB-307D-4122-93F0-D9C2480D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5D8-6DFE-4FBE-B9B9-574E96A1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69F-25F7-4411-8362-3D2CF67C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1CC-7322-4B9A-A2F5-74AC86F3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F09-6F10-4CFA-9610-3ABA23CE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9C7-B42A-4949-AAE3-6E8F95D2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149-A80E-4684-BD68-A1DB0308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64F-AD61-4C37-AC66-3DACD6A9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E0F-5413-4070-8B9B-F53A1CB9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6E1-06A4-48AE-B24D-839A01FD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E86-374E-489B-AA4A-9BB07A1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4222-D150-426C-B85C-0E40D185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FF86-6F52-4717-BDA6-5767B3D1E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81680" y="0"/>
            <a:ext cx="2362320" cy="48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سيحُ قام من بين الاموات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وطىء الموت بالموت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199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ووهب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الحيـــــاةَ للذيـــن فــي القبـــــ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49:58Z</dcterms:created>
  <dc:creator>SUZANNE.MD</dc:creator>
  <dc:description/>
  <dc:language>en-US</dc:language>
  <cp:lastModifiedBy>HANI SAFI</cp:lastModifiedBy>
  <dcterms:modified xsi:type="dcterms:W3CDTF">2003-04-16T13:50:42Z</dcterms:modified>
  <cp:revision>2</cp:revision>
  <dc:subject/>
  <dc:title>PowerPoint Presentation</dc:title>
</cp:coreProperties>
</file>