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4A1A-DCAB-4053-9294-94614A752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6C20-F80B-4770-9561-8DFACF7DC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81A0-E580-4DB7-B4A4-540FB4B1E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0F11-8275-4F77-A787-5A05D0ED6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6BF7-C1E4-4D7D-9D61-1BAEB4CFD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26FC-8FD8-4B6C-BE44-1099DB1B6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4F9D-4B6A-4AD7-9C6F-5A662B4C1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6ED7-A6B9-424F-AF1E-1E387370E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99D2-21CE-4272-B192-03EFA2E97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603F-764A-448C-87A2-62219D07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A11F-3B5D-4F53-B96D-B70B9FB6C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909D-7EA1-4357-88CE-468795D4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BFBC1-4069-47B3-8D92-F4C2C4D9A0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1951018tSNAoaKomf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ملك المجدِ آتٍ إفتحوا الأبواب</a:t>
            </a:r>
            <a:r>
              <a:rPr b="1" lang="en-US" sz="3600" spc="-1" strike="noStrike">
                <a:solidFill>
                  <a:srgbClr val="ffffff"/>
                </a:solidFill>
                <a:latin typeface="Simplified Arabic"/>
                <a:ea typeface="Times New Roman (Arabic)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افرحوا يا شعوبُ</a:t>
            </a:r>
            <a:r>
              <a:rPr b="1" lang="en-US" sz="3600" spc="-1" strike="noStrike">
                <a:solidFill>
                  <a:srgbClr val="ffffff"/>
                </a:solidFill>
                <a:latin typeface="Simplified Arabic"/>
                <a:ea typeface="Times New Roman (Arabic)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وارفعواالهُتا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من هو ملك المجد كيف ندعوه   هو من به كل الشعب موعو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21951018tSNAoaKomf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914400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ملك المجدِ آتٍ إفتحوا الأبواب</a:t>
            </a:r>
            <a:r>
              <a:rPr b="1" lang="en-US" sz="3600" spc="-1" strike="noStrike">
                <a:solidFill>
                  <a:srgbClr val="ffffff"/>
                </a:solidFill>
                <a:latin typeface="Simplified Arabic"/>
                <a:ea typeface="Times New Roman (Arabic)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افرحوا يا شعوبُ</a:t>
            </a:r>
            <a:r>
              <a:rPr b="1" lang="en-US" sz="3600" spc="-1" strike="noStrike">
                <a:solidFill>
                  <a:srgbClr val="ffffff"/>
                </a:solidFill>
                <a:latin typeface="Simplified Arabic"/>
                <a:ea typeface="Times New Roman (Arabic)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وارفعواالهُتا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في كلِّ الأرضِ ذاع مجد فادينا   </a:t>
            </a:r>
            <a:r>
              <a:rPr b="1" lang="en-US" sz="3600" spc="-1" strike="noStrike">
                <a:solidFill>
                  <a:srgbClr val="ffffff"/>
                </a:solidFill>
                <a:latin typeface="Simplified Arabic"/>
                <a:ea typeface="Times New Roman (Arabic)"/>
              </a:rPr>
              <a:t>   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الساكن بيننا بلمسةٍ يشفي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21951018tSNAoaKomf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0"/>
            <a:ext cx="914400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ملك المجدِ آتٍ إفتحوا الأبواب</a:t>
            </a:r>
            <a:r>
              <a:rPr b="1" lang="en-US" sz="3600" spc="-1" strike="noStrike">
                <a:solidFill>
                  <a:srgbClr val="ffffff"/>
                </a:solidFill>
                <a:latin typeface="Simplified Arabic"/>
                <a:ea typeface="Times New Roman (Arabic)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افرحوا يا شعوبُ</a:t>
            </a:r>
            <a:r>
              <a:rPr b="1" lang="en-US" sz="3600" spc="-1" strike="noStrike">
                <a:solidFill>
                  <a:srgbClr val="ffffff"/>
                </a:solidFill>
                <a:latin typeface="Simplified Arabic"/>
                <a:ea typeface="Times New Roman (Arabic)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وارفعواالهُتا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أعطى حياته لمنحه الخلاص</a:t>
            </a:r>
            <a:r>
              <a:rPr b="1" lang="en-US" sz="3600" spc="-1" strike="noStrike">
                <a:solidFill>
                  <a:srgbClr val="ffffff"/>
                </a:solidFill>
                <a:latin typeface="Simplified Arabic"/>
                <a:ea typeface="Times New Roman (Arabic)"/>
              </a:rPr>
              <a:t>          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هو حامل كل خطايا النا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21951018tSNAoaKomf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0"/>
            <a:ext cx="914400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ملك المجدِ آتٍ إفتحوا الأبواب</a:t>
            </a:r>
            <a:r>
              <a:rPr b="1" lang="en-US" sz="3600" spc="-1" strike="noStrike">
                <a:solidFill>
                  <a:srgbClr val="ffffff"/>
                </a:solidFill>
                <a:latin typeface="Simplified Arabic"/>
                <a:ea typeface="Times New Roman (Arabic)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افرحوا يا شعوبُ</a:t>
            </a:r>
            <a:r>
              <a:rPr b="1" lang="en-US" sz="3600" spc="-1" strike="noStrike">
                <a:solidFill>
                  <a:srgbClr val="ffffff"/>
                </a:solidFill>
                <a:latin typeface="Simplified Arabic"/>
                <a:ea typeface="Times New Roman (Arabic)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وارفعواالهُتا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قام ألهنا فقهر الخطيئة    </a:t>
            </a:r>
            <a:r>
              <a:rPr b="1" lang="en-US" sz="3600" spc="-1" strike="noStrike">
                <a:solidFill>
                  <a:srgbClr val="ffffff"/>
                </a:solidFill>
                <a:latin typeface="Simplified Arabic"/>
                <a:ea typeface="Times New Roman (Arabic)"/>
              </a:rPr>
              <a:t>       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أعطى من السماء رؤية جديد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1T04:16:19Z</dcterms:created>
  <dc:creator>USER</dc:creator>
  <dc:description/>
  <dc:language>en-US</dc:language>
  <cp:lastModifiedBy>USER</cp:lastModifiedBy>
  <dcterms:modified xsi:type="dcterms:W3CDTF">2003-02-08T07:35:43Z</dcterms:modified>
  <cp:revision>2</cp:revision>
  <dc:subject/>
  <dc:title>PowerPoint Presentation</dc:title>
</cp:coreProperties>
</file>