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646-590B-42CD-96F7-40E556E1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B31B-F005-499E-99F2-20607EA6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6AD0-D5F2-45CC-B801-B9B45A2D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819C-3E62-4293-B620-D850DD75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2B1B-0BAE-4720-BD9C-DBF213A1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585-1D50-4669-87FE-FD05F617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BEC-9FED-4DD4-8BF1-012AF01D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69F-3F89-4F46-A07F-8F41BDAE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FC7-4332-417E-B214-53617934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915-B267-4F94-B580-12DAAC95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66F7-6050-46D6-8641-7D095DD1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330-5F3C-4E5A-B097-B69FF119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73F4-0C03-4B27-A805-C3402DBD1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esus%20cross%20and%20faces" descr=""/>
          <p:cNvPicPr/>
          <p:nvPr/>
        </p:nvPicPr>
        <p:blipFill>
          <a:blip r:embed="rId1"/>
          <a:stretch/>
        </p:blipFill>
        <p:spPr>
          <a:xfrm>
            <a:off x="4038480" y="0"/>
            <a:ext cx="5133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886200" cy="10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</a:rPr>
              <a:t>يا أيهذا الرأسُ ما هذهِ الأوجاعْ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</a:rPr>
              <a:t>مِنكَ دِماءٌ تجْري سيلاً بلا انقطاع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</a:rPr>
              <a:t>فيا لهُ  من سوءٍ يُجزى بهِ الجميل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</a:rPr>
              <a:t>إليكَ راسَ ربِّي سلامَنا الجزيل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ESUS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38280" y="0"/>
            <a:ext cx="64771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ناسُ هاكُم جسمَ المُخلّصِ الذب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هلْ رأيتُم سُقماً كسُقمِ ذا الجريحْ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ِن أجلِكُم دِماهُ تسيلُ يا أُمَم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قمةٍ لرأسٍ لأَخمَصِ القَدَم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aint%20+%20cross+%20jesus" descr=""/>
          <p:cNvPicPr/>
          <p:nvPr/>
        </p:nvPicPr>
        <p:blipFill>
          <a:blip r:embed="rId1"/>
          <a:stretch/>
        </p:blipFill>
        <p:spPr>
          <a:xfrm>
            <a:off x="4000680" y="-1295280"/>
            <a:ext cx="5829120" cy="10210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228600"/>
            <a:ext cx="3657600" cy="10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ا الذي يا ربي قد سبَّبَ الآلام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ِفرْطِ ما جَنَاهُ مِن أَثقلِ الآثام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سيدُ ارحَمْ عبداً يرجو لها الغفر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َهَبْ لهُ مَقامَ السماءِ يا رحمان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riends%20with%20god" descr=""/>
          <p:cNvPicPr/>
          <p:nvPr/>
        </p:nvPicPr>
        <p:blipFill>
          <a:blip r:embed="rId1"/>
          <a:stretch/>
        </p:blipFill>
        <p:spPr>
          <a:xfrm>
            <a:off x="5234040" y="0"/>
            <a:ext cx="39099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5105520" cy="76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يا ربُّ إنَّا نبكي لذا الموتِ الأليم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ومِن صًميمِ قلبٍ ندعوكَ يا رَحي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هبنا سلاماً والْطُفْ بِشعبِكَ الأثيم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ونوِّلْنا أخيراً سعادةَ النّعيمْ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0:32:59Z</dcterms:created>
  <dc:creator>SUZANNE.MD</dc:creator>
  <dc:description/>
  <dc:language>en-US</dc:language>
  <cp:lastModifiedBy>SUZANNE.MD</cp:lastModifiedBy>
  <dcterms:modified xsi:type="dcterms:W3CDTF">2003-03-19T06:35:23Z</dcterms:modified>
  <cp:revision>2</cp:revision>
  <dc:subject/>
  <dc:title>PowerPoint Presentation</dc:title>
</cp:coreProperties>
</file>