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156-E069-454C-9C91-D0878977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E58-8559-461E-A6F7-A0F6FDF7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88F-1A36-446B-9579-091E89CB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EDB-58EB-493F-BF91-5389C033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FD7-1479-4F08-939D-47A41CB6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6B9-FFD3-42B2-94BA-59934968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17A-00D0-4548-8C31-70193293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52B-A946-493A-B2CD-8E6F0BBE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1EE-9DF8-4C19-8E94-AC6852AE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4C1-63D7-444E-A238-F8A51CB2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3B8-C863-4738-9E94-C7BAEBAB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A760-C2BA-4136-815D-26EECAFA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0DAC-0D65-41C1-915F-9797F0D44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57520" y="0"/>
            <a:ext cx="5586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34290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ا لن أرى حباً أعظم وأقوى من حبك فوق الصليب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خترتَه طوعا...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وهو عقابٌ عادلٌ  لآثم متمر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352680" cy="9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شاةٍ تُساقُ للذبح لم تفتح فاكَ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نعجةٍ صامتةٍ اقتادوكَ للصلب هناك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الجلجلة فوق الصليب في الجلجل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29718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ُمنا وعيَّرنا بطرس بالجبن يومَ أَنكر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</a:rPr>
              <a:t>كلُّنا  قد قلنا خائن ليهوذا حين أسلمك</a:t>
            </a:r>
            <a:r>
              <a:rPr b="0" lang="ar-SA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11010960" cy="7924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352680" cy="9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نحن اليوم أمامَ الناس نستحي بك ننك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طعتين من النحاس مثل يهوذا نُسلم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رغم ذاك ... نحن نراك... تنسى أساك...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حبك المتجدد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352680" cy="9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شاةٍ تُساقُ للذبح لم تفتح فاكَ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نعجةٍ صامتةٍ اقتادوكَ للصلب هناك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الجلجلة فوق الصليب في الجلجل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3733920" cy="87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جمع كان ينادي لباراباس يطلق بالإفرا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صلبَك كان مطلبهم أن تُجلد أنت بالكرباج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286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4191120" cy="9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اكموك عيّروك حمّلوك صليب الع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بين لصوص علّقوك أيها القدوس الب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رغم ذاك ... نحن نراك... تنسى أساك...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حبك المتجدد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3352680" cy="9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شاةٍ تُساقُ للذبح لم تفتح فاكَ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نعجةٍ صامتةٍ اقتادوكَ للصلب هناك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الجلجلة فوق الصليب في الجلجل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0:43:39Z</dcterms:created>
  <dc:creator>SUZANNE.MD</dc:creator>
  <dc:description/>
  <dc:language>en-US</dc:language>
  <cp:lastModifiedBy>HANI SAFI</cp:lastModifiedBy>
  <dcterms:modified xsi:type="dcterms:W3CDTF">2003-03-17T14:23:37Z</dcterms:modified>
  <cp:revision>7</cp:revision>
  <dc:subject/>
  <dc:title>PowerPoint Presentation</dc:title>
</cp:coreProperties>
</file>