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DA2-ED7B-4DCD-AE12-641301D1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B02-E7BE-4CFD-AFC0-B743183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5C2-9C72-46AD-BA7F-C29EAF1D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4E5-EA8F-4043-913C-FB1C24B0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ACA-74F2-4D1F-A702-590AB6ED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609-FF79-43B9-93D2-BF1127A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8EB-F6D2-4729-A84F-0C91648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047-A0CB-4058-ABBD-75E108F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96F-264B-4E19-BC41-9B70435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0B6-02B3-456E-AEC5-EFA5D44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549-7D7C-44C0-9FBC-19A71DF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DC8-E6E2-4B6A-90C3-593AD99F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050-2BB8-4F81-89EC-8A7B1EA7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3200400" cy="9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غيثَ المراح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أسبِغ عليه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خيرَ راحِ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بحرَ الج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51460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فَلْيَستنير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ن نورِ وجهِ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ليستريح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ع مَن أرضَ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0:59Z</dcterms:created>
  <dc:creator>HANI SAFI</dc:creator>
  <dc:description/>
  <dc:language>en-US</dc:language>
  <cp:lastModifiedBy>HANI SAFI</cp:lastModifiedBy>
  <dcterms:modified xsi:type="dcterms:W3CDTF">2003-05-19T11:42:17Z</dcterms:modified>
  <cp:revision>1</cp:revision>
  <dc:subject/>
  <dc:title>Slide 1</dc:title>
</cp:coreProperties>
</file>