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7D1-21C9-459D-BD10-09AF0DAD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B12-8E60-41C2-BF26-90903C00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0D1-655D-40AB-AE11-FD33C272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0CA-E8CD-4CB5-B65D-E39D21DA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7D7-7F4F-4712-99BC-C288A36F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25C-FC90-49AE-9DFF-E4FE753E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948-A4ED-43E7-8DC3-0E6066EB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620-680F-4D8E-B8C0-3868305B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DED-F91E-494D-ADE0-33F2DE76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DB6-27A6-4A95-9A05-7C025953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2D4-94A9-40BC-9E25-BFE0BE2C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153-96AC-4C75-8406-BE9DCC10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F335-04D3-41C6-B94B-95DAF1F57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81680" y="0"/>
            <a:ext cx="2362320" cy="48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سيحُ قام من بين الاموات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وطىء الموت بالموت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1996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ووهب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الحيـــــاةَ للذيـــن فــي القبـــــو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8:49:58Z</dcterms:created>
  <dc:creator>SUZANNE.MD</dc:creator>
  <dc:description/>
  <dc:language>en-US</dc:language>
  <cp:lastModifiedBy>HANI SAFI</cp:lastModifiedBy>
  <dcterms:modified xsi:type="dcterms:W3CDTF">2003-04-16T13:50:42Z</dcterms:modified>
  <cp:revision>2</cp:revision>
  <dc:subject/>
  <dc:title>PowerPoint Presentation</dc:title>
</cp:coreProperties>
</file>