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18C-5CAE-491B-8A94-A2713757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F1E-CD8C-47E6-B55A-B9FD0F92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C78-0D27-444E-B4D4-316C8576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79A-9DC3-4800-9FBB-8AC730A7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E262-56C7-49E8-921E-4B08154C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D895-68A5-4CA6-8451-6D8B60B2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0BEA-A2F0-4A69-884D-A128BF4E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AA83-F679-4F89-89C5-261F6B72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F8C2-C983-43F3-BA8B-D25A9833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AE69-61B7-480E-9F47-96EB02F7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CEFD-DD19-4BFF-95FB-92BEF511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68A-B1CB-421C-9BAB-6576C10C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B895-2154-4CB9-B9EA-45F679CD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9EFD-ADBC-4EAF-94D4-E618F287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5DC7-C702-4511-A69F-7EF06EA1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BFC9-1ED0-4897-8160-036C5CC9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2483-BCFF-4339-944B-CCFC92FA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366-35E6-4D3B-B05B-CAAFF5A1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520-344A-452B-B613-1ED9B885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7CC-02F7-4969-B9B2-AEBDCBFD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B41-F787-46F6-BC53-ADC48D7D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C00-9E90-4420-A6DD-50D57D5E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D9C-A446-43C4-B14B-8455BC87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84D-4276-49FB-9DB8-41EFBCC7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92A8-E95F-4CC4-8B67-EF3CAB94EF56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5A18-AD99-4123-A644-1EEF766AE03B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7640" y="260280"/>
            <a:ext cx="6048720" cy="9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 u="sng">
                <a:solidFill>
                  <a:srgbClr val="ffffff"/>
                </a:solidFill>
                <a:uFillTx/>
                <a:latin typeface="Tahoma"/>
                <a:cs typeface="AF_Diwani"/>
              </a:rPr>
              <a:t>نشيد المناولة: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Tahoma"/>
              </a:rPr>
              <a:t>قام الل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ِلتَ المجدَ يا إشعاع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بِ الهادي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ُتَّ جسماً فوقَ العود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بّاً فادي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وتٌ أعطى الـموتى بهجاً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ضاءَ الوعدُ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ورُ الوَعدِ ملءَ الدُّنيا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كَ المجدُ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يدُ الفصحِ بهجُ الروح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عدَ الآلام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ذكراكَ يا ابنَ الله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اضَ الإلهام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لثالوثِ طابَ الـمدحُ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ذبَ الأنغام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شكرانُ ملءَ الدنيا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لءَ الأيام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م اللهُ من مثواهُ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مَ الجبّار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حيي الـموتى حولَ القب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بَّ الأنوار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جدُ الربِّ هزَّ العمق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زَّ الأقط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اجُ الـموتِ أهوى أمسى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زءاً وانهار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ن أقبَلنَ بالأطياب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ادى السّاه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م تطلُبْنَ بينَ الـموتى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حيَّ القاد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خذنَ البشرى للأحبابِ: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مَ الظاف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ُروي الدنيا من يَنبوع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جنبِ الطّاهر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ضُ النّورِ نصفَ الليل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ولَ القب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ثلُ الليلِ الـماحي النّور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لظّه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ـمّا ماتَ عِندَ الظّه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ليلُ حلّ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ـمّا قامَ نِصفَ الليل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نّورُ هلّ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َ القدسِ روحَ الحقّ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بدا الأنو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د أعطَيتَ أهلَ البشرى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اً من ن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جدِّد فينا وسمَ الربّ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لمَ الأبر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إنجيلِ والصَّليب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َهدي الأفك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9:52:31Z</dcterms:created>
  <dc:creator>Charbel Azar</dc:creator>
  <dc:description/>
  <dc:language>en-US</dc:language>
  <cp:lastModifiedBy>Charbel Azar</cp:lastModifiedBy>
  <dcterms:modified xsi:type="dcterms:W3CDTF">2002-07-03T11:15:24Z</dcterms:modified>
  <cp:revision>5</cp:revision>
  <dc:subject/>
  <dc:title>PowerPoint Presentation</dc:title>
</cp:coreProperties>
</file>