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43B-502C-4F7B-A61A-E21E02A6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B9A-A89B-4B37-8CCC-F79816F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636-B8A0-4CAD-B61E-2C68AAAD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3AC-BD74-45F9-9C1A-EB5FCB1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C19-080B-494D-A2A4-80C3183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8CC-331F-4B0F-90D6-5B4B6B04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EDD-6656-435A-8983-79AD742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307-1E8E-4E4F-B48C-5A3DA62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357-5BD2-490B-A177-E004F85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C41-03D1-4050-9B05-ADF1764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87E-0E72-442F-8611-27382EA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8CE-16D0-469C-AEF8-0BF9493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2B4-6F5C-4C77-B33D-A720C2DE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00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800600"/>
            <a:ext cx="7391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اليوم، عُلّقَ على خشب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ذي علَّقَ الأرضَ على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90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كليلٌ من شوك وُضِعَ على هامةِ ملكِ الملائك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رفيراً كاذبا أُلبِسَ، الذي وشَّح السماءَ بالغيوم </a:t>
            </a:r>
            <a:r>
              <a:rPr b="0" lang="ar-SA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1480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قبِلَ لطمةً ، الذي أعتقَ آدمَ في الأُرد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ختَنُ البيعةِ سُمِّرَ بالمسام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ابن العذراءِ طُعِنَ بحربة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2895840" cy="85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Simplified Arabic"/>
              </a:rPr>
              <a:t>نسجدُ لآلِمِكَ أيها المسي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Times New Roman"/>
              </a:rPr>
              <a:t>فأَرِنا قيامَتَكَ المجيدة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47:04Z</dcterms:created>
  <dc:creator>SUZANNE.MD</dc:creator>
  <dc:description/>
  <dc:language>en-US</dc:language>
  <cp:lastModifiedBy>HANI SAFI</cp:lastModifiedBy>
  <dcterms:modified xsi:type="dcterms:W3CDTF">2003-04-16T13:52:11Z</dcterms:modified>
  <cp:revision>2</cp:revision>
  <dc:subject/>
  <dc:title>PowerPoint Presentation</dc:title>
</cp:coreProperties>
</file>