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DA8-9905-41F7-921F-E0ECFBC3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C48-3AA1-4F33-935C-3C3B60EF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0CB-F572-4A85-94A1-F32AC170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1B3-774B-4B60-88E8-F79B457A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D22-FAD5-4C28-83A9-6FC37127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D70-9771-4AC2-BAF0-C93CC42E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1A4-1688-4ED6-9922-AECF9714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C15-5DAA-440E-817E-E6B5E1B1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37D-28BA-4AF0-BE86-AAA2B75C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E47-E0D9-434B-AE6D-23DA3D6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AF6-2112-4DB0-B6EE-3DC77C48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AB5-B55A-433E-8D80-9C166CED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DF41-B6DB-48AC-9F0B-726250F46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7010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قامت مريم بنتُ داود حِذاء العـ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تندبُ إبنَها المصلوب بأيـدي    الجن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رمـحُ الحُزنِ غائــص فـي  نفسه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ومن ألمِـهِ غابـَتْ عـن  حسّه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ثم فاقت الوالدة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صاحـت آه يـا ولـد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3886200" cy="10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حبيبي حبيبـي يـا ولـداه خاطِبْن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ـف أراك عُريـان ولا أندُبـك يا  إ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وجاعك حَرَقَت أكب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آلامـك خرَقـت  فــ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ف تحيــــا والدتـ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ا ولــداه بعـــدَ  موتــك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457200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عـزّ أمك وثمـرتَها الفر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وحيـدْ أبيك وصورتَــه المج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فتراقـَـكْ كسكيـن جرحَتْن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وعذابـك كحربــة طعنَتْنـ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سمــح لـــي أمُــتْ قبل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</a:rPr>
              <a:t>ولا أنـظـــر أحـوالَــــ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أمَّ يســوع بنــتَ 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بِ الأكـ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عـروس الـروحِ القـّدوس الأعظـ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شرِكيـنا بـآلام فادين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زَّينـيـنا بنعـمة بار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Simplified Arabic"/>
              </a:rPr>
              <a:t>لِنخدُمكِ على الدو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مدى الساعـات والأيـام</a:t>
            </a:r>
            <a:r>
              <a:rPr b="0" lang="ar-SA" sz="2400" spc="-1" strike="noStrike">
                <a:solidFill>
                  <a:srgbClr val="cc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54:23Z</dcterms:created>
  <dc:creator>SUZANNE.MD</dc:creator>
  <dc:description/>
  <dc:language>en-US</dc:language>
  <cp:lastModifiedBy>HANI SAFI</cp:lastModifiedBy>
  <dcterms:modified xsi:type="dcterms:W3CDTF">2003-03-14T12:14:02Z</dcterms:modified>
  <cp:revision>3</cp:revision>
  <dc:subject/>
  <dc:title>PowerPoint Presentation</dc:title>
</cp:coreProperties>
</file>