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D6E-07D6-4A8B-BB64-96398B61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594-0C42-4ED3-9B61-A9D4FC22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4ED-6B1B-42A1-8C30-A0F12259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6F7-8A17-411D-B6D1-69DD2986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B576-836F-4DFE-A7DE-E1B9EA0C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7A98-C024-4E8B-8774-37E0CCB5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06DA-86BD-4051-889F-FEC981D4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710F-5D48-416A-915B-CB7B8271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EA73-51D9-4332-9FAE-3AC25D77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D045-12F8-4CCF-BC04-567989F0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3210-0BD3-46A8-B42B-2843770E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4EAA-44F4-4B7C-A8AB-6FB28494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05A4-4AF7-4534-8BA5-BCD509E4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2007-D3E1-4D1B-9676-73493531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E076-4183-43B5-9F6C-AFDCE867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DB02-14C3-4EC4-8403-807C5F2D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51B5-44F4-4B46-A246-04D7A651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88A-66DC-4CB3-A08B-40326A43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BCA-FC45-4C63-A366-5318DF35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E64-8C12-4172-A794-6B374362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9397-D2D1-4ADB-A946-2E0A5A9A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2A6-F973-4D06-9C02-66B57D07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82D-1479-4692-B22C-DF6DC7BA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6887-642E-405A-A02D-06E132A4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B9C3-6776-49A7-BC06-2A701675031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C57C-984B-4264-BA28-AE63F5AA14C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900000"/>
            <a:ext cx="7993080" cy="769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ffffff"/>
                </a:solidFill>
                <a:latin typeface="Tahoma"/>
                <a:cs typeface="????Boutros Rokaa"/>
              </a:rPr>
              <a:t>نشيد القيامة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بعد أيام ثلاث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عْدَ أَيَّامٍ ثلاثة صَارَ تَارِيخٌ جَدِيد. كَانَ مَوْتٌ، كَانَ بُغْضٌ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َمْ يَكُنْ يَسُوعُ قَام ثمَّ قَام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أَتَى بالحُبِّ يَهْدِينَا، هَللويا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ُؤْمِنُ باللهِ فِي ثالُوثِه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الْفَادِي وَآبٌ يَرْتَضِينَ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وحُهُ القُدُّوسُ يَحْمِينَا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ِنَّهُ الحَقُّ وَآمَالُ الْقِيَامَة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135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قَدْ مَاتَ فِي ظِلِّ الْقِيَامَة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َمْ يَمُتْ، قَامَ عِنْدَ الْفَجْرِ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يْنَ الْجُنْدِ، رُغْمَ الْمَوْتِ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ْدَ الفَجْرِ قَامَ. بَيْنَ الْجُنْدِ قَامِ،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غْمَ الْمَوْتِ قَامَ، هللويا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ُؤْمِنُ باللهِ فِي ثالُوثِه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الْفَادِي وَآبٌ يَرْتَضِينَ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وحُهُ القُدُّوسُ يَحْمِينَا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ِنَّهُ الحَقُّ وَآمَالُ الْقِيَامَة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َارَعَتْ فِي الْفَجْرِ نَحْوَ الْقَبْرِ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ُلُّ الْمَرْيَمَاتْ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"أَيْنَ يَسُوعُ "؟ سَأَلْنَ: "أَيْنَ هُو"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الُوا لَهُنَّ: "قَامَ، حَقّاً قَام"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365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ْدَ الفَجْرِ قَامَ.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يْنَ الْجُنْدِ قَامِ،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غْمَ الْمَوْتِ قَامَ، هللويا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ُؤْمِنُ باللهِ فِي ثالُوثِه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الْفَادِي وَآبٌ يَرْتَضِينَ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وحُهُ القُدُّوسُ يَحْمِينَا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ِنَّهُ الحَقُّ وَآمَالُ الْقِيَامَة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2:38:19Z</dcterms:created>
  <dc:creator>Charbel Azar</dc:creator>
  <dc:description/>
  <dc:language>en-US</dc:language>
  <cp:lastModifiedBy>-</cp:lastModifiedBy>
  <dcterms:modified xsi:type="dcterms:W3CDTF">2003-04-27T09:26:49Z</dcterms:modified>
  <cp:revision>9</cp:revision>
  <dc:subject/>
  <dc:title>Slide 1</dc:title>
</cp:coreProperties>
</file>