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4328-0BB2-4035-9643-975D6C4B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EA63-018F-44F5-9E1B-DC0ED26C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2260-96BE-4B67-8E0D-3F2D566D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6172-B9BB-4E21-8904-9019B7C1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7AAE-DA9F-49BD-9377-FE59ACB6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99CF-2750-4587-A0A9-22D51AF0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58A5-4E44-4C4E-BF09-1947EFDD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7B0-E60A-421E-BC2D-D738B307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6882-808A-4D20-8FD6-03088367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BA0B-1D85-4729-AA70-65B138C9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5EC9-5C1F-4B5F-8A4B-6A7CD569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82B3-09FB-4BF2-862F-C1DADD6F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ECDE-4C1D-470A-9D57-2E79735A1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124080"/>
            <a:ext cx="32004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cc"/>
                </a:solidFill>
                <a:latin typeface="Arabic Transparent"/>
              </a:rPr>
              <a:t>يا سيدي كم كان قاسيا موتُ صليبِ العار وقبلَ أن يحمِلَك حمَلته يا با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80880"/>
            <a:ext cx="3581280" cy="61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فوق الصليب يا حبيبي كم لقيتَ آلا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ممَّن تمادَوا في إيذائك وقد غفرتَ آث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124080"/>
            <a:ext cx="32004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cc"/>
                </a:solidFill>
                <a:latin typeface="Arabic Transparent"/>
              </a:rPr>
              <a:t>يا سيدي كم كان قاسيا موتُ صليبِ العار وقبلَ أن يحمِلَك حمَلته يا با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988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380880"/>
            <a:ext cx="2971800" cy="85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هل كل هذا يا إلهي كي تُعيدَ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إلى حِماكَ أحيا معك وتعزين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124080"/>
            <a:ext cx="32004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cc"/>
                </a:solidFill>
                <a:latin typeface="Arabic Transparent"/>
              </a:rPr>
              <a:t>يا سيدي كم كان قاسيا موتُ صليبِ العار وقبلَ أن يحمِلَك حمَلته يا با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94000" y="0"/>
            <a:ext cx="4950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380880"/>
            <a:ext cx="3581280" cy="60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يا ليتَ قلبي يدنو منك فأفوزُ ب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أحيا لأجلك أمينا خاضعاً ل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124080"/>
            <a:ext cx="32004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cc"/>
                </a:solidFill>
                <a:latin typeface="Arabic Transparent"/>
              </a:rPr>
              <a:t>يا سيدي كم كان قاسيا موتُ صليبِ العار وقبلَ أن يحمِلَك حمَلته يا با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09:22:10Z</dcterms:created>
  <dc:creator>SUZANNE.MD</dc:creator>
  <dc:description/>
  <dc:language>en-US</dc:language>
  <cp:lastModifiedBy>HANI SAFI</cp:lastModifiedBy>
  <dcterms:modified xsi:type="dcterms:W3CDTF">2003-03-14T12:19:06Z</dcterms:modified>
  <cp:revision>2</cp:revision>
  <dc:subject/>
  <dc:title>PowerPoint Presentation</dc:title>
</cp:coreProperties>
</file>