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00E-D74F-444F-903F-1A06A52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470-711F-4739-A9D1-A5BB039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349-6B96-4E67-8DAD-A99BD763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2DD-E26D-4822-A91B-24EE9EEC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3C1-8BA1-49BE-A0A5-F7CA260D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1E6-9364-45B7-8262-2D3C1A5E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1B5-EFC4-4499-AD3F-6D39FE3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128-CF47-41D7-B8B4-28938098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FD9-726D-4B0B-B9AF-14899FC0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1C-E65B-4A5D-8591-804D36E2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998-2EEC-4C12-9386-B1C1B80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C59-B1B7-4C56-90C4-4F61A90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2BA-5B50-4C98-82D8-D3EDB50D8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باركٌ من فدانا بموتِهِ وأحيانـ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فادينـــا حقّقْ فينا سرَّ الفـد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لامَ وموتـَـكَ والقيامـــــ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4956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يـا مـن غـدا في المماتِ سـرَّ الفِدا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للحياةِ ربَّ الجودِ فوقَ العودِ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ــا للحـبِ  حـبِّ الـربِ غمـرِ الحــبِ اللامحـدودِ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525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بارك يومُ الجمعة يسقـي الرجـا صِدقَ الدمعـ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دو البيعـة لفاديهـا الإبـنِ الحبيب الممدودِ على الصليب رهنِ التعذ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809880" cy="10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مجدُ الآبَ المحجوب ونحمَدُ الإبنَ المصلوب نشدو الشك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ـروحَ الحنـّانْ ألثالوثَ اللّـهَ الأوحدْ سراً يُعبَدْ طولَ  الأزما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2754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11:23Z</dcterms:created>
  <dc:creator>SUZANNE.MD</dc:creator>
  <dc:description/>
  <dc:language>en-US</dc:language>
  <cp:lastModifiedBy>HANI SAFI</cp:lastModifiedBy>
  <dcterms:modified xsi:type="dcterms:W3CDTF">2003-04-16T13:59:54Z</dcterms:modified>
  <cp:revision>3</cp:revision>
  <dc:subject/>
  <dc:title>PowerPoint Presentation</dc:title>
</cp:coreProperties>
</file>