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EC91-2D79-45F5-964E-E7D1F4765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B10C-4035-4CEA-9BEA-68683FA19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F5F1-16E7-460F-9BFB-F135D73DF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4A96-5E37-452E-9D3A-FC934894B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1157-0AC2-435B-A5C8-4EB9C8AFA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B6CD-728F-4F98-85C7-D3CA9B659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B5F9-E45D-46A1-9440-43B8DC131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6529-1660-42C3-AE7D-0FF1BE20C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8750-ACCE-4E6B-B783-FB3E8A497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A0BC-357A-442F-80C3-72DCA0645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E741-E893-456E-811B-B1C0F618B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837E-5806-4772-B3E7-AA9DB4160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9B039-CF6B-47DC-B0BE-3E6D1427A6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25421725fFfbzrbssG_th" descr=""/>
          <p:cNvPicPr/>
          <p:nvPr/>
        </p:nvPicPr>
        <p:blipFill>
          <a:blip r:embed="rId1"/>
          <a:stretch/>
        </p:blipFill>
        <p:spPr>
          <a:xfrm>
            <a:off x="0" y="0"/>
            <a:ext cx="5048280" cy="48006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572000" y="0"/>
            <a:ext cx="4343400" cy="61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و الرب، هو الرب،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قد قام من الأموات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هو الرب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كل ركبة تنحني ولسانٍ يعترف أنَّ يسوعَ المسيح                 هو الرب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5181480"/>
            <a:ext cx="883908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حقا قام، حقا قام،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قد قام من الأموات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حقا قا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كل ركبة تنحني ولسانٍ يعترف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نَّ يسوعَ المسيح حقا قام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2T15:45:11Z</dcterms:created>
  <dc:creator>USER</dc:creator>
  <dc:description/>
  <dc:language>en-US</dc:language>
  <cp:lastModifiedBy>USER</cp:lastModifiedBy>
  <dcterms:modified xsi:type="dcterms:W3CDTF">2003-02-08T04:20:10Z</dcterms:modified>
  <cp:revision>6</cp:revision>
  <dc:subject/>
  <dc:title>PowerPoint Presentation</dc:title>
</cp:coreProperties>
</file>