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75C6-4E93-4D7C-94FF-8014CEB5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8495-9934-4C86-AABB-652EE08B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BCCB-08D8-498E-AA6A-EF0A5E0E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C43B-646A-4497-868A-21EEB319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8364-09D3-4E21-A027-48EA869E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72FD-E118-433B-8D9F-3946213B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5ABC-A7F1-4388-94F3-19C2E29C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24DF-3A9A-4FD8-8283-59F3BEAB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CF1E-7924-4E72-8133-72ABA910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B912-0C96-450F-AC62-D3E3766C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22AD-E1EE-499C-BC0B-CDD618D0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F239-0728-4F47-9339-207C9232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FB6C-3EC4-42F2-8AA9-AE0EB0DFA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he%20face%20of%20jesuss" descr=""/>
          <p:cNvPicPr/>
          <p:nvPr/>
        </p:nvPicPr>
        <p:blipFill>
          <a:blip r:embed="rId1"/>
          <a:stretch/>
        </p:blipFill>
        <p:spPr>
          <a:xfrm>
            <a:off x="3505320" y="0"/>
            <a:ext cx="5673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352680" cy="83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سألتك الغفـران يا من صلب فوق الصليـــب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سألتُكَ العَوْن يا من تعذب من أجل أن يحيا الإنسان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tat1305" descr=""/>
          <p:cNvPicPr/>
          <p:nvPr/>
        </p:nvPicPr>
        <p:blipFill>
          <a:blip r:embed="rId1"/>
          <a:stretch/>
        </p:blipFill>
        <p:spPr>
          <a:xfrm>
            <a:off x="4273560" y="0"/>
            <a:ext cx="48704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4191120" cy="86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Simplified Arabic"/>
              </a:rPr>
              <a:t>عرفت العذاب فأنقذنــي من ظلمة العـــذا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Simplified Arabic"/>
              </a:rPr>
              <a:t>فأغفــر لي وسامحنـي وأمنـح قلبـي ايمانـا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Simplified Arabic"/>
              </a:rPr>
              <a:t>أغلــب به العالم من أجل محبتـــك ... </a:t>
            </a: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آمين</a:t>
            </a:r>
            <a:r>
              <a:rPr b="0" lang="ar-SA" sz="2400" spc="-1" strike="noStrike">
                <a:solidFill>
                  <a:srgbClr val="cccc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09:35:57Z</dcterms:created>
  <dc:creator>SUZANNE.MD</dc:creator>
  <dc:description/>
  <dc:language>en-US</dc:language>
  <cp:lastModifiedBy>SUZANNE.MD</cp:lastModifiedBy>
  <dcterms:modified xsi:type="dcterms:W3CDTF">2003-03-16T09:41:50Z</dcterms:modified>
  <cp:revision>2</cp:revision>
  <dc:subject/>
  <dc:title>PowerPoint Presentation</dc:title>
</cp:coreProperties>
</file>