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CAA8-9C50-45FA-B9C9-3D054CE2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63DC-CD83-477B-8BAF-91075F52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36D-7301-4B08-85B4-4DAF84C5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A3B5-6333-44E0-922A-D4D50822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BE8-9D09-44EF-BB0E-D188317E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0FCA-BDE9-46A1-AAC9-A36451AD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75C0-EBBA-4CDD-92EB-FABCD40B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14C9-55DB-4C26-9C84-C3A5B07C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5523-8FD8-4EDA-931A-5C6353C7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C62-CE06-4FD2-A58C-8AB374AE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0F59-98DD-45C1-AA2A-564EEB41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BA13-209E-4D99-B093-A24DD2FC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EED9-D063-4C60-AFE4-98D50BF813DA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0"/>
            <a:ext cx="693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000000"/>
                </a:solidFill>
                <a:uFillTx/>
                <a:latin typeface="Times New Roman"/>
                <a:cs typeface="Diwany6 Normal"/>
              </a:rPr>
              <a:t>نشيد المناولة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Tahoma"/>
                <a:cs typeface="????Boutros Rokaa"/>
              </a:rPr>
              <a:t>لوحي يا غصون الز يت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</a:t>
            </a:r>
            <a:br>
              <a:rPr sz="8200"/>
            </a:b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عّي يا قدس التذكار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بل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غير بل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6720" y="0"/>
            <a:ext cx="6696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ردّي ك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ناس زغار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صللوا للفجر الب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 الف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</a:t>
            </a:r>
            <a:br>
              <a:rPr sz="8200"/>
            </a:b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عوب الأرض تهنّ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مشعال السلم ال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36720" y="0"/>
            <a:ext cx="6696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خلّيكي بإلف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غنّي إنت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قدس بلادي هوشعنا الربّ الف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 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</a:t>
            </a:r>
            <a:br>
              <a:rPr sz="8200"/>
            </a:b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سوع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تمّ الاطفال غنيّة صوت الشادي 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36720" y="0"/>
            <a:ext cx="6696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إسمك عاطول الأجيال عم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تهلّلْ وتنادي هوشعنا الربّ الفادي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</a:t>
            </a:r>
            <a:br>
              <a:rPr sz="8200"/>
            </a:b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ي بيت لحم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ميلادك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أطفال انقطفوا شهاد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36720" y="0"/>
            <a:ext cx="6696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اليوم شهدوا بأعيادك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غنوا بالقدس زياد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 الف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20:34:43Z</dcterms:created>
  <dc:creator>Charbel Azar</dc:creator>
  <dc:description/>
  <dc:language>en-US</dc:language>
  <cp:lastModifiedBy>Charbel Azar</cp:lastModifiedBy>
  <dcterms:modified xsi:type="dcterms:W3CDTF">2003-03-14T21:26:50Z</dcterms:modified>
  <cp:revision>4</cp:revision>
  <dc:subject/>
  <dc:title>Slide 1</dc:title>
</cp:coreProperties>
</file>