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3AB-417B-4E45-B8DA-A0DD13B5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751-3FB5-4527-92D1-443A0A14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AEE-6A1D-4ECE-9DD0-24E2DE09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A6E-A7E2-4BAD-A27D-10A29234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90A-FD5F-4886-BA5A-09D3130D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272-B100-4DB5-B9AD-8D905E65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1BA-65A2-49DE-9015-6E67D2FB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D77-5766-4F77-B4B2-50C7411D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99C-91DF-4F2F-AEF3-ACD97097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2BE-BC48-4496-AE5E-A7A73FC6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E1C-FF86-4C16-BAD8-8EE5DB3D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2D5-D553-48E7-941F-17449C61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03FD-7D83-4B54-8CF3-E835B1F53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-face+thorns+blood" descr=""/>
          <p:cNvPicPr/>
          <p:nvPr/>
        </p:nvPicPr>
        <p:blipFill>
          <a:blip r:embed="rId2"/>
          <a:stretch/>
        </p:blipFill>
        <p:spPr>
          <a:xfrm>
            <a:off x="43020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267080" cy="9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في مشهدٍ أدمى العيون في أَلمٍ لم ينت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ربُّ السماءِ قد روى أرضاً طَغَتْ من دم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أَذكُرُ أني يَومها شاركْتُ في تسمير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عَيني بعينهِ التَقَت رأيتُ دمعةً وق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uswep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0" y="3886200"/>
            <a:ext cx="4572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أحبَبْتُكم للمنتهى  أحببتكم بلا حد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وصيَّتي " حبّوا كما  أحببتكم بلا حدود</a:t>
            </a:r>
            <a:r>
              <a:rPr b="1" lang="ar-SA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"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257786BKgRhTuZiB_ph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0"/>
            <a:ext cx="3657600" cy="11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عشتُ أياماً طَوَت قلباً لَوى مِن كَرْبِ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ما استطعتُ لَحظَةً أن أَختفي مِن حبِّ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تابَ قلبي نادماً فذاق حُبَّ رَبِّ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جثو وقلبي ينسبي إذ أَسمع الفادي يقول</a:t>
            </a:r>
            <a:r>
              <a:rPr b="1" lang="ar-SA" sz="4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: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7112176uwhvKdoRUB_ph" descr=""/>
          <p:cNvPicPr/>
          <p:nvPr/>
        </p:nvPicPr>
        <p:blipFill>
          <a:blip r:embed="rId1"/>
          <a:stretch/>
        </p:blipFill>
        <p:spPr>
          <a:xfrm>
            <a:off x="3809880" y="0"/>
            <a:ext cx="542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9880" cy="89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ندما يُسيءُ لي أخٌ قريبٌ أن بعيد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تغتلي في داخلي جميعُ أَصْنافِ الوَ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شِكُ أن أَرُدَّها ضِعفاً بإصرارٍ يز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فجأةً يَحصُرُني صوتٌ من العُلى يقول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0:32:07Z</dcterms:created>
  <dc:creator>SUZANNE.MD</dc:creator>
  <dc:description/>
  <dc:language>en-US</dc:language>
  <cp:lastModifiedBy>SUZANNE.MD</cp:lastModifiedBy>
  <dcterms:modified xsi:type="dcterms:W3CDTF">2003-03-10T10:45:09Z</dcterms:modified>
  <cp:revision>1</cp:revision>
  <dc:subject/>
  <dc:title>PowerPoint Presentation</dc:title>
</cp:coreProperties>
</file>