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5A2-C741-4DC5-AC51-B0E1407E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35F-AD2E-43D7-8154-10B25D86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F12-C35F-470C-8272-A67F79D5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FF2-3395-41CC-85CD-593E3328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FEC-9C4B-4648-B8ED-5B133887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211-3E3F-493A-A71F-0354F66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ABD-732D-4FB9-983A-F438DDCB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C41-7C1B-4ECA-BB29-08C2B223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F97-2274-4C54-A78E-649554F9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58A-D27C-4712-BCC9-A9C64BCD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582-E79B-4073-BFD2-7D5657F9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068-0CE2-45F3-B76C-C856DAD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26D5-65A6-4A32-847C-DF126E53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هو ملك المجد كيف ندعوه   هو من به كل الشعب موع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كلِّ الأرضِ ذاع مجد فادينا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لساكن بيننا بلمسةٍ يشف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حياته لمنحه الخلاص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هو حامل كل خطايا النا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قام ألهنا فقهر الخطيئة 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من السماء رؤية جدي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4:16:19Z</dcterms:created>
  <dc:creator>USER</dc:creator>
  <dc:description/>
  <dc:language>en-US</dc:language>
  <cp:lastModifiedBy>USER</cp:lastModifiedBy>
  <dcterms:modified xsi:type="dcterms:W3CDTF">2003-02-08T07:35:43Z</dcterms:modified>
  <cp:revision>2</cp:revision>
  <dc:subject/>
  <dc:title>PowerPoint Presentation</dc:title>
</cp:coreProperties>
</file>