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A3F-3A1F-4E04-9F55-2B73FB4E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5C54-B5B2-47B5-BAFA-D66401B8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D3D-E156-42B7-83A5-AA8BD139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566-EE27-4577-B443-632C9C78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DC49-41F8-4329-99AC-9908CF47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3BB-6317-48E6-970C-90408EFB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EFAA-2D64-43C3-AC6A-2A849455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E3F-7CFD-42F6-AB00-57030058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BD0-2B69-4D9E-96B7-C45C07E1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DA1-9F0E-45AC-85CD-CA28BA85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0CE-C451-49AF-822C-F6606872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DBCF-0126-4DDF-A6ED-4AD54811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DFBE-8667-486E-9957-0778A84BE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8600"/>
            <a:ext cx="4343400" cy="9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هُوذا قَدْ صارَ لَيْلٌ           مُظلِمٌ نِصْفَ النَّهارْ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والصُّخورُ الصُّمُ شُقَّتْ       فلِماذا ذاكَ صارْ؟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ذاقَ ربُ المجدِ مَوتاً         بعدَ صلبٍ واحتقارْ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351760" cy="739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3962520" cy="115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أُنظروا كيفََ يَداهُ            سُمِّرَتْ فوقَ الخَشَبْ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ولهُ إكليلُ شَوكٍ              نابَ عنْ تاجِ الذَّهبْ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آهِ ما أَقسى عُداةً            صَنَعَتْ هذا العَجَب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581280" cy="117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أُنظروا كيفَ دِماهُ           قطَرَتْ مِنْ جَنبِهِ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واسمعوا صوتَ أَنينٍ           صاعدٍ منْ قلبِهِ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يا تُرى ذاكَ لماذا            هلْ لَكُمْ عِلمٌ بِهِ؟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81600" y="0"/>
            <a:ext cx="5162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657600" cy="9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بِالخطايا قدْ وُلِدنا            مُسْتَحقِّينَ الغَضَبْ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أتانا وَفدانا                 مِنْ عَذابٍ في اللّهب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يا أُلي الآثامِ أَصغُوا          وَاعرِفُوا هذا السَّبَب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451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28600"/>
            <a:ext cx="4343400" cy="11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ِرفعوا الأَيْدي وَصَلُّوا        واشْكُرُوا ربَّ الفِدَ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طلُبُوا عَفواً وَظَلّوا         قائِلينَ سُجّد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َدْ قَبِلْتَ المَوتَ طَوعاً        مُنِْقذاً أَهلَ الرَّد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9:37:01Z</dcterms:created>
  <dc:creator>SUZANNE.MD</dc:creator>
  <dc:description/>
  <dc:language>en-US</dc:language>
  <cp:lastModifiedBy>HANI SAFI</cp:lastModifiedBy>
  <dcterms:modified xsi:type="dcterms:W3CDTF">2003-04-17T11:11:47Z</dcterms:modified>
  <cp:revision>2</cp:revision>
  <dc:subject/>
  <dc:title>PowerPoint Presentation</dc:title>
</cp:coreProperties>
</file>