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E04-315F-4FCE-9252-F9EE8BD3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9EC-9644-45D2-86B0-DE2DC8B6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15E-6A49-47B8-838E-9C06996F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235-95F8-4BAB-9C87-6EA8B454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12B-4D81-4D40-ADAA-F5A80B40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AD9-78DC-45EA-83A0-CD5D7CD3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31F-43D7-4114-B31E-47028DCB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C92-DB1B-4D6B-A548-56E84909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514-CE26-40F4-B03D-3DAFE1D8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B8B-6DB0-4F08-BB93-023A5815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1EB-AF35-44B1-BF42-296647FC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4A6-3170-4E18-8611-187E30EC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11A9-E07D-42AD-B9E1-F6C39ACAF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19480" y="0"/>
            <a:ext cx="5924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048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 القيامة ، مَن آمنَ بي يَحيا وإن م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0"/>
            <a:ext cx="2362320" cy="9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حنُ الذين لنا باكورةُ الروح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ئنُ منتظرين التّبني، إفتداءَ أجسادنا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7004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ذا كان أحدٌ في المسيح فهو خلقٌ جد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42:38Z</dcterms:created>
  <dc:creator>SUZANNE.MD</dc:creator>
  <dc:description/>
  <dc:language>en-US</dc:language>
  <cp:lastModifiedBy>HANI SAFI</cp:lastModifiedBy>
  <dcterms:modified xsi:type="dcterms:W3CDTF">2003-04-16T14:08:13Z</dcterms:modified>
  <cp:revision>2</cp:revision>
  <dc:subject/>
  <dc:title>PowerPoint Presentation</dc:title>
</cp:coreProperties>
</file>