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109-0657-4394-BE95-C1EBA6A5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999-35D4-4A5D-BE0B-FB15CE81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DDF-FDBE-40B4-9637-E283B025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7F6-37BF-42E1-A4F9-BF6E0F73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C158-135C-4948-996E-082CC57F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592-2C0E-4D68-AF15-B26A9FF1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9A6B-D42E-44D5-A5EA-1B670591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0D7A-C5B6-4E01-A2D8-F5112ADA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9503-A6F0-4DD1-9296-13C29557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560B-7217-4246-85F7-7AE7B371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A540-E142-4CE2-AADB-43ED3BF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62B-0EB6-4945-9B48-AB988EBD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53A3-F30B-4E99-A01C-6CF578F8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0489-7DD7-48A4-9304-CDA2896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2B5D-195F-4C77-AFDF-79D3EAB1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917E-81B9-4554-8F08-34A97D1F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98B-893A-41FF-856A-D656B271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04C-5B13-4FA5-BB52-6442C035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028-86CD-49A2-8220-02733F68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0F3-4C10-4379-B45B-4364A138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509-4B82-4413-A520-F83C0BA0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AE1-FE7A-469D-8D38-AC8DAEC9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358-B992-442D-B882-25B1C262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CD2-8003-46B7-806D-B49EEF77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080A-A998-4F4B-B45D-186594E8264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F3C3-9B3D-474B-A157-1001BC92265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900000"/>
            <a:ext cx="7993080" cy="769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ahoma"/>
                <a:cs typeface="????Boutros Rokaa"/>
              </a:rPr>
              <a:t>نشيد القيامة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بعد أيام ثلاث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أَيَّامٍ ثلاثة صَارَ تَارِيخٌ جَدِيد. كَانَ مَوْتٌ، كَانَ بُغْضٌ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كُنْ يَسُوعُ قَام ثمَّ قَام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أَتَى بالحُبِّ يَهْدِينَا، هَ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قَدْ مَاتَ فِي ظِلِّ الْقِيَامَة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مُتْ، قَامَ عِنْدَ الْفَجْرِ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، رُغْمَ الْمَوْت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 بَيْنَ الْجُنْدِ قَامِ،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رَعَتْ فِي الْفَجْرِ نَحْوَ الْقَبْر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لُّ الْمَرْيَمَاتْ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"أَيْنَ يَسُوعُ "؟ سَأَلْنَ: "أَيْنَ هُو"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ُوا لَهُنَّ: "قَامَ، حَقّاً قَام"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36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 قَامِ،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2:38:19Z</dcterms:created>
  <dc:creator>Charbel Azar</dc:creator>
  <dc:description/>
  <dc:language>en-US</dc:language>
  <cp:lastModifiedBy>-</cp:lastModifiedBy>
  <dcterms:modified xsi:type="dcterms:W3CDTF">2003-04-27T09:26:49Z</dcterms:modified>
  <cp:revision>9</cp:revision>
  <dc:subject/>
  <dc:title>Slide 1</dc:title>
</cp:coreProperties>
</file>