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500E-160D-43C0-9C6A-2A17C78F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C1C2-DCFF-416F-BB15-87FC1B63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51DA-CB77-4985-9D4A-A193041F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18F6-7FD1-4F2A-A534-2788A941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1B89-F886-4AE4-8908-D05C3354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7C79-B672-4EC9-BC4F-D5AE2B36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657C-4A12-4905-A41B-73CE1B8E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962B-8756-40F8-80B8-9CCD9516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2BF8-873D-4B38-85C1-9B59A908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6C46-1F17-4CB7-B3C9-5ACA9172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2AF9-959C-4580-8615-EBED4382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AF6B-74A5-4F06-B3F9-7CA5C67C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0870-59C0-442B-B799-D3EA2A59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FF0E-9155-44E4-A4C4-75F783BE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7B61-4E38-4B63-B5F4-BD4CF4E1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1785-7F2B-4FF0-AE01-517E9D05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6DC2-DA6F-4556-B330-10AFA483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87AE-D1F7-4904-9433-421ABB33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28B7-9D8E-4B67-AEFE-F0445437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742C-5843-482B-88EF-5F9F268E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0EA7-9CA3-48DB-80B6-D6665DCB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4AF2-1E72-41FD-8F9F-6CBA9CC4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1B3A-0AD9-4FED-BE3A-43825303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03C3-ED8A-4580-A03E-9746FAF2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0458-2282-4AB0-B229-589A3BF82460}" type="slidenum">
              <a: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1948-B2BD-48B9-9636-232A4DB5CD2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052640"/>
            <a:ext cx="5292720" cy="696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فاجعلنا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شهودَ قيامتِكَ 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6000" y="28440"/>
            <a:ext cx="5076720" cy="10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ربَّنا غلبتَ الـموتَ بالـموتِ لتكونَ لنا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الحياة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156280"/>
            <a:ext cx="6659640" cy="33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????Boutros Rokaa"/>
              </a:rPr>
              <a:t>ربنا غلبت الموت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0"/>
            <a:ext cx="8136000" cy="851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Arial Unicode MS"/>
                <a:cs typeface="Akhbar MT"/>
              </a:rPr>
              <a:t>لأجلِ زلاّتِنا ماتَ الـمسيح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Arial Unicode MS"/>
                <a:cs typeface="Akhbar MT"/>
              </a:rPr>
              <a:t>ولأجلِ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Arial Unicode MS"/>
                <a:cs typeface="Akhbar MT"/>
              </a:rPr>
              <a:t>تبريرِنا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Arial Unicode MS"/>
                <a:cs typeface="Akhbar MT"/>
              </a:rPr>
              <a:t>قد قام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052640"/>
            <a:ext cx="5292720" cy="696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فاجعلنا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شهودَ قيامتِكَ 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6000" y="28440"/>
            <a:ext cx="5076720" cy="10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ربَّنا غلبتَ الـموتَ بالـموتِ لتكونَ لنا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الحياة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5508720" cy="10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أنتم أموات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للخطيئة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أحياءٌ لله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بالـمسيح يسوع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23840"/>
            <a:ext cx="5292720" cy="696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فاجعلنا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شهودَ قيامتِكَ 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000" y="0"/>
            <a:ext cx="5076720" cy="10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ربَّنا غلبتَ الـموتَ بالـموتِ لتكونَ لنا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الحياة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03640" y="0"/>
            <a:ext cx="5940360" cy="1374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أنتم قمتم مع المسي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حياتُكم هيَ المسي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فانظروا إلى الأعال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إلى مجده ارتفعو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216000" y="1052640"/>
            <a:ext cx="5292720" cy="696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فاجعلنا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شهودَ قيامتِكَ 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8440"/>
            <a:ext cx="5076720" cy="10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ربَّنا غلبتَ الـموتَ بالـموتِ لتكونَ لنا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الحياة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2:33:18Z</dcterms:created>
  <dc:creator>Charbel Azar</dc:creator>
  <dc:description/>
  <dc:language>en-US</dc:language>
  <cp:lastModifiedBy>-</cp:lastModifiedBy>
  <dcterms:modified xsi:type="dcterms:W3CDTF">2003-04-20T07:08:51Z</dcterms:modified>
  <cp:revision>14</cp:revision>
  <dc:subject/>
  <dc:title>Slide 1</dc:title>
</cp:coreProperties>
</file>