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F26-CEC4-4D58-B45E-A9188CDE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147-77AC-455E-85CB-C21E36D1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A36E-79F0-43D0-82D4-88F51C30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02BC-7EA7-481E-928B-024CCE66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2B52-363E-41ED-ABC9-ACA037C5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23C-EC42-442F-ADE6-E2F988D6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CC94-629D-403C-83BB-34398E85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17AC-AF02-42B9-AA76-6E0D7593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30AF-EB31-4A28-9DF1-0AED490C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FDD7-6A84-4D01-BDBC-56CDCACB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572D-E469-4ABA-98AD-BC2A0413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BC73-4B2D-490C-A416-B22BE754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6A06-B36A-4252-84B2-4AC081019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7010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733920" cy="103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قامت مريم بنتُ داود حِذاء العـو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تندبُ إبنَها المصلوب بأيـدي    الجنو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رمـحُ الحُزنِ غائــص فـي  نفسهــ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ومن ألمِـهِ غابـَتْ عـن  حسّها</a:t>
            </a: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ثم فاقت الوالدة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وصاحـت آه يـا ولـدا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3886200" cy="10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حبيبي حبيبـي يـا ولـداه خاطِبْنـ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كيــف أراك عُريـان ولا أندُبـك يا  إب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أوجاعك حَرَقَت أكبا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آلامـك خرَقـت  فــؤا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كيـف تحيــــا والدتـــ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يا ولــداه بعـــدَ  موتــك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4572000" cy="9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يـا عـزّ أمك وثمـرتَها الفريـد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يـا وحيـدْ أبيك وصورتَــه المجيـد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إفتراقـَـكْ كسكيـن جرحَتْنِـ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وعذابـك كحربــة طعنَتْنـِـ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إسمــح لـــي أمُــتْ قبلـ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</a:rPr>
              <a:t>ولا أنـظـــر أحـوالَــــ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98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يا أمَّ يســوع بنــتَ </a:t>
            </a: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Times New Roman"/>
              </a:rPr>
              <a:t>  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الآبِ الأكـ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يا عـروس الـروحِ القـّدوس الأعظـ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أشرِكيـنا بـآلام فادينا</a:t>
            </a: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Times New Roman"/>
              </a:rPr>
              <a:t>  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زَّينـيـنا بنعـمة باري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Simplified Arabic"/>
              </a:rPr>
              <a:t>لِنخدُمكِ على الدو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مدى الساعـات والأيـام</a:t>
            </a:r>
            <a:r>
              <a:rPr b="0" lang="ar-SA" sz="2400" spc="-1" strike="noStrike">
                <a:solidFill>
                  <a:srgbClr val="cc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08:54:23Z</dcterms:created>
  <dc:creator>SUZANNE.MD</dc:creator>
  <dc:description/>
  <dc:language>en-US</dc:language>
  <cp:lastModifiedBy>HANI SAFI</cp:lastModifiedBy>
  <dcterms:modified xsi:type="dcterms:W3CDTF">2003-03-14T12:14:02Z</dcterms:modified>
  <cp:revision>3</cp:revision>
  <dc:subject/>
  <dc:title>PowerPoint Presentation</dc:title>
</cp:coreProperties>
</file>