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6C6-53E0-416C-9E08-650FF83A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ADB-B106-4063-BDFF-0A8ADC9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7B0-2C1F-4FC6-833E-407E334B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B79-A148-4EBD-A1D0-D97ECFFF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F39-92E9-4CC6-9349-D9F7B9DD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D07D-92A2-4996-B808-5356E67D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7ECC-186B-4B87-8D8E-3B65548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ABC9-46D0-48CB-BFEE-F7E8F08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E796-CFEE-4435-869F-52261435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263-D7FD-4934-B142-B715297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6E9-830A-4834-BC72-4E61E69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498-2E2C-430F-993D-BF6FDCF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A44-F150-41C7-9D06-913036C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DB0-4F1B-447A-A6A8-952C02FC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E8EB-6F26-4F70-AF28-BB83697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F05F-908C-4092-A6AB-A0461340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8D73-CE1A-4AA8-8803-2E00F5A8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81E-17F3-4FF6-84BE-8915C8C7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FD8-89F7-40EA-93CA-134B1271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8B9-2719-4DBA-BCE3-8153961A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C3A-FECF-40FC-9F3A-51FD96F1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994-403D-4B01-A039-F118A06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5A8-2318-4B94-A5DC-2358E30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C66-A733-4348-82CD-2815E07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F57D-6FA6-4BEE-9A48-1D613708E3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7F0-B100-4FC6-9B67-71838900D3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10120"/>
            <a:ext cx="5580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59280" cy="117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ا القيامة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ن آمن ب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حيا وإن م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0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حن الذين لنا باكورةُ الروح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ئنُّ منتظرين التبنّي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تداءَ أجسادِن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1640" y="154080"/>
            <a:ext cx="4211640" cy="130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كان أحد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ـي الـمسيح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هو خلقٌ جديد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55:35Z</dcterms:created>
  <dc:creator>Charbel Azar</dc:creator>
  <dc:description/>
  <dc:language>en-US</dc:language>
  <cp:lastModifiedBy>ف</cp:lastModifiedBy>
  <dcterms:modified xsi:type="dcterms:W3CDTF">2006-04-17T20:34:29Z</dcterms:modified>
  <cp:revision>10</cp:revision>
  <dc:subject/>
  <dc:title>Slide 1</dc:title>
</cp:coreProperties>
</file>