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291-25AA-4D8E-8157-C32787DE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301-E6B8-4CB1-A823-938512AD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5C4-E308-44B4-A992-C2E30CB0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DBE-0A7F-44DD-99EF-8849D170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F7E-6663-4813-BE59-2E964F48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467-ECD4-4261-AFD4-120E5E4F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082-BB2D-47EF-BF13-666E3D01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0D1-FC57-427A-8A4B-D3F0D152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4CB-67A3-41F8-B23E-7F481FE4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69C-2E80-41DE-9F05-E6AC07C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B0E-D9CA-40A6-8D44-763D8A61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C6B-A27F-4F39-92D9-4396067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F565-5521-480B-A045-5DAB2182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4920" y="0"/>
            <a:ext cx="472464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مَن أحيانا بالموتِ صلب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إقبل موتانا في دارِ الخُل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غيثَ المراحم أَسبِغ علي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خيرَ راحم يا بحرَ الج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فليستنيروا مِنْ نورِ وجهِ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ولَيستريحوا مَع مَنْ</a:t>
            </a:r>
            <a:r>
              <a:rPr b="1" lang="ar-SA" sz="4000" spc="-1" strike="noStrike">
                <a:solidFill>
                  <a:srgbClr val="ffff66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أرضَو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0400" y="152280"/>
            <a:ext cx="4503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43:33Z</dcterms:created>
  <dc:creator>HANI SAFI</dc:creator>
  <dc:description/>
  <dc:language>en-US</dc:language>
  <cp:lastModifiedBy>HANI SAFI</cp:lastModifiedBy>
  <dcterms:modified xsi:type="dcterms:W3CDTF">2003-04-10T10:32:56Z</dcterms:modified>
  <cp:revision>2</cp:revision>
  <dc:subject/>
  <dc:title>Slide 1</dc:title>
</cp:coreProperties>
</file>