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A30-EAF0-42D0-B3C4-ECBF9B4D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491-7E8B-4220-B057-0B5206FB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4AF-6186-4E75-9E9C-77F97B89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D1D-301F-4F81-88E6-6859FB29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F00-9DFD-4112-BE5F-280DCA00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844-13D9-41A6-A581-F306BDB3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FF1-EF3C-4D75-8D5F-F16FA2E8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B4F-367C-4271-8D67-2996D55F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84F-D1CB-498B-A20F-DEF2EADF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404-AA6B-45E4-A3D7-A128151D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018-FBF5-40A4-BAE6-D1CAD1C4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F4B-000F-4DE2-BE63-96E4BA20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8B41-7C57-48F8-98B6-47E012E24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%20cross%20and%20faces" descr=""/>
          <p:cNvPicPr/>
          <p:nvPr/>
        </p:nvPicPr>
        <p:blipFill>
          <a:blip r:embed="rId1"/>
          <a:stretch/>
        </p:blipFill>
        <p:spPr>
          <a:xfrm>
            <a:off x="403848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86200" cy="10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يا أيهذا الرأسُ ما هذهِ الأوجاعْ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مِنكَ دِماءٌ تجْري سيلاً بلا انقطاع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فيا لهُ  من سوءٍ يُجزى بهِ الجميل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إليكَ راسَ ربِّي سلامَنا الجزيل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SUS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38280" y="0"/>
            <a:ext cx="64771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ناسُ هاكُم جسمَ المُخلّصِ الذب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هلْ رأيتُم سُقماً كسُقمِ ذا الجريحْ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ِن أجلِكُم دِماهُ تسيلُ يا أُمَ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قمةٍ لرأسٍ لأَخمَصِ القَدَ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aint%20+%20cross+%20jesus" descr=""/>
          <p:cNvPicPr/>
          <p:nvPr/>
        </p:nvPicPr>
        <p:blipFill>
          <a:blip r:embed="rId1"/>
          <a:stretch/>
        </p:blipFill>
        <p:spPr>
          <a:xfrm>
            <a:off x="4000680" y="-1295280"/>
            <a:ext cx="5829120" cy="10210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228600"/>
            <a:ext cx="3657600" cy="10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الذي يا ربي قد سبَّبَ الآلا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ِفرْطِ ما جَنَاهُ مِن أَثقلِ الآثا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سيدُ ارحَمْ عبداً يرجو لها الغفر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َهَبْ لهُ مَقامَ السماءِ يا رحمان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riends%20with%20god" descr=""/>
          <p:cNvPicPr/>
          <p:nvPr/>
        </p:nvPicPr>
        <p:blipFill>
          <a:blip r:embed="rId1"/>
          <a:stretch/>
        </p:blipFill>
        <p:spPr>
          <a:xfrm>
            <a:off x="5234040" y="0"/>
            <a:ext cx="3909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5105520" cy="76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يا ربُّ إنَّا نبكي لذا الموتِ الأليم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ومِن صًميمِ قلبٍ ندعوكَ يا رَح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هبنا سلاماً والْطُفْ بِشعبِكَ الأثيم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نوِّلْنا أخيراً سعادةَ النّعيمْ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0:32:59Z</dcterms:created>
  <dc:creator>SUZANNE.MD</dc:creator>
  <dc:description/>
  <dc:language>en-US</dc:language>
  <cp:lastModifiedBy>SUZANNE.MD</cp:lastModifiedBy>
  <dcterms:modified xsi:type="dcterms:W3CDTF">2003-03-19T06:35:23Z</dcterms:modified>
  <cp:revision>2</cp:revision>
  <dc:subject/>
  <dc:title>PowerPoint Presentation</dc:title>
</cp:coreProperties>
</file>