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907-0E00-4C29-A2E2-2E27E408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0FB-E8F7-4999-A390-054CB9D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6D2-998D-4520-91C0-38CC1E40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D2F-0B97-44C5-B7BA-370ADDAD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C10-A2AA-48A8-B0F1-2DD2361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BCF-4F11-41B5-8688-C7EE0DA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F54-A76D-4EC4-9F86-8A160A7D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E4B-1E6C-49BC-BADF-9BBB2341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FB6-6429-4759-B4ED-FFD5C15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B43-A439-4878-BBD0-D7CA29F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A42-D8B3-4E63-9896-967C136C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B15-D27E-4764-A244-B877C2D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0B3-9C8D-4CAE-96C5-8C8C143B7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10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ت الصليب بركع عندك بتأمل في جراحات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بجيلك بجروحي وأعرف أنه شفائي في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تى لو كان الرأس سقيم حتى لو كان الكل مريض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بجيلك بحروحي وأعرف انه شفائي فيك</a:t>
            </a:r>
            <a:r>
              <a:rPr b="0" lang="ar-SA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0903" descr=""/>
          <p:cNvPicPr/>
          <p:nvPr/>
        </p:nvPicPr>
        <p:blipFill>
          <a:blip r:embed="rId1"/>
          <a:stretch/>
        </p:blipFill>
        <p:spPr>
          <a:xfrm>
            <a:off x="373392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143000"/>
            <a:ext cx="34290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جلدتك شُفيت بجلدتك شُفي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esus%20on%20crossss" descr=""/>
          <p:cNvPicPr/>
          <p:nvPr/>
        </p:nvPicPr>
        <p:blipFill>
          <a:blip r:embed="rId1"/>
          <a:stretch/>
        </p:blipFill>
        <p:spPr>
          <a:xfrm>
            <a:off x="4572000" y="0"/>
            <a:ext cx="4865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11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 إساءة لم تُغتفر  وجرحي في القلب انحف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تى لو كان بقالو سنين إيماني فيك إنت يا مع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رفع المجد لاسمك في صليبك قوة شف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وة تحرير قوة تبرير قوة سلام وفرح وعز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39:24Z</dcterms:created>
  <dc:creator>SUZANNE.MD</dc:creator>
  <dc:description/>
  <dc:language>en-US</dc:language>
  <cp:lastModifiedBy>SUZANNE.MD</cp:lastModifiedBy>
  <dcterms:modified xsi:type="dcterms:W3CDTF">2003-03-10T10:05:04Z</dcterms:modified>
  <cp:revision>1</cp:revision>
  <dc:subject/>
  <dc:title>PowerPoint Presentation</dc:title>
</cp:coreProperties>
</file>