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EAF-E749-45D6-81A5-10951EB1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B08-6A57-47F2-9808-2D20469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F8D-D613-4A9B-8CE4-10A4E490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252-CA2B-46EE-9B32-EFFC2A9C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C30C-7F70-4215-8149-4582EC13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66FD-8AD3-4ADC-9CE5-29D086CE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AE69-BFBB-4C10-B18A-854B6376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807F-FC5B-46C1-83EA-F2129AA4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A17B-4AB5-497F-9EDD-7DA023A3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082D-96DC-4B3F-802B-BC433261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6D24-6D4D-437A-9866-3C61F26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EF2-EB72-4762-A746-933E3E18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8887-AC7D-4C8D-BB4E-9A6FE3D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2720-73E7-4085-B5B4-0A2012ED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59E5-485A-4AD6-9C02-575EA094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9927-EB95-45B1-8DAC-57CC1F2C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39B3-6065-4D83-BD37-12E4B44C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8C2-FD35-426E-B4DD-8A8C56C5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D34-18E5-4C8E-8415-49E6D480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639-E040-43C2-B6E3-13CD3488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A97-431E-4C41-9A32-A6DDB104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1BA-F129-4867-AF27-736E92A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6FC-D967-4711-9374-B9ADFCD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30C-2017-44BA-A7DA-23947228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9B32-6CDA-4ED5-8268-0ABAD8BA648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03DE-245D-44BA-AA6D-5B008B02AF8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010120"/>
            <a:ext cx="55800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859280" cy="117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ا القيامة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ن آمن ب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حيا وإن م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10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حن الذين لنا باكورةُ الروح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ئنُّ منتظرين التبنّي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فتداءَ أجسادِن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11640" y="154080"/>
            <a:ext cx="4211640" cy="130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ا كان أحد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ـي الـمسيح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هو خلقٌ جديد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55:35Z</dcterms:created>
  <dc:creator>Charbel Azar</dc:creator>
  <dc:description/>
  <dc:language>en-US</dc:language>
  <cp:lastModifiedBy>ف</cp:lastModifiedBy>
  <dcterms:modified xsi:type="dcterms:W3CDTF">2006-04-17T20:34:29Z</dcterms:modified>
  <cp:revision>10</cp:revision>
  <dc:subject/>
  <dc:title>Slide 1</dc:title>
</cp:coreProperties>
</file>