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B82-E698-42F3-A681-185BD62C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1C0-DBF8-4941-BAFA-3B4F5DA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FFB-9710-4282-8020-55DF2D49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400-8089-4CD8-9B66-7EFCE47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0E1-FEB2-42B5-9045-3218A072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93C-8E91-4BAA-8838-C65AEC17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4831-F9B0-4C1F-899D-365ECF17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2F2D-0520-499F-BA56-F30522F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5216-3374-4FD6-89CE-AA76A87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52B6-95E7-42D4-BEE3-1558A16B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5478-6ED8-4C71-BD95-F795EFB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C16-60B9-4536-90AC-4455B72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8B0-F4A4-408F-928F-674691E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5252-8732-4B5D-B5C0-955A0E5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543-2D96-4F98-82DA-9C561BAA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2C7C-3110-4B6B-B636-7955C582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074-197A-41AB-8A30-37A4067D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5216-AB26-4B50-9256-5D614355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D62C-CE52-4E42-B1D8-C84A764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5C79-6014-45E5-8DA2-D10CDB0C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7BB5-0290-4109-AE32-45F8E22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94AF-7CF7-484E-8470-722CB7D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FB8-8D64-4B67-8606-4377F539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AD67-C54A-4FFA-BBF7-9A23755B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10FE-34A5-420D-A4A1-45F2C27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8963-35CC-4C7B-89AF-3F1034F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2D76-F497-4F51-B236-5432B7C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774B-E918-43FB-8C81-E03C5DE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34E6-FDD3-427D-AEF3-AE556BF6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7E3B-1F97-4928-AAA2-2C450D0D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7D4F-3CD3-4FFC-8863-729A8062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BF55-7400-4B82-B717-B27D829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3CED-2D43-4C68-998D-255156F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39F-FF15-40B9-B102-C1C9153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8F61-E10E-4FA9-A9C7-1FBD2A57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EB97-3678-458F-B4C6-49C7B12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F39D-FE39-4BFA-843D-B18AEDD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0711-9D5B-49EE-8373-BDB7FB2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496E-E9F4-47EC-B56F-611DF8F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617E-F2B7-4B1D-8FA0-67B5852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6345-5249-4CF0-A277-B5B94055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C52E-A854-4B69-9674-794F693F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45841-AEB6-49AA-B60A-C57CA6D1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9447-178A-40E0-9C5D-13B34CE0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B1A-6991-4D13-B134-4F43F80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E155-BE00-4725-A61E-0BA4364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FAA17-DC3C-4FBE-AEA7-1D228A84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EDCC-2B40-49C1-A967-ABDA75A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0860-9575-4D8F-856F-4958D416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4FB3-AECE-4E24-9984-7F12FB30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8785-52ED-432B-AABF-2DE06D1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034E-3908-4FB4-81EC-F442519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EAAE-77C6-44F7-ADA9-DD032FB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7382-9598-4516-87B1-A7ECE187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CEB8-9130-4837-B17B-2638E77C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7CA-805B-4311-9F3A-9328EAC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5AA6-400D-472E-945F-C94F44ED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A0E-74AE-4D26-9514-B7ED08B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BAB-0935-4CF5-8D2D-5CC944E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D24-A82F-4613-8EF4-3C3D819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A2E0-1F6B-4EBE-9E81-EF9E608D07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7241-D60E-4B2D-9F52-E4025C5CB812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F19-7110-42B5-AC38-23BFFF9B43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4F1-5B0D-4F02-9BDA-66DB267F86C8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753-DE76-4E94-9118-054E71A03988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076640"/>
            <a:ext cx="5076720" cy="55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مسيح قام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5236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4080"/>
            <a:ext cx="5435640" cy="115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قُم الله فيتشتّت جميع أعدائ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ea typeface="Akhbar MT"/>
              </a:rPr>
              <a:t> ويهرُب مُبغضوه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6360" y="192240"/>
            <a:ext cx="5364000" cy="79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َبيدوا كما يُبَدَّد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دخان وكم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يذوب الشمع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 الن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-3492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7000"/>
            <a:ext cx="5219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كذلك يهلك الخطأة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 وجهه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يفرحُ الصدِّيقونَ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سرو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5724360" cy="86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هذا هو الي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ذي صنعه الرب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لنفرح ولنتهلَّل ب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ف</cp:lastModifiedBy>
  <dcterms:modified xsi:type="dcterms:W3CDTF">2006-04-17T20:18:52Z</dcterms:modified>
  <cp:revision>7</cp:revision>
  <dc:subject/>
  <dc:title>Slide 1</dc:title>
</cp:coreProperties>
</file>