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31F-1A52-4CD6-B69C-16D6FE59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6AD-F5BC-4C68-BC6F-3DF3C15A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2DA-8A29-4939-ADFC-94CE3D85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E5F-9C4B-4897-81F9-8166509B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164-4025-4B4D-BE2A-7840CEA8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971-D77D-45BB-8303-18565330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7FA-8DE3-4808-955F-140E58EB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45E-B6B0-4A43-9DD8-868CFDE5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95C-425F-451F-89DE-8825A03B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597-6073-46E0-8A6A-DAF6F28D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1E1-2B44-400D-8EAC-25C0AF6B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9DC-D53C-4CC7-BD85-A0061734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D17B-E003-4F06-98C2-A3889A8D7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rucifixion2" descr=""/>
          <p:cNvPicPr/>
          <p:nvPr/>
        </p:nvPicPr>
        <p:blipFill>
          <a:blip r:embed="rId1"/>
          <a:stretch/>
        </p:blipFill>
        <p:spPr>
          <a:xfrm>
            <a:off x="40384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يا شَعْبي وَصَحْب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نَ عهدُ الايمـ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نَ الوفـا بالحـب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والوَداد والرضـو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كالقاتِل والعدو دفعتموني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للهَـو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وما بيـنَ اللصين صَلبتُموني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عُريا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%20on%20cross%20blck%20bkground" descr=""/>
          <p:cNvPicPr/>
          <p:nvPr/>
        </p:nvPicPr>
        <p:blipFill>
          <a:blip r:embed="rId1"/>
          <a:stretch/>
        </p:blipFill>
        <p:spPr>
          <a:xfrm>
            <a:off x="5072040" y="0"/>
            <a:ext cx="4071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487692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cc99"/>
                </a:solidFill>
                <a:latin typeface="Arial"/>
                <a:cs typeface="Simplified Arabic"/>
              </a:rPr>
              <a:t>تُرى ماذا عملـي   فصارَ هذا جَزائـ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ea typeface="Simplified Arabic"/>
              </a:rPr>
              <a:t>  تُرى من هُـوْ المدعي وما هُوْ وُجُوب  قض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ea typeface="Simplified Arabic"/>
              </a:rPr>
              <a:t> أما تَذكُرون الجميـل    اما تَذكُـرون  سخ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cs typeface="Simplified Arabic"/>
              </a:rPr>
              <a:t>كـم عليـلٍ كم سقيـم  </a:t>
            </a:r>
            <a:r>
              <a:rPr b="1" lang="ar-SA" sz="4400" spc="-1" strike="noStrike">
                <a:solidFill>
                  <a:srgbClr val="ffcc99"/>
                </a:solidFill>
                <a:latin typeface="Arial"/>
              </a:rPr>
              <a:t>قـد شفاهُ اعتنـــائ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t12" descr=""/>
          <p:cNvPicPr/>
          <p:nvPr/>
        </p:nvPicPr>
        <p:blipFill>
          <a:blip r:embed="rId1"/>
          <a:stretch/>
        </p:blipFill>
        <p:spPr>
          <a:xfrm>
            <a:off x="4952880" y="0"/>
            <a:ext cx="4772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4876920" cy="87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cs typeface="Simplified Arabic"/>
              </a:rPr>
              <a:t>يا ناظرينَ شِدَّتــي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	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   يا مُبصريـنَ  بلوت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يا سامعيـن بكائــي وحَسَراتِ والدتــ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هل وجدتــم من بُلي وأصابتـه  مصيبتـ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cs typeface="Simplified Arabic"/>
              </a:rPr>
              <a:t>هل مَـــن سُقـي كأسي 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</a:rPr>
              <a:t>واستطعـم  مرارتــي</a:t>
            </a:r>
            <a:r>
              <a:rPr b="1" lang="ar-SA" sz="4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581280" cy="10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يا مريـمُ أمَـي   نَحيبُك يَزيدُ أدمُع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إرحمينـي اسْكُتي اتْركيني وارجِع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يا أبتاه لمــاذا تتركُني  بوجع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خنقتني الحَسَرات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</a:rPr>
              <a:t>وتمزَّقــت أضلعـي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esus%20meets%20his%20mother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8:28:51Z</dcterms:created>
  <dc:creator>SUZANNE.MD</dc:creator>
  <dc:description/>
  <dc:language>en-US</dc:language>
  <cp:lastModifiedBy>SUZANNE.MD</cp:lastModifiedBy>
  <dcterms:modified xsi:type="dcterms:W3CDTF">2003-03-13T05:00:12Z</dcterms:modified>
  <cp:revision>2</cp:revision>
  <dc:subject/>
  <dc:title>PowerPoint Presentation</dc:title>
</cp:coreProperties>
</file>