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76C-29BE-45F9-9BC0-B1C39B32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5AC-9A8C-475F-82DD-E72EB2B8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954-9EE9-4ECD-A987-35D710D2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BCC-84F7-4D32-A6BC-F02C1EF6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0FF-F872-4510-8F4E-572C8461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F29-2B7D-43F5-AF41-6D2398CE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362-8949-4740-8BED-D0E87B3B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455-AE7B-4DAB-AA62-1E9ED35F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AE3-3F38-410B-B80C-783723EB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799-8B7F-4BAC-AFAD-6E5D1147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0CB-8742-4643-92E7-11ED2B3B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DD8-1495-4F33-9F3E-3868B100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D53E-9712-441A-BC69-5BC6456D9063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0"/>
            <a:ext cx="693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000000"/>
                </a:solidFill>
                <a:uFillTx/>
                <a:latin typeface="Times New Roman"/>
                <a:cs typeface="Diwany6 Normal"/>
              </a:rPr>
              <a:t>نشيد المناولة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????Boutros Rokaa"/>
              </a:rPr>
              <a:t>لوحي يا غصون الز يت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عّي يا قدس التذكا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بل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ير بل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ردّي ك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ناس زغا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صللوا للفجر الب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عوب الأرض تهنّ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مشعال السلم ال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خلّيكي بإلف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نّي إنت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قدس بلادي هوشعنا الربّ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 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سوع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تمّ الاطفال غنيّة صوت الشادي 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إسمك عاطول الأجيال ع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تهلّلْ وتنادي هوشعنا الربّ الفادي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ي بيت لح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ميلاد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أطفال انقطفوا شهاد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اليوم شهدوا بأعياد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نوا بالقدس زياد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0:34:43Z</dcterms:created>
  <dc:creator>Charbel Azar</dc:creator>
  <dc:description/>
  <dc:language>en-US</dc:language>
  <cp:lastModifiedBy>Charbel Azar</cp:lastModifiedBy>
  <dcterms:modified xsi:type="dcterms:W3CDTF">2003-03-14T21:26:50Z</dcterms:modified>
  <cp:revision>4</cp:revision>
  <dc:subject/>
  <dc:title>Slide 1</dc:title>
</cp:coreProperties>
</file>