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043-95F0-4EBF-8A12-91AAE3AA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A95-4EC8-40D6-8ADD-E30A015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824-A0CB-4B89-B85A-DA2F0A3C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05B-D18F-4D52-B376-62A14A93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CA4-757F-4995-8AF4-D43B2104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0C1-DBC3-489A-B204-E354CB6C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F43-0929-4C0D-8065-1274FF5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96B-7CD3-4C75-9A57-D35CCD85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E7B-9309-4CD4-821F-FDA5257A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E93-FD6C-4B51-B373-5F14D07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71C-B4C2-4863-9F64-305CFE1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2C4-1DCE-4076-9FF1-BD3A238E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FEF-5247-4ED2-829E-69369CB2E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04920" y="228600"/>
            <a:ext cx="3505320" cy="9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في الزهور والنور والناس خذني دلّني إليك متى تُشرق ونراكَ وجهاً وجهاً لوجه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228600"/>
            <a:ext cx="3505320" cy="10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بالرسمِ والنحت والشعر والنقرِ على الأوتار متى تُشرق مِن عتمة يديَّ </a:t>
            </a:r>
            <a:r>
              <a:rPr b="1" lang="ar-SA" sz="4800" spc="-1" strike="noStrike">
                <a:solidFill>
                  <a:srgbClr val="ffcccc"/>
                </a:solidFill>
                <a:latin typeface="Arial"/>
              </a:rPr>
              <a:t>تُشرق مِن عتمة يديَّ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05:35Z</dcterms:created>
  <dc:creator>HANI SAFI</dc:creator>
  <dc:description/>
  <dc:language>en-US</dc:language>
  <cp:lastModifiedBy>HANI SAFI</cp:lastModifiedBy>
  <dcterms:modified xsi:type="dcterms:W3CDTF">2003-04-25T04:26:15Z</dcterms:modified>
  <cp:revision>1</cp:revision>
  <dc:subject/>
  <dc:title>Slide 1</dc:title>
</cp:coreProperties>
</file>