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2C9-FDB6-4828-A9B7-9BFCBE83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109-AEC3-4C0D-91D1-54964CBF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483-F343-4FF5-817C-3ED120BD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B72-3430-4F0A-A1CD-C49FF480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858-845B-4924-9455-869266FE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741-907D-4048-9F66-51AB94D1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87B-A500-4E4E-880D-A590CBC4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D1D-9606-4716-9C5E-FC25CEB4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35E-15F5-4C1D-9437-75F17E1F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4BC-3FB5-4A98-988F-A406FB5E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9BB-BBFF-4A4B-81B9-B676A796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5B7-7F8B-445F-8FAC-624A6A0F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D5AB-8CE6-4A7B-88A7-79E37D14F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920"/>
            <a:ext cx="3581280" cy="47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Arabic Transparent"/>
              </a:rPr>
              <a:t>خلِّني قربَ الصليب حيث سالَ المجر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Arabic Transparent"/>
              </a:rPr>
              <a:t>مِن دمِ الفادي الحبيب داءُ نفسي يبرأ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3505320" cy="41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قد محا عندَ الصليب دمُ ربي إثم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عنِ القلبِ الكئيب زالَ كلُّ الهمّ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219320"/>
            <a:ext cx="320040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rabic Transparent"/>
              </a:rPr>
              <a:t>قد رأينا في الصليب قوَّةَ الرَّحمان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إذ بدا أمرٌ عجيب فِديةٌ للجاني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04920"/>
            <a:ext cx="2209680" cy="89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َن قضى فوقَ الصليب ذاكَ جُلُّ القَصد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سَأراهُ عن قريب فوقَ عرشِ المجد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2920" y="1066680"/>
            <a:ext cx="175248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8500" spc="-1" strike="noStrike">
                <a:solidFill>
                  <a:srgbClr val="ffcccc"/>
                </a:solidFill>
                <a:latin typeface="Times New Roman"/>
              </a:rPr>
              <a:t>مات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8500" spc="-1" strike="noStrike">
                <a:solidFill>
                  <a:srgbClr val="ffcccc"/>
                </a:solidFill>
                <a:latin typeface="Times New Roman"/>
              </a:rPr>
              <a:t>عنّا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09:52:21Z</dcterms:created>
  <dc:creator>SUZANNE.MD</dc:creator>
  <dc:description/>
  <dc:language>en-US</dc:language>
  <cp:lastModifiedBy>HANI SAFI</cp:lastModifiedBy>
  <dcterms:modified xsi:type="dcterms:W3CDTF">2003-03-17T14:16:02Z</dcterms:modified>
  <cp:revision>2</cp:revision>
  <dc:subject/>
  <dc:title>PowerPoint Presentation</dc:title>
</cp:coreProperties>
</file>