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570-A031-48FD-B38B-A0073750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870-6A4F-4469-AEB3-C9F2641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BE1-079F-408A-A8FF-97458CA6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D15-30B2-4DF8-84B9-BC681108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A96-EEEF-4170-B7E7-B2659209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D79-A353-4508-8C34-A67D1A6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869-D77D-4654-9C0D-37C40AC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BCC-EA38-41E3-BF51-408170B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A37-5C28-4BBD-BBFC-4650025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62B-1C7B-4B06-97A8-0F9C929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09C-C2A1-48F4-BB40-1139FD4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CB7-247F-4628-87BD-E9A4944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56D-6D09-4460-B535-C543C1F6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73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وذا عودُ الصلي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عليه عُلِّقَ خلاصُ العا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لموا نسجدُ ل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36:23Z</dcterms:created>
  <dc:creator>SUZANNE.MD</dc:creator>
  <dc:description/>
  <dc:language>en-US</dc:language>
  <cp:lastModifiedBy>HANI SAFI</cp:lastModifiedBy>
  <dcterms:modified xsi:type="dcterms:W3CDTF">2003-04-17T11:12:14Z</dcterms:modified>
  <cp:revision>1</cp:revision>
  <dc:subject/>
  <dc:title>PowerPoint Presentation</dc:title>
</cp:coreProperties>
</file>