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BE25-29CB-4745-BB63-26AB148C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9A45-4D64-42AD-826B-81A73A64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8571-4CFA-46EE-9A31-4CD7AE7B1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D69E-1441-4733-8A00-1BC88D7B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887F-E431-4390-80D1-5A39BF67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7E72-2E72-4CB6-8C22-5CA9A548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C9BA-B02E-4598-86D0-236A75D0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DF2D-2D9E-4EEB-9922-8E88C38D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284E-9D3C-4B50-984A-E39BFE67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7BD9-15AB-46BF-9FFC-A3675BEC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024F-F225-47E8-AF5D-605B0EC3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F227-13AF-4A6E-9FD9-D723CFD6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0877-50F3-4629-B733-13E421F5D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1287869xQRiyRyaRq_ph" descr=""/>
          <p:cNvPicPr/>
          <p:nvPr/>
        </p:nvPicPr>
        <p:blipFill>
          <a:blip r:embed="rId1"/>
          <a:stretch/>
        </p:blipFill>
        <p:spPr>
          <a:xfrm>
            <a:off x="3352680" y="0"/>
            <a:ext cx="61977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30481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لصوم يُفتح بابُ السماءِ مَن صام يُمنح مُلك العلاءِ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5325118wOgIICHEKd_ph" descr=""/>
          <p:cNvPicPr/>
          <p:nvPr/>
        </p:nvPicPr>
        <p:blipFill>
          <a:blip r:embed="rId1"/>
          <a:stretch/>
        </p:blipFill>
        <p:spPr>
          <a:xfrm>
            <a:off x="3143160" y="0"/>
            <a:ext cx="60008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85800"/>
            <a:ext cx="2590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بُّ العلاءِ يُعلي مقاما مَن بالنقاءِ يقضي الصيام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3760642WcABmRMkZD_ph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28600"/>
            <a:ext cx="2133720" cy="10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ربي حياتي هَبني غُفرانا واقبل صلاتي صومي قربان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07:29:08Z</dcterms:created>
  <dc:creator>SUZANNE.MD</dc:creator>
  <dc:description/>
  <dc:language>en-US</dc:language>
  <cp:lastModifiedBy>USER</cp:lastModifiedBy>
  <dcterms:modified xsi:type="dcterms:W3CDTF">2003-03-03T15:01:39Z</dcterms:modified>
  <cp:revision>2</cp:revision>
  <dc:subject/>
  <dc:title>PowerPoint Presentation</dc:title>
</cp:coreProperties>
</file>