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41C9F9-6CF2-47D9-B211-7D344EFEDC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BA267-79C8-4051-B4AD-9452C9B21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9E4BED-5AFF-480D-8117-D588FD182D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4A7271-2700-4C61-8953-410CB76E11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944F5-705F-41CB-8DBD-88380115D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9E1F5-E9BF-4990-96A4-43A67F4C1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6D59A-0363-496C-BA6F-8B541672C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4E73C-62DF-4472-A82B-34B51BEE6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6A873-CA02-4E88-89C9-9B99289EE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E4AE6-9F29-4853-98A4-ADA519D62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A7366-DE45-46E4-970C-0A503BC19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C2520-8901-4451-91AF-2D7B47F305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8DBB5-8E5E-43E9-BCCB-A1F30B9DE4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0"/>
            <a:ext cx="9144000" cy="910296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cs typeface="Simplified Arabic"/>
              </a:rPr>
              <a:t>رتبة درب الصليب</a:t>
            </a:r>
            <a:endParaRPr b="0" lang="en-US" sz="36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Simplified Arabic"/>
              </a:rPr>
              <a:t> </a:t>
            </a:r>
            <a:r>
              <a:rPr b="1" lang="en-US" sz="3600" spc="-1" strike="noStrike">
                <a:solidFill>
                  <a:srgbClr val="ffffff"/>
                </a:solidFill>
                <a:latin typeface="Times New Roman"/>
                <a:ea typeface="Simplified Arabic"/>
              </a:rPr>
              <a:t>"ومن لم يحمل صليبه ويتبعني فليس أهلاً لي"</a:t>
            </a:r>
            <a:r>
              <a:rPr b="0" lang="en-US" sz="3600" spc="-1" strike="noStrike">
                <a:solidFill>
                  <a:srgbClr val="ffffff"/>
                </a:solidFill>
                <a:latin typeface="Times New Roman"/>
                <a:ea typeface="Simplified Arabic"/>
              </a:rPr>
              <a:t> </a:t>
            </a:r>
            <a:r>
              <a:rPr b="0" lang="en-US" sz="3200" spc="-1" strike="noStrike">
                <a:solidFill>
                  <a:srgbClr val="ffffff"/>
                </a:solidFill>
                <a:latin typeface="Times New Roman"/>
                <a:ea typeface="Simplified Arabic"/>
              </a:rPr>
              <a:t>(متى: </a:t>
            </a:r>
            <a:r>
              <a:rPr b="0" lang="en-US" sz="3200" spc="-1" strike="noStrike">
                <a:solidFill>
                  <a:srgbClr val="ffffff"/>
                </a:solidFill>
                <a:latin typeface="Times New Roman"/>
                <a:ea typeface="Simplified Arabic"/>
              </a:rPr>
              <a:t>10/38</a:t>
            </a:r>
            <a:r>
              <a:rPr b="0" lang="en-US" sz="3200" spc="-1" strike="noStrike">
                <a:solidFill>
                  <a:srgbClr val="ffffff"/>
                </a:solidFill>
                <a:latin typeface="Times New Roman"/>
                <a:ea typeface="Simplified Arabic"/>
              </a:rPr>
              <a:t>)</a:t>
            </a:r>
            <a:endParaRPr b="0" lang="en-US" sz="3200" spc="-1" strike="noStrike">
              <a:solidFill>
                <a:srgbClr val="000000"/>
              </a:solidFill>
              <a:latin typeface="Times New Roman"/>
            </a:endParaRPr>
          </a:p>
          <a:p>
            <a:pPr algn="r" rtl="1">
              <a:lnSpc>
                <a:spcPct val="8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Times New Roman"/>
                <a:cs typeface="Simplified Arabic"/>
              </a:rPr>
              <a:t>فعـل الندامـة:</a:t>
            </a:r>
            <a:endParaRPr b="0" lang="en-US" sz="3800" spc="-1" strike="noStrike">
              <a:solidFill>
                <a:srgbClr val="000000"/>
              </a:solidFill>
              <a:latin typeface="Times New Roman"/>
            </a:endParaRPr>
          </a:p>
          <a:p>
            <a:pPr algn="r" rtl="1">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cs typeface="Simplified Arabic"/>
              </a:rPr>
              <a:t>يا ربي وإلهي، أنا نادمٌ من كل قلبي على جميع خطاياي لأني بها خسرت نفسي والخيرات الأبدية واستوجبت العذابات الجهنمية، وبالأكثر أنا نادم لأني أغظتك وأهنتك أنت يا ربي وإلهي المستحق كل كرامة ومحبة. لهذا السبب أبغض الخطيئة فوق كل شيء وأريد بنعمتك أن أموت قبل أن أغيظك فيما بعد. وأقصد أن أهرب من كل سبب خطيئة وأن أفي بقدر إستطاعتي عن الخطايا التي فعلتها. آمين.</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4370400" y="0"/>
            <a:ext cx="4773600" cy="6858000"/>
          </a:xfrm>
          <a:prstGeom prst="rect">
            <a:avLst/>
          </a:prstGeom>
          <a:ln w="0">
            <a:noFill/>
          </a:ln>
        </p:spPr>
      </p:pic>
      <p:sp>
        <p:nvSpPr>
          <p:cNvPr id="59" name=""/>
          <p:cNvSpPr/>
          <p:nvPr/>
        </p:nvSpPr>
        <p:spPr>
          <a:xfrm>
            <a:off x="0" y="228600"/>
            <a:ext cx="4038480" cy="71413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من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يعزّي بنات أورشليم</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لستُ أرثي لكَ ربي  إنما أرثي لِقلبي</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تاهَ في الدربِ غر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4429080" y="0"/>
            <a:ext cx="4714920" cy="6858000"/>
          </a:xfrm>
          <a:prstGeom prst="rect">
            <a:avLst/>
          </a:prstGeom>
          <a:ln w="0">
            <a:noFill/>
          </a:ln>
        </p:spPr>
      </p:pic>
      <p:sp>
        <p:nvSpPr>
          <p:cNvPr id="61" name=""/>
          <p:cNvSpPr/>
          <p:nvPr/>
        </p:nvSpPr>
        <p:spPr>
          <a:xfrm>
            <a:off x="0" y="0"/>
            <a:ext cx="4191120" cy="836028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لستُ أر </a:t>
            </a:r>
            <a:r>
              <a:rPr b="1" lang="ar-SA" sz="4000" spc="-1" strike="noStrike" u="sng">
                <a:solidFill>
                  <a:srgbClr val="ffffcc"/>
                </a:solidFill>
                <a:uFillTx/>
                <a:latin typeface="Times New Roman"/>
                <a:cs typeface="Simplified Arabic"/>
              </a:rPr>
              <a:t>المرحلة التاسع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واقعاً تحت الصليب مرة ثالث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استمع دُعاءَ بؤسي واحمني سَقطاتِ يأسي وانزعِ الشكَ الره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4429080" y="0"/>
            <a:ext cx="4714920" cy="6858000"/>
          </a:xfrm>
          <a:prstGeom prst="rect">
            <a:avLst/>
          </a:prstGeom>
          <a:ln w="0">
            <a:noFill/>
          </a:ln>
        </p:spPr>
      </p:pic>
      <p:sp>
        <p:nvSpPr>
          <p:cNvPr id="63" name=""/>
          <p:cNvSpPr/>
          <p:nvPr/>
        </p:nvSpPr>
        <p:spPr>
          <a:xfrm>
            <a:off x="0" y="304920"/>
            <a:ext cx="41911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0" y="0"/>
            <a:ext cx="4267080" cy="71413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عا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لمّا عُرِّيَ من ثيابِهِ وسُقِيَ خلاً ومرّاً</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مَلِكُ المجدِ مُعَرّى  يرتوي خلاًّ ومُراً</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والدمُ الغالي سَك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4572000" y="0"/>
            <a:ext cx="4743360" cy="6858000"/>
          </a:xfrm>
          <a:prstGeom prst="rect">
            <a:avLst/>
          </a:prstGeom>
          <a:ln w="0">
            <a:noFill/>
          </a:ln>
        </p:spPr>
      </p:pic>
      <p:sp>
        <p:nvSpPr>
          <p:cNvPr id="66" name=""/>
          <p:cNvSpPr/>
          <p:nvPr/>
        </p:nvSpPr>
        <p:spPr>
          <a:xfrm>
            <a:off x="0" y="228600"/>
            <a:ext cx="4572000" cy="71413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حادية ع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سمّراً على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عَن عُلى المجدِ تَخَلّى وعلى العودِ تجلّى    ماحياً عارَ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4371840" y="0"/>
            <a:ext cx="4772160" cy="6858000"/>
          </a:xfrm>
          <a:prstGeom prst="rect">
            <a:avLst/>
          </a:prstGeom>
          <a:ln w="0">
            <a:noFill/>
          </a:ln>
        </p:spPr>
      </p:pic>
      <p:sp>
        <p:nvSpPr>
          <p:cNvPr id="68" name=""/>
          <p:cNvSpPr/>
          <p:nvPr/>
        </p:nvSpPr>
        <p:spPr>
          <a:xfrm>
            <a:off x="0" y="228600"/>
            <a:ext cx="4114800" cy="77508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نية ع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ائتاً على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ماتَ فانشقَّ الحجابُ وكسا الكونَ ضبابُ وَبَكَت شمسُ المَغ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4572000" y="0"/>
            <a:ext cx="4572000" cy="6858000"/>
          </a:xfrm>
          <a:prstGeom prst="rect">
            <a:avLst/>
          </a:prstGeom>
          <a:ln w="0">
            <a:noFill/>
          </a:ln>
        </p:spPr>
      </p:pic>
      <p:sp>
        <p:nvSpPr>
          <p:cNvPr id="70" name=""/>
          <p:cNvSpPr/>
          <p:nvPr/>
        </p:nvSpPr>
        <p:spPr>
          <a:xfrm>
            <a:off x="0" y="0"/>
            <a:ext cx="4572000" cy="75060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لثة عشرة</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نزلاً عن الصليب وموضوعاً في حضنِ أمه</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إننا ندعوكِ مريمْ</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بَلسِمي القلبَ المؤَلَّم وامسحي الدَمعَ الصب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4572000" y="0"/>
            <a:ext cx="4714920" cy="6858000"/>
          </a:xfrm>
          <a:prstGeom prst="rect">
            <a:avLst/>
          </a:prstGeom>
          <a:ln w="0">
            <a:noFill/>
          </a:ln>
        </p:spPr>
      </p:pic>
      <p:sp>
        <p:nvSpPr>
          <p:cNvPr id="72" name=""/>
          <p:cNvSpPr/>
          <p:nvPr/>
        </p:nvSpPr>
        <p:spPr>
          <a:xfrm>
            <a:off x="0" y="228600"/>
            <a:ext cx="4343400" cy="71413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رابعة ع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وضوعاً في القبر</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لَقَبرُهُ المُنَوّر</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عِندَهُ الموتُ مُحَيَّر</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لم يَعُد أمراً مُر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4572000" y="0"/>
            <a:ext cx="4572000" cy="6858000"/>
          </a:xfrm>
          <a:prstGeom prst="rect">
            <a:avLst/>
          </a:prstGeom>
          <a:ln w="0">
            <a:noFill/>
          </a:ln>
        </p:spPr>
      </p:pic>
      <p:sp>
        <p:nvSpPr>
          <p:cNvPr id="43" name=""/>
          <p:cNvSpPr/>
          <p:nvPr/>
        </p:nvSpPr>
        <p:spPr>
          <a:xfrm>
            <a:off x="0" y="228600"/>
            <a:ext cx="4572000" cy="8652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Simplified Arabic"/>
              </a:rPr>
              <a:t>     </a:t>
            </a:r>
            <a:r>
              <a:rPr b="1" lang="en-US" sz="4000" spc="-1" strike="noStrike">
                <a:solidFill>
                  <a:srgbClr val="ffffcc"/>
                </a:solidFill>
                <a:latin typeface="Times New Roman"/>
                <a:cs typeface="Simplified Arabic"/>
              </a:rPr>
              <a:t>مريمُ الأمُ الحزينة            والبتولةُ الأمينة      واقفة عندَ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ea typeface="Simplified Arabic"/>
              </a:rPr>
              <a:t> </a:t>
            </a:r>
            <a:endParaRPr b="0" lang="en-US" sz="4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ea typeface="Simplified Arabic"/>
              </a:rPr>
              <a:t> </a:t>
            </a:r>
            <a:r>
              <a:rPr b="1" lang="ar-SA" sz="4000" spc="-1" strike="noStrike">
                <a:solidFill>
                  <a:srgbClr val="ffffcc"/>
                </a:solidFill>
                <a:latin typeface="Times New Roman"/>
              </a:rPr>
              <a:t>أيتها الأم القديســة</a:t>
            </a:r>
            <a:endParaRPr b="0" lang="en-US" sz="4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rPr>
              <a:t>إجعلي جراحات وحيدك</a:t>
            </a:r>
            <a:endParaRPr b="0" lang="en-US" sz="4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rPr>
              <a:t>فـي قلبــــي منطبعـــ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4371840" y="0"/>
            <a:ext cx="4772160" cy="6858000"/>
          </a:xfrm>
          <a:prstGeom prst="rect">
            <a:avLst/>
          </a:prstGeom>
          <a:ln w="0">
            <a:noFill/>
          </a:ln>
        </p:spPr>
      </p:pic>
      <p:sp>
        <p:nvSpPr>
          <p:cNvPr id="45" name=""/>
          <p:cNvSpPr/>
          <p:nvPr/>
        </p:nvSpPr>
        <p:spPr>
          <a:xfrm>
            <a:off x="0" y="0"/>
            <a:ext cx="4267080" cy="6087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أولى</a:t>
            </a:r>
            <a:endParaRPr b="0" lang="en-US" sz="40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لنتأمل يسوع محكوماً عليه بالموت</a:t>
            </a:r>
            <a:r>
              <a:rPr b="1" lang="ar-SA"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ربُنا فادي الأنامِ</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دِينَ من أجلِ الأنامِ فانطوى الحُكمُ الرهيب</a:t>
            </a:r>
            <a:endParaRPr b="0" lang="en-US" sz="4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4429080" y="0"/>
            <a:ext cx="4714920" cy="6858000"/>
          </a:xfrm>
          <a:prstGeom prst="rect">
            <a:avLst/>
          </a:prstGeom>
          <a:ln w="0">
            <a:noFill/>
          </a:ln>
        </p:spPr>
      </p:pic>
      <p:sp>
        <p:nvSpPr>
          <p:cNvPr id="47" name=""/>
          <p:cNvSpPr/>
          <p:nvPr/>
        </p:nvSpPr>
        <p:spPr>
          <a:xfrm>
            <a:off x="0" y="0"/>
            <a:ext cx="4267080" cy="71413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ني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حاملاً صليبه على منكبيه</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عاشَ في الدنيا وضيعا سِيقَ للموتِ مطيعا   حَمَلُ اللهِ الع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4572000" y="0"/>
            <a:ext cx="4686480" cy="6858000"/>
          </a:xfrm>
          <a:prstGeom prst="rect">
            <a:avLst/>
          </a:prstGeom>
          <a:ln w="0">
            <a:noFill/>
          </a:ln>
        </p:spPr>
      </p:pic>
      <p:sp>
        <p:nvSpPr>
          <p:cNvPr id="49" name=""/>
          <p:cNvSpPr/>
          <p:nvPr/>
        </p:nvSpPr>
        <p:spPr>
          <a:xfrm>
            <a:off x="0" y="228600"/>
            <a:ext cx="4572000" cy="65318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لث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واقعاً تحت الصليب مرة أولى</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هوذا باري البرايا     حاملاً ثِقلَ الخطايا    رازِحاً تحتَ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4371840" y="0"/>
            <a:ext cx="4772160" cy="6858000"/>
          </a:xfrm>
          <a:prstGeom prst="rect">
            <a:avLst/>
          </a:prstGeom>
          <a:ln w="0">
            <a:noFill/>
          </a:ln>
        </p:spPr>
      </p:pic>
      <p:sp>
        <p:nvSpPr>
          <p:cNvPr id="51" name=""/>
          <p:cNvSpPr/>
          <p:nvPr/>
        </p:nvSpPr>
        <p:spPr>
          <a:xfrm>
            <a:off x="0" y="228600"/>
            <a:ext cx="4191120" cy="65318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رابع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لتقياً بأمه الحزين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سيفُ آلامٍ دفينة</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جازَ في قلبِ الحزينة عندما جازَ الحب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4572000" y="0"/>
            <a:ext cx="4572000" cy="6858000"/>
          </a:xfrm>
          <a:prstGeom prst="rect">
            <a:avLst/>
          </a:prstGeom>
          <a:ln w="0">
            <a:noFill/>
          </a:ln>
        </p:spPr>
      </p:pic>
      <p:sp>
        <p:nvSpPr>
          <p:cNvPr id="53" name=""/>
          <p:cNvSpPr/>
          <p:nvPr/>
        </p:nvSpPr>
        <p:spPr>
          <a:xfrm>
            <a:off x="0" y="0"/>
            <a:ext cx="4572000" cy="71413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خامس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لنتأمل يسوع يعينه سمعان القيرواني في حمل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أعطِنا صبراً جميلا    نحمِلُ العودَ الثَّقيلا</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إنه خيرُ نص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368960" y="0"/>
            <a:ext cx="4775040" cy="6858000"/>
          </a:xfrm>
          <a:prstGeom prst="rect">
            <a:avLst/>
          </a:prstGeom>
          <a:ln w="0">
            <a:noFill/>
          </a:ln>
        </p:spPr>
      </p:pic>
      <p:sp>
        <p:nvSpPr>
          <p:cNvPr id="55" name=""/>
          <p:cNvSpPr/>
          <p:nvPr/>
        </p:nvSpPr>
        <p:spPr>
          <a:xfrm>
            <a:off x="0" y="228600"/>
            <a:ext cx="4267080" cy="836028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سادس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لنتأمل يسوع لما مسحت وجهه القديسة فيرونيكا</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سِيمَ تجريحاً وضربا   أينَ مِنديلُ المحبة   يَمسحُ الوجهَ المَه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4371840" y="0"/>
            <a:ext cx="4772160" cy="6858000"/>
          </a:xfrm>
          <a:prstGeom prst="rect">
            <a:avLst/>
          </a:prstGeom>
          <a:ln w="0">
            <a:noFill/>
          </a:ln>
        </p:spPr>
      </p:pic>
      <p:sp>
        <p:nvSpPr>
          <p:cNvPr id="57" name=""/>
          <p:cNvSpPr/>
          <p:nvPr/>
        </p:nvSpPr>
        <p:spPr>
          <a:xfrm>
            <a:off x="0" y="0"/>
            <a:ext cx="4114800" cy="77508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سابع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واقعاً تحت الصليب مرة ثاني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أنا من طينٍ وخزفِ أَحمِني سَقْطاتِ ضُعفي واستمع لي يا 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08:19:39Z</dcterms:created>
  <dc:creator>SUZANNE.MD</dc:creator>
  <dc:description/>
  <dc:language>en-US</dc:language>
  <cp:lastModifiedBy>HANI SAFI</cp:lastModifiedBy>
  <dcterms:modified xsi:type="dcterms:W3CDTF">2003-04-11T05:38:09Z</dcterms:modified>
  <cp:revision>2</cp:revision>
  <dc:subject/>
  <dc:title>PowerPoint Presentation</dc:title>
</cp:coreProperties>
</file>