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0F3-B241-48DD-B65E-A99F93AB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B54-A0AF-4A37-867F-4D5510E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44A-8D5D-4CFD-839F-F4594DB4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6C2-218C-41AE-BC0D-7F042969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232-6166-45BE-A567-9971CAD4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E26-0EEE-42B4-B75A-E1064CA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0BA-7B96-41E9-8EEF-19F6AF3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045-93E0-413A-AC72-76D1120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72F-5ED9-4225-8A33-40912C8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FB3-426D-4A4D-B00D-6FA30FE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6EC-C700-4FD9-B5CE-FF14159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9C0-41B3-42B6-8B22-DC75945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9B4-A8B1-48EF-84F6-CCB64F54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421725fFfbzrbssG_th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0"/>
            <a:ext cx="43434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رب، هو الرب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قام من الأموات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أنَّ يسوعَ المسيح                 هو ال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، حقا قام،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قد قام من الأموات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َّ يسوعَ المسيح حقا ق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8T04:20:10Z</dcterms:modified>
  <cp:revision>6</cp:revision>
  <dc:subject/>
  <dc:title>PowerPoint Presentation</dc:title>
</cp:coreProperties>
</file>