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13CE-B873-467A-A8FC-30441062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777C-C465-455D-B1CD-1A032A02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D4A8-69CF-44C7-9290-D1180CE0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1319-8AB8-4BED-B8BF-DAC037F7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DFFF-5C97-4190-8EB6-FC0F7E3E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AEAC-5906-4C14-B205-6F9D81AB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DEF2-7C6A-4346-9F43-2348140A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F641-0CD9-477C-94E6-2F7C16AC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0E39-4911-4D6B-8B7E-2C5D4307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5E38-2C8D-4307-8553-CB05CBB4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C495-4C56-4C09-B30E-00D9F125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821A-06EC-4915-9FA9-EC87AEC2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F32A-2404-4DF9-9B3E-315934CA3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029200"/>
            <a:ext cx="8001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4800600"/>
            <a:ext cx="739116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اليوم، عُلّقَ على خشب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الذي علَّقَ الأرضَ على الميا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4572000" cy="90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إكليلٌ من شوك وُضِعَ على هامةِ ملكِ الملائك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رفيراً كاذبا أُلبِسَ، الذي وشَّح السماءَ بالغيوم </a:t>
            </a:r>
            <a:r>
              <a:rPr b="0" lang="ar-SA" sz="5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4114800" cy="85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قبِلَ لطمةً ، الذي أعتقَ آدمَ في الأُرد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ختَنُ البيعةِ سُمِّرَ بالمسامي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وابن العذراءِ طُعِنَ بحربةٍ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304920"/>
            <a:ext cx="2895840" cy="85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9999ff"/>
                </a:solidFill>
                <a:latin typeface="Times New Roman"/>
                <a:cs typeface="Simplified Arabic"/>
              </a:rPr>
              <a:t>نسجدُ لآلِمِكَ أيها المسيح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9999ff"/>
                </a:solidFill>
                <a:latin typeface="Times New Roman"/>
                <a:cs typeface="Times New Roman"/>
              </a:rPr>
              <a:t>فأَرِنا قيامَتَكَ المجيدة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6:47:04Z</dcterms:created>
  <dc:creator>SUZANNE.MD</dc:creator>
  <dc:description/>
  <dc:language>en-US</dc:language>
  <cp:lastModifiedBy>HANI SAFI</cp:lastModifiedBy>
  <dcterms:modified xsi:type="dcterms:W3CDTF">2003-04-16T13:52:11Z</dcterms:modified>
  <cp:revision>2</cp:revision>
  <dc:subject/>
  <dc:title>PowerPoint Presentation</dc:title>
</cp:coreProperties>
</file>