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C1CE-2804-4685-A522-991566E97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FA13-5D4D-4255-8F3E-4AEB179B8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5442-980A-4B8B-8E87-D6A0F1FF4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4C42-5CCA-4BDB-BA85-87CF06462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A966-E10D-4580-9E87-51605B33D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FF63-8DD6-48F7-B30A-6D8AA96E6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BA7C-A21A-4DA2-AA0C-AD2C70BB7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F691-EDB4-4B13-B279-A9F6A75A4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6A7B-AF39-4A58-96EC-F90C08F56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8541-F47B-435C-BAEA-6417F9C6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09CC-1FD9-40E5-A9C9-30FC8B70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4A24-F080-489D-9675-661523DB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24D1A-B7C1-4CFA-8D66-2F9D333017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276720" y="0"/>
            <a:ext cx="58672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3048120" cy="116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Simplified Arabic"/>
              </a:rPr>
              <a:t>واحبيبي واحبيبي                        سُلّــمَ الموتُ إليـ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Simplified Arabic"/>
              </a:rPr>
              <a:t>فتسلَّمنـا حياةً مـن جراحـات يديــك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Simplified Arabic"/>
              </a:rPr>
              <a:t>كـلُّ ميتٍ عاد حيـاًّ والتقى الكلُّ لديـ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Simplified Arabic"/>
              </a:rPr>
              <a:t>يـومَ أبطلتَ</a:t>
            </a:r>
            <a:r>
              <a:rPr b="1" lang="en-US" sz="4000" spc="-1" strike="noStrike">
                <a:solidFill>
                  <a:srgbClr val="ffffcc"/>
                </a:solidFill>
                <a:latin typeface="Simplified Arabic"/>
              </a:rPr>
              <a:t> </a:t>
            </a:r>
            <a:r>
              <a:rPr b="1" lang="ar-SA" sz="4000" spc="-1" strike="noStrike">
                <a:solidFill>
                  <a:srgbClr val="ffffcc"/>
                </a:solidFill>
                <a:latin typeface="Simplified Arabic"/>
              </a:rPr>
              <a:t>المنايا بمواعـيدِ الحيــا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40200" y="0"/>
            <a:ext cx="52038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304920"/>
            <a:ext cx="3657600" cy="9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ea typeface="Simplified Arabic"/>
              </a:rPr>
              <a:t>  </a:t>
            </a:r>
            <a:r>
              <a:rPr b="1" lang="ar-SA" sz="4000" spc="-1" strike="noStrike">
                <a:solidFill>
                  <a:srgbClr val="ffcc99"/>
                </a:solidFill>
                <a:latin typeface="Arial"/>
                <a:cs typeface="Simplified Arabic"/>
              </a:rPr>
              <a:t>أيُّ حبٍّ قد تفانى مثلُ هذا في  حبيـ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99"/>
                </a:solidFill>
                <a:latin typeface="Arial"/>
                <a:ea typeface="Simplified Arabic"/>
              </a:rPr>
              <a:t>  أيُّ ربٍ قد تجلـى مجدُه فوق صليـ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99"/>
                </a:solidFill>
                <a:latin typeface="Arial"/>
                <a:ea typeface="Simplified Arabic"/>
              </a:rPr>
              <a:t>  دهشةً بين البرايـا عجباً عند  الشع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99"/>
                </a:solidFill>
                <a:latin typeface="Arial"/>
                <a:cs typeface="Simplified Arabic"/>
              </a:rPr>
              <a:t>وهو في البيعةِ حقٌ </a:t>
            </a:r>
            <a:r>
              <a:rPr b="1" lang="ar-SA" sz="4000" spc="-1" strike="noStrike">
                <a:solidFill>
                  <a:srgbClr val="ffcc99"/>
                </a:solidFill>
                <a:latin typeface="Arial"/>
              </a:rPr>
              <a:t>وســـلامٌ ولقـــــاء</a:t>
            </a:r>
            <a:r>
              <a:rPr b="0" lang="ar-SA" sz="2400" spc="-1" strike="noStrike">
                <a:solidFill>
                  <a:srgbClr val="ffcc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944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228600" y="0"/>
            <a:ext cx="3809880" cy="9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ea typeface="Simplified Arabic"/>
              </a:rPr>
              <a:t>  </a:t>
            </a:r>
            <a:r>
              <a:rPr b="1" lang="ar-SA" sz="4000" spc="-1" strike="noStrike">
                <a:solidFill>
                  <a:srgbClr val="ffcc99"/>
                </a:solidFill>
                <a:latin typeface="Arial"/>
                <a:cs typeface="Simplified Arabic"/>
              </a:rPr>
              <a:t>قادكَ الحبُّ إليَّ فتقلدْتَ  الصلي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99"/>
                </a:solidFill>
                <a:latin typeface="Arial"/>
                <a:ea typeface="Simplified Arabic"/>
              </a:rPr>
              <a:t>  وتحمَّلتَ لأَجلي غصَّةَ الموت  الرهي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99"/>
                </a:solidFill>
                <a:latin typeface="Arial"/>
                <a:ea typeface="Simplified Arabic"/>
              </a:rPr>
              <a:t>  ليتني أَقضي حياتي أُهرقُ العمرَ  سكي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99"/>
                </a:solidFill>
                <a:latin typeface="Arial"/>
                <a:cs typeface="Simplified Arabic"/>
              </a:rPr>
              <a:t>في وصاياك وأَحيا </a:t>
            </a:r>
            <a:r>
              <a:rPr b="1" lang="ar-SA" sz="4000" spc="-1" strike="noStrike">
                <a:solidFill>
                  <a:srgbClr val="ffcc99"/>
                </a:solidFill>
                <a:latin typeface="Arial"/>
              </a:rPr>
              <a:t>بيـن أســـرارِ  الفــداء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4572000" cy="11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     </a:t>
            </a:r>
            <a:r>
              <a:rPr b="1" lang="ar-SA" sz="4000" spc="-1" strike="noStrike">
                <a:solidFill>
                  <a:srgbClr val="ffcc99"/>
                </a:solidFill>
                <a:latin typeface="Arial"/>
                <a:cs typeface="Simplified Arabic"/>
              </a:rPr>
              <a:t>واحبيبي واحبيبي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99"/>
                </a:solidFill>
                <a:latin typeface="Arial"/>
                <a:ea typeface="Simplified Arabic"/>
              </a:rPr>
              <a:t>   أيُّ  حالٍ أنت في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99"/>
                </a:solidFill>
                <a:latin typeface="Arial"/>
                <a:ea typeface="Simplified Arabic"/>
              </a:rPr>
              <a:t>   مَن شجاك من مَناك</a:t>
            </a:r>
            <a:r>
              <a:rPr b="1" lang="ar-SA" sz="4000" spc="-1" strike="noStrike">
                <a:solidFill>
                  <a:srgbClr val="ffcc99"/>
                </a:solidFill>
                <a:latin typeface="Arial"/>
                <a:ea typeface="Simplified Arabic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99"/>
                </a:solidFill>
                <a:latin typeface="Arial"/>
                <a:ea typeface="Simplified Arabic"/>
              </a:rPr>
              <a:t>   ما لذا الامرِ شبي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99"/>
                </a:solidFill>
                <a:latin typeface="Arial"/>
                <a:ea typeface="Simplified Arabic"/>
              </a:rPr>
              <a:t>   يا حبيبي أيَّ ذنـبٍ      قد صنعت أو كري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99"/>
                </a:solidFill>
                <a:latin typeface="Arial"/>
                <a:cs typeface="Simplified Arabic"/>
              </a:rPr>
              <a:t>أنت مجهود  جريحٌ</a:t>
            </a:r>
            <a:r>
              <a:rPr b="1" lang="ar-SA" sz="4000" spc="-1" strike="noStrike">
                <a:solidFill>
                  <a:srgbClr val="ffcc99"/>
                </a:solidFill>
                <a:latin typeface="Arial"/>
                <a:ea typeface="Simplified Arabic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99"/>
                </a:solidFill>
                <a:latin typeface="Arial"/>
              </a:rPr>
              <a:t>ليس فيـكَ مــن شِفــاء</a:t>
            </a:r>
            <a:r>
              <a:rPr b="0" lang="ar-SA" sz="2400" spc="-1" strike="noStrike">
                <a:solidFill>
                  <a:srgbClr val="ffcc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86200" y="0"/>
            <a:ext cx="76201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380880"/>
            <a:ext cx="3886200" cy="9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ea typeface="Simplified Arabic"/>
              </a:rPr>
              <a:t>  </a:t>
            </a:r>
            <a:r>
              <a:rPr b="1" lang="ar-SA" sz="4000" spc="-1" strike="noStrike">
                <a:solidFill>
                  <a:srgbClr val="ffffcc"/>
                </a:solidFill>
                <a:latin typeface="Arial"/>
                <a:cs typeface="Simplified Arabic"/>
              </a:rPr>
              <a:t>كنتُ في البستان ليلاً والحشا منّي اضطر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Arial"/>
                <a:ea typeface="Simplified Arabic"/>
              </a:rPr>
              <a:t>  خِفتُ صلّيتُ الى أن عرقٌ مني انسكـب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Arial"/>
                <a:ea typeface="Simplified Arabic"/>
              </a:rPr>
              <a:t>  قلتُ ربّي إن رأيتَ فادفعَنْ عنّي  العطب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Arial"/>
                <a:cs typeface="Simplified Arabic"/>
              </a:rPr>
              <a:t>حزنُ نفسي فاق </a:t>
            </a:r>
            <a:r>
              <a:rPr b="1" lang="ar-SA" sz="3800" spc="-1" strike="noStrike">
                <a:solidFill>
                  <a:srgbClr val="ffffcc"/>
                </a:solidFill>
                <a:latin typeface="Arial"/>
                <a:cs typeface="Simplified Arabic"/>
              </a:rPr>
              <a:t>وصفاً</a:t>
            </a:r>
            <a:r>
              <a:rPr b="1" lang="ar-SA" sz="4000" spc="-1" strike="noStrike">
                <a:solidFill>
                  <a:srgbClr val="ffffcc"/>
                </a:solidFill>
                <a:latin typeface="Arial"/>
                <a:ea typeface="Simplified Arabic"/>
              </a:rPr>
              <a:t> </a:t>
            </a:r>
            <a:r>
              <a:rPr b="1" lang="ar-SA" sz="4000" spc="-1" strike="noStrike">
                <a:solidFill>
                  <a:srgbClr val="ffffcc"/>
                </a:solidFill>
                <a:latin typeface="Arial"/>
              </a:rPr>
              <a:t>كلَّ قــولٍ أو  نــــداءْ</a:t>
            </a:r>
            <a:r>
              <a:rPr b="0" lang="ar-SA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157640" y="0"/>
            <a:ext cx="497376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228600"/>
            <a:ext cx="4038480" cy="9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ea typeface="Simplified Arabic"/>
              </a:rPr>
              <a:t>  </a:t>
            </a:r>
            <a:r>
              <a:rPr b="1" lang="ar-SA" sz="4000" spc="-1" strike="noStrike">
                <a:solidFill>
                  <a:srgbClr val="ffffcc"/>
                </a:solidFill>
                <a:latin typeface="Arial"/>
                <a:cs typeface="Simplified Arabic"/>
              </a:rPr>
              <a:t>قد ربطت وضربت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Arial"/>
                <a:ea typeface="Simplified Arabic"/>
              </a:rPr>
              <a:t>   مثل أدنى  الآثمي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Arial"/>
                <a:ea typeface="Simplified Arabic"/>
              </a:rPr>
              <a:t> بسياط قد جلدت         مثل شرً المجرمين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Arial"/>
                <a:ea typeface="Simplified Arabic"/>
              </a:rPr>
              <a:t>  كل هذا من جراكـم     كي تكونوا سالميـ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Arial"/>
                <a:cs typeface="Simplified Arabic"/>
              </a:rPr>
              <a:t>فانظروني هل رأيتـم    </a:t>
            </a:r>
            <a:r>
              <a:rPr b="1" lang="ar-SA" sz="4000" spc="-1" strike="noStrike">
                <a:solidFill>
                  <a:srgbClr val="ffffcc"/>
                </a:solidFill>
                <a:latin typeface="Arial"/>
              </a:rPr>
              <a:t>شبه ذا  تحت السمــاء</a:t>
            </a:r>
            <a:r>
              <a:rPr b="0" lang="ar-SA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2T07:11:06Z</dcterms:created>
  <dc:creator>SUZANNE.MD</dc:creator>
  <dc:description/>
  <dc:language>en-US</dc:language>
  <cp:lastModifiedBy>HANI SAFI</cp:lastModifiedBy>
  <dcterms:modified xsi:type="dcterms:W3CDTF">2003-04-18T05:48:39Z</dcterms:modified>
  <cp:revision>2</cp:revision>
  <dc:subject/>
  <dc:title>PowerPoint Presentation</dc:title>
</cp:coreProperties>
</file>