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9DC6-6162-43D4-8FD1-4506A58D3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6C1D-5D3F-4C0E-A968-395F8DE3A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012B-B876-4679-BE42-63920F724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8C7B-728D-4099-9C9C-1EE5A473B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1CADC-2BB9-43FC-B9E1-1E816FE8A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201C9-E573-4AA3-9361-641B89533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D7A0B-261F-41CB-AF14-5F195AAD6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9B0FD-147D-4F55-818D-245488EAE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08379-A855-471A-BAF3-228FC7966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778A2-CCC8-4E00-8B00-6018BA081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05189-9BE8-42D8-A011-2DF0B98D5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93B7-2326-4946-845A-6D210EA1F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02005-E682-49F0-95E8-96288AFB7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DD28C-3FC9-4DBD-A74F-AC8B30C14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55DDA-2C0E-44A2-8294-4718AFAC1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84C81-BB9C-4249-820D-C84A05B9E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23728-5438-4F98-8E87-B7697E26A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298E25-7865-4201-AC7F-2A5A20240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16DD02-C64B-4864-A903-A5DA723D9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863E25-C938-4DAD-83A9-24E340043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3C56C4-88A5-4CD0-9898-80C7A8419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B236AA-6855-4189-9A2D-16849F78F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2DF5-7C3E-4A44-85AB-185C9C07C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FA4A4C-13B4-4A27-BF46-B47C0BBDF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820839-005E-4269-8B45-BFB968399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67E05C-93E2-4A37-B876-C9661AA62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E82C51-1DBD-4161-9B7B-EF6DB0DDA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E02554-132E-4A31-86AC-9DEADFA66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63219A-E812-436E-90E6-FCC329EB0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92088F-DAB5-45AF-84E5-B443133BB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921390-03D2-4FA3-A714-B6C7F6C0A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599400-6D21-4038-8960-1B8120739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039507-6202-4C7D-948E-76054B01B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0999-ABC3-4014-AC85-F5EEF6BA4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EAED1E-F70F-450D-8D6B-3730A606C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01FEA6-B003-429E-9F73-7B1234978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D39242-B9CD-4092-AC72-03DD7BC7A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1544BF-AB6A-4A36-A7EC-150106EF0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412DBE-350E-4F46-A499-C49FC159A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018718-2F9C-4938-965C-3170B2C02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1D5E67-EF5C-4C36-8451-CFA6C27A2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1508DF-3E6C-4B50-B3A4-D6C7E3723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CC6ECC-0AAE-414F-A1C4-28609CF09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9E0DB7-60A2-46F7-A6CA-19D3F4400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39EB-75E6-4E19-8947-2F0D0A6C1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59DBC7-D46F-4F88-9A25-DAE6F6DC3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7F4F5F-49B9-4EB9-AEDD-D7F08E222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3C23A3-FEFC-4953-8302-8824FBD37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32B4B6-48BB-4804-8F33-92C6CDC94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2FF7C6-E862-4F6F-8E20-F20BD24F7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3FB065-0FB7-449D-A080-F4979220E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B259A4-5D47-4D70-A1C2-282958C71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A640FF-4EA6-4E9D-8166-F03640962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743EB8-9803-4740-BC31-3A1C1867A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87C16A-586F-4C36-88C8-6A842F785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1803-41AD-412C-BCFB-DC2EE49DF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84B1B3-DF9C-401D-BFB9-540E0E553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E5AF-8648-455B-BCAA-0DF714827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77A4-B4C8-4692-80BA-9A4526F87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52F7-1C3F-4EE5-A48C-497419657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5E1B4-62A6-4650-BE5E-EFE3D6EDAFB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BBC02-A93B-4949-841D-FF8CFC17A3C6}" type="slidenum">
              <a:rPr b="0" lang="ar-SA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F3EC0-BFF2-477A-9943-A7171899383D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6CBC8-B82F-4F29-8F5E-CC3F2AEB1E32}" type="slidenum">
              <a:rPr b="0" lang="ar-SA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0FB95-3044-4398-AA4F-C04270BB921F}" type="slidenum">
              <a:rPr b="0" lang="ar-SA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0" y="4076640"/>
            <a:ext cx="5076720" cy="558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7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600" spc="-1" strike="noStrike">
                <a:solidFill>
                  <a:srgbClr val="000000"/>
                </a:solidFill>
                <a:latin typeface="Tahoma"/>
                <a:cs typeface="????Boutros Rokaa"/>
              </a:rPr>
              <a:t>المسيح قام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289080" y="-57240"/>
            <a:ext cx="7812000" cy="672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000000"/>
                </a:solidFill>
                <a:latin typeface="Arial Unicode MS"/>
                <a:cs typeface="Akhbar MT"/>
              </a:rPr>
              <a:t>الـمسيح قام من بين الأموات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000000"/>
                </a:solidFill>
                <a:latin typeface="Arial Unicode MS"/>
                <a:cs typeface="Akhbar MT"/>
              </a:rPr>
              <a:t>ووطِئَ الـموتَ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000000"/>
                </a:solidFill>
                <a:latin typeface="Arial Unicode MS"/>
                <a:cs typeface="Akhbar MT"/>
              </a:rPr>
              <a:t>بالـموت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000000"/>
                </a:solidFill>
                <a:latin typeface="Arial Unicode MS"/>
                <a:cs typeface="Akhbar MT"/>
              </a:rPr>
              <a:t>ووهب الحياة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000000"/>
                </a:solidFill>
                <a:latin typeface="Arial Unicode MS"/>
                <a:cs typeface="Akhbar MT"/>
              </a:rPr>
              <a:t>للّذين في القبور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250920" y="252360"/>
            <a:ext cx="7812000" cy="672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000000"/>
                </a:solidFill>
                <a:latin typeface="Arial Unicode MS"/>
                <a:cs typeface="Akhbar MT"/>
              </a:rPr>
              <a:t>الـمسيح قام من بين الأموات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000000"/>
                </a:solidFill>
                <a:latin typeface="Arial Unicode MS"/>
                <a:cs typeface="Akhbar MT"/>
              </a:rPr>
              <a:t>ووطِئَ الـموتَ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000000"/>
                </a:solidFill>
                <a:latin typeface="Arial Unicode MS"/>
                <a:cs typeface="Akhbar MT"/>
              </a:rPr>
              <a:t>بالـموت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000000"/>
                </a:solidFill>
                <a:latin typeface="Arial Unicode MS"/>
                <a:cs typeface="Akhbar MT"/>
              </a:rPr>
              <a:t>ووهب الحياة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000000"/>
                </a:solidFill>
                <a:latin typeface="Arial Unicode MS"/>
                <a:cs typeface="Akhbar MT"/>
              </a:rPr>
              <a:t>للّذين في القبور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154080"/>
            <a:ext cx="5435640" cy="1150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000000"/>
                </a:solidFill>
                <a:latin typeface="Arial Unicode MS"/>
                <a:cs typeface="Akhbar MT"/>
              </a:rPr>
              <a:t>ليقُم الله فيتشتّت جميع أعدائه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000000"/>
                </a:solidFill>
                <a:latin typeface="Arial Unicode MS"/>
                <a:ea typeface="Akhbar MT"/>
              </a:rPr>
              <a:t> ويهرُب مُبغضوهُ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000000"/>
                </a:solidFill>
                <a:latin typeface="Arial Unicode MS"/>
                <a:cs typeface="Akhbar MT"/>
              </a:rPr>
              <a:t>من أمامِ وجهِهِ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289080" y="-57240"/>
            <a:ext cx="7812000" cy="672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000000"/>
                </a:solidFill>
                <a:latin typeface="Arial Unicode MS"/>
                <a:cs typeface="Akhbar MT"/>
              </a:rPr>
              <a:t>الـمسيح قام من بين الأموات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000000"/>
                </a:solidFill>
                <a:latin typeface="Arial Unicode MS"/>
                <a:cs typeface="Akhbar MT"/>
              </a:rPr>
              <a:t>ووطِئَ الـموتَ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000000"/>
                </a:solidFill>
                <a:latin typeface="Arial Unicode MS"/>
                <a:cs typeface="Akhbar MT"/>
              </a:rPr>
              <a:t>بالـموت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000000"/>
                </a:solidFill>
                <a:latin typeface="Arial Unicode MS"/>
                <a:cs typeface="Akhbar MT"/>
              </a:rPr>
              <a:t>ووهب الحياة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000000"/>
                </a:solidFill>
                <a:latin typeface="Arial Unicode MS"/>
                <a:cs typeface="Akhbar MT"/>
              </a:rPr>
              <a:t>للّذين في القبور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-36360" y="192240"/>
            <a:ext cx="5364000" cy="7934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000000"/>
                </a:solidFill>
                <a:latin typeface="Arial Unicode MS"/>
                <a:cs typeface="Akhbar MT"/>
              </a:rPr>
              <a:t>ليَبيدوا كما يُبَدَّدُ</a:t>
            </a:r>
            <a:br>
              <a:rPr sz="6600"/>
            </a:br>
            <a:r>
              <a:rPr b="1" lang="ar-SA" sz="6600" spc="-1" strike="noStrike">
                <a:solidFill>
                  <a:srgbClr val="000000"/>
                </a:solidFill>
                <a:latin typeface="Arial Unicode MS"/>
                <a:cs typeface="Akhbar MT"/>
              </a:rPr>
              <a:t>الدخان وكما</a:t>
            </a:r>
            <a:br>
              <a:rPr sz="6600"/>
            </a:br>
            <a:r>
              <a:rPr b="1" lang="ar-SA" sz="6600" spc="-1" strike="noStrike">
                <a:solidFill>
                  <a:srgbClr val="000000"/>
                </a:solidFill>
                <a:latin typeface="Arial Unicode MS"/>
                <a:cs typeface="Akhbar MT"/>
              </a:rPr>
              <a:t>يذوب الشمعُ</a:t>
            </a:r>
            <a:br>
              <a:rPr sz="6600"/>
            </a:br>
            <a:r>
              <a:rPr b="1" lang="ar-SA" sz="6600" spc="-1" strike="noStrike">
                <a:solidFill>
                  <a:srgbClr val="000000"/>
                </a:solidFill>
                <a:latin typeface="Arial Unicode MS"/>
                <a:cs typeface="Akhbar MT"/>
              </a:rPr>
              <a:t>من أمامِ وجهِ النار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289080" y="-34920"/>
            <a:ext cx="7812000" cy="672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000000"/>
                </a:solidFill>
                <a:latin typeface="Arial Unicode MS"/>
                <a:cs typeface="Akhbar MT"/>
              </a:rPr>
              <a:t>الـمسيح قام من بين الأموات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000000"/>
                </a:solidFill>
                <a:latin typeface="Arial Unicode MS"/>
                <a:cs typeface="Akhbar MT"/>
              </a:rPr>
              <a:t>ووطِئَ الـموتَ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000000"/>
                </a:solidFill>
                <a:latin typeface="Arial Unicode MS"/>
                <a:cs typeface="Akhbar MT"/>
              </a:rPr>
              <a:t>بالـموت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000000"/>
                </a:solidFill>
                <a:latin typeface="Arial Unicode MS"/>
                <a:cs typeface="Akhbar MT"/>
              </a:rPr>
              <a:t>ووهب الحياة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000000"/>
                </a:solidFill>
                <a:latin typeface="Arial Unicode MS"/>
                <a:cs typeface="Akhbar MT"/>
              </a:rPr>
              <a:t>للّذين في القبور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-27000"/>
            <a:ext cx="5219640" cy="9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000000"/>
                </a:solidFill>
                <a:latin typeface="Arial Unicode MS"/>
                <a:cs typeface="Akhbar MT"/>
              </a:rPr>
              <a:t>كذلك يهلك الخطأة</a:t>
            </a:r>
            <a:br>
              <a:rPr sz="6600"/>
            </a:br>
            <a:r>
              <a:rPr b="1" lang="ar-SA" sz="6600" spc="-1" strike="noStrike">
                <a:solidFill>
                  <a:srgbClr val="000000"/>
                </a:solidFill>
                <a:latin typeface="Arial Unicode MS"/>
                <a:cs typeface="Akhbar MT"/>
              </a:rPr>
              <a:t>من أمام وجهه</a:t>
            </a:r>
            <a:br>
              <a:rPr sz="6600"/>
            </a:br>
            <a:r>
              <a:rPr b="1" lang="ar-SA" sz="6600" spc="-1" strike="noStrike">
                <a:solidFill>
                  <a:srgbClr val="000000"/>
                </a:solidFill>
                <a:latin typeface="Arial Unicode MS"/>
                <a:cs typeface="Akhbar MT"/>
              </a:rPr>
              <a:t>ويفرحُ الصدِّيقونَ</a:t>
            </a:r>
            <a:br>
              <a:rPr sz="6600"/>
            </a:br>
            <a:r>
              <a:rPr b="1" lang="ar-SA" sz="6600" spc="-1" strike="noStrike">
                <a:solidFill>
                  <a:srgbClr val="000000"/>
                </a:solidFill>
                <a:latin typeface="Arial Unicode MS"/>
                <a:cs typeface="Akhbar MT"/>
              </a:rPr>
              <a:t>مسرورين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289080" y="-57240"/>
            <a:ext cx="7812000" cy="672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000000"/>
                </a:solidFill>
                <a:latin typeface="Arial Unicode MS"/>
                <a:cs typeface="Akhbar MT"/>
              </a:rPr>
              <a:t>الـمسيح قام من بين الأموات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000000"/>
                </a:solidFill>
                <a:latin typeface="Arial Unicode MS"/>
                <a:cs typeface="Akhbar MT"/>
              </a:rPr>
              <a:t>ووطِئَ الـموتَ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000000"/>
                </a:solidFill>
                <a:latin typeface="Arial Unicode MS"/>
                <a:cs typeface="Akhbar MT"/>
              </a:rPr>
              <a:t>بالـموت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000000"/>
                </a:solidFill>
                <a:latin typeface="Arial Unicode MS"/>
                <a:cs typeface="Akhbar MT"/>
              </a:rPr>
              <a:t>ووهب الحياة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000000"/>
                </a:solidFill>
                <a:latin typeface="Arial Unicode MS"/>
                <a:cs typeface="Akhbar MT"/>
              </a:rPr>
              <a:t>للّذين في القبور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0" y="0"/>
            <a:ext cx="5724360" cy="864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000000"/>
                </a:solidFill>
                <a:latin typeface="Arial Unicode MS"/>
                <a:cs typeface="Akhbar MT"/>
              </a:rPr>
              <a:t>هذا هو اليوم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000000"/>
                </a:solidFill>
                <a:latin typeface="Arial Unicode MS"/>
                <a:cs typeface="Akhbar MT"/>
              </a:rPr>
              <a:t>الذي صنعه الربّ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000000"/>
                </a:solidFill>
                <a:latin typeface="Arial Unicode MS"/>
                <a:cs typeface="Akhbar MT"/>
              </a:rPr>
              <a:t>فلنفرح ولنتهلَّل به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5T12:33:18Z</dcterms:created>
  <dc:creator>Charbel Azar</dc:creator>
  <dc:description/>
  <dc:language>en-US</dc:language>
  <cp:lastModifiedBy>ف</cp:lastModifiedBy>
  <dcterms:modified xsi:type="dcterms:W3CDTF">2006-04-17T20:18:52Z</dcterms:modified>
  <cp:revision>7</cp:revision>
  <dc:subject/>
  <dc:title>Slide 1</dc:title>
</cp:coreProperties>
</file>