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803-5685-4CD3-8194-1382B67F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FD3-84CD-40AE-92A9-81EC696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DA8-326C-4C68-95A4-344108E6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588-2827-4394-A18C-93DBE45E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980-88D5-4C75-9DEA-9C77FCB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F5C-09CF-45FC-9DB6-5A8BE5B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9B4-9308-4876-A63C-E173F50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E5A-7A00-4A42-918B-43FA2B6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839-926F-457C-BEBC-88A56D3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CAB-63F6-4E9D-9081-98945A1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F07-9E1B-40FB-8C82-80C03E05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2B5-17CB-409B-8F4E-FEF35CF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BF2-6D00-453D-A3EF-82DE89C6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53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3047760" cy="89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يَقُم ليقُمِ الله  وليبتهج بهِ أبناؤه وليفرحِ المؤمنون بخلاص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0574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نمو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شيدوا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اسم ال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عترفو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6092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2971800" cy="9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لهم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ندَ ظهورِك قدامَ شعبِكَ من القبر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جفتِ الأرضُ قطرتِ السماءُ من وجهِ فادينا الجبّار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327672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ه معنا وهو إله التخل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الله يفتدي جميعَ أبنائه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في وَسطِ عذار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-11160"/>
            <a:ext cx="6248520" cy="549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8195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اليوم قام الربُ حقاً من بين الأموات هللوا هللوا لله تباركَ الل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يقم ليقُم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59:59Z</dcterms:created>
  <dc:creator>SUZANNE.MD</dc:creator>
  <dc:description/>
  <dc:language>en-US</dc:language>
  <cp:lastModifiedBy>HANI SAFI</cp:lastModifiedBy>
  <dcterms:modified xsi:type="dcterms:W3CDTF">2003-04-16T13:58:24Z</dcterms:modified>
  <cp:revision>2</cp:revision>
  <dc:subject/>
  <dc:title>PowerPoint Presentation</dc:title>
</cp:coreProperties>
</file>