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2437-9F88-42E5-92C7-610DDFA3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7CE4-097D-4CF7-AB34-CE721199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1D69-6350-494D-817F-773FC9476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03E9-A49F-47A1-BB0A-73736EBE6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6A22-1F5B-4372-99BB-84FA9AC7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C0E1-4AD3-4AF9-B2B8-256F9CC5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BE63-6CE0-4B93-AD6B-EE67FB96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CD25-F8E4-46D3-8B91-85F7B08B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52D7-CD1F-4014-844B-3A560398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BABB-BD98-4E4B-A3F4-93F096FA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168E-9C8F-4E8B-A6DA-E8DA7134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4643-737F-4F23-80C4-D912657C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086D-5C5C-48F9-98CA-369E8AD491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819520" y="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28600"/>
            <a:ext cx="2666880" cy="113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هات يديك وضعهما في جرحي وكن مؤمناً   هات يديك هات يديك أبني بهما العالم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304920" y="228600"/>
            <a:ext cx="3505320" cy="9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يداي تبحثان عنك في الزهور والنور والناس خذني دلّني إليك متى تُشرق ونراكَ وجهاً وجهاً لوجهٍ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19520" y="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228600"/>
            <a:ext cx="2666880" cy="113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هات يديك وضعهما في جرحي وكن مؤمناً   هات يديك هات يديك أبني بهما العالم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304920" y="228600"/>
            <a:ext cx="3505320" cy="10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يداي تبحثان عنك بالرسمِ والنحت والشعر والنقرِ على الأوتار متى تُشرق مِن عتمة يديَّ </a:t>
            </a:r>
            <a:r>
              <a:rPr b="1" lang="ar-SA" sz="4800" spc="-1" strike="noStrike">
                <a:solidFill>
                  <a:srgbClr val="ffcccc"/>
                </a:solidFill>
                <a:latin typeface="Arial"/>
              </a:rPr>
              <a:t>تُشرق مِن عتمة يديَّ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19520" y="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228600"/>
            <a:ext cx="2666880" cy="113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هات يديك وضعهما في جرحي وكن مؤمناً   هات يديك هات يديك أبني بهما العالم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5T04:05:35Z</dcterms:created>
  <dc:creator>HANI SAFI</dc:creator>
  <dc:description/>
  <dc:language>en-US</dc:language>
  <cp:lastModifiedBy>HANI SAFI</cp:lastModifiedBy>
  <dcterms:modified xsi:type="dcterms:W3CDTF">2003-04-25T04:26:15Z</dcterms:modified>
  <cp:revision>1</cp:revision>
  <dc:subject/>
  <dc:title>Slide 1</dc:title>
</cp:coreProperties>
</file>