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5B7-A73B-4BA0-93B7-F84D501E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434-DC9C-458E-9D2D-89DE28DF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40D-6532-452E-992D-98D9FE40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C6D-040C-4B6B-BF58-59F21984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DAF-66EA-470D-96D6-CA137C44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DBE-6D35-408E-988C-56EE770C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EB3-1054-4049-9EF3-5C1CDD39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A85-0C39-4CBB-A56B-064FFE1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FDF-2E16-45BD-B309-EEADEB66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569-9F39-4AA4-B9CD-362CB1E0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A1E-5C24-4E8C-891E-7D73FD5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F0D-15B3-4519-9DB0-783EA56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72A7-0CB6-4E2A-AE3D-F0330CD64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362911HLMymE_ph" descr=""/>
          <p:cNvPicPr/>
          <p:nvPr/>
        </p:nvPicPr>
        <p:blipFill>
          <a:blip r:embed="rId1"/>
          <a:stretch/>
        </p:blipFill>
        <p:spPr>
          <a:xfrm>
            <a:off x="3046320" y="-82440"/>
            <a:ext cx="6935760" cy="770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971800" cy="10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يا حاملاً صَليبَ الفـداء،  صليبَ الفـداء،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مُـرَّ مـن صّوبِنـا نحنُ الذينَ نحيا الوفاء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حُـبــُّـــكَ فــي  قَلبِنــــــا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7055312TKFvGq_ph" descr=""/>
          <p:cNvPicPr/>
          <p:nvPr/>
        </p:nvPicPr>
        <p:blipFill>
          <a:blip r:embed="rId1"/>
          <a:stretch/>
        </p:blipFill>
        <p:spPr>
          <a:xfrm>
            <a:off x="31240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2819520" cy="10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أمامَكَ نَنحني، أنزِلْ صليبَك، ضَعْهُ على أَكتافِنا</a:t>
            </a:r>
            <a:r>
              <a:rPr b="1" lang="en-US" sz="46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وارتَحْ عندَنا قليلاً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طريقُ</a:t>
            </a:r>
            <a:r>
              <a:rPr b="1" lang="en-US" sz="46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خلاصِ طويـلٌ على مَدِّ آمالِكَ</a:t>
            </a:r>
            <a:r>
              <a:rPr b="0" lang="ar-SA" sz="46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6:11:46Z</dcterms:created>
  <dc:creator>SUZANNE.MD</dc:creator>
  <dc:description/>
  <dc:language>en-US</dc:language>
  <cp:lastModifiedBy>SUZANNE.MD</cp:lastModifiedBy>
  <dcterms:modified xsi:type="dcterms:W3CDTF">2003-03-10T06:18:13Z</dcterms:modified>
  <cp:revision>1</cp:revision>
  <dc:subject/>
  <dc:title>PowerPoint Presentation</dc:title>
</cp:coreProperties>
</file>