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989C-14FD-4171-BEC4-B4E42158A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8195-D02F-4D6F-9B50-A714B636D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0A6C-4B88-4709-B80D-7AE3D342F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8495-5D8D-420F-9B70-A2588A266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94C1-7B6D-454F-BB0F-49E17F2E5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AEB9-63BB-4667-ACB8-F439AADC7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288C-B54F-4270-A987-56BFCFB3E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F6D4-59FA-44B5-A580-2B4D9D76E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96C0-4787-45CD-ADCA-FCB0B7F2B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7EAB-7052-4321-9769-589161BC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1001-6335-4A77-B95F-18CA997C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DD1B-5A3C-4BFD-A23A-118830A3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20BC3-6C18-4F5F-8502-958D5C108E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1951018tSNAoaKomf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ملك المجدِ آتٍ إفتحوا الأبواب</a:t>
            </a:r>
            <a:r>
              <a:rPr b="1" lang="en-US" sz="3600" spc="-1" strike="noStrike">
                <a:solidFill>
                  <a:srgbClr val="ffffff"/>
                </a:solidFill>
                <a:latin typeface="Simplified Arabic"/>
                <a:ea typeface="Times New Roman (Arabic)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افرحوا يا شعوبُ</a:t>
            </a:r>
            <a:r>
              <a:rPr b="1" lang="en-US" sz="3600" spc="-1" strike="noStrike">
                <a:solidFill>
                  <a:srgbClr val="ffffff"/>
                </a:solidFill>
                <a:latin typeface="Simplified Arabic"/>
                <a:ea typeface="Times New Roman (Arabic)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وارفعواالهُتا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من هو ملك المجد كيف ندعوه   هو من به كل الشعب موعو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21951018tSNAoaKomf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914400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ملك المجدِ آتٍ إفتحوا الأبواب</a:t>
            </a:r>
            <a:r>
              <a:rPr b="1" lang="en-US" sz="3600" spc="-1" strike="noStrike">
                <a:solidFill>
                  <a:srgbClr val="ffffff"/>
                </a:solidFill>
                <a:latin typeface="Simplified Arabic"/>
                <a:ea typeface="Times New Roman (Arabic)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افرحوا يا شعوبُ</a:t>
            </a:r>
            <a:r>
              <a:rPr b="1" lang="en-US" sz="3600" spc="-1" strike="noStrike">
                <a:solidFill>
                  <a:srgbClr val="ffffff"/>
                </a:solidFill>
                <a:latin typeface="Simplified Arabic"/>
                <a:ea typeface="Times New Roman (Arabic)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وارفعواالهُتا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في كلِّ الأرضِ ذاع مجد فادينا   </a:t>
            </a:r>
            <a:r>
              <a:rPr b="1" lang="en-US" sz="3600" spc="-1" strike="noStrike">
                <a:solidFill>
                  <a:srgbClr val="ffffff"/>
                </a:solidFill>
                <a:latin typeface="Simplified Arabic"/>
                <a:ea typeface="Times New Roman (Arabic)"/>
              </a:rPr>
              <a:t>   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الساكن بيننا بلمسةٍ يشفي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21951018tSNAoaKomf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914400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ملك المجدِ آتٍ إفتحوا الأبواب</a:t>
            </a:r>
            <a:r>
              <a:rPr b="1" lang="en-US" sz="3600" spc="-1" strike="noStrike">
                <a:solidFill>
                  <a:srgbClr val="ffffff"/>
                </a:solidFill>
                <a:latin typeface="Simplified Arabic"/>
                <a:ea typeface="Times New Roman (Arabic)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افرحوا يا شعوبُ</a:t>
            </a:r>
            <a:r>
              <a:rPr b="1" lang="en-US" sz="3600" spc="-1" strike="noStrike">
                <a:solidFill>
                  <a:srgbClr val="ffffff"/>
                </a:solidFill>
                <a:latin typeface="Simplified Arabic"/>
                <a:ea typeface="Times New Roman (Arabic)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وارفعواالهُتا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أعطى حياته لمنحه الخلاص</a:t>
            </a:r>
            <a:r>
              <a:rPr b="1" lang="en-US" sz="3600" spc="-1" strike="noStrike">
                <a:solidFill>
                  <a:srgbClr val="ffffff"/>
                </a:solidFill>
                <a:latin typeface="Simplified Arabic"/>
                <a:ea typeface="Times New Roman (Arabic)"/>
              </a:rPr>
              <a:t>          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هو حامل كل خطايا النا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21951018tSNAoaKomf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0"/>
            <a:ext cx="914400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ملك المجدِ آتٍ إفتحوا الأبواب</a:t>
            </a:r>
            <a:r>
              <a:rPr b="1" lang="en-US" sz="3600" spc="-1" strike="noStrike">
                <a:solidFill>
                  <a:srgbClr val="ffffff"/>
                </a:solidFill>
                <a:latin typeface="Simplified Arabic"/>
                <a:ea typeface="Times New Roman (Arabic)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افرحوا يا شعوبُ</a:t>
            </a:r>
            <a:r>
              <a:rPr b="1" lang="en-US" sz="3600" spc="-1" strike="noStrike">
                <a:solidFill>
                  <a:srgbClr val="ffffff"/>
                </a:solidFill>
                <a:latin typeface="Simplified Arabic"/>
                <a:ea typeface="Times New Roman (Arabic)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وارفعواالهُتا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قام ألهنا فقهر الخطيئة    </a:t>
            </a:r>
            <a:r>
              <a:rPr b="1" lang="en-US" sz="3600" spc="-1" strike="noStrike">
                <a:solidFill>
                  <a:srgbClr val="ffffff"/>
                </a:solidFill>
                <a:latin typeface="Simplified Arabic"/>
                <a:ea typeface="Times New Roman (Arabic)"/>
              </a:rPr>
              <a:t>       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أعطى من السماء رؤية جديد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1T04:16:19Z</dcterms:created>
  <dc:creator>USER</dc:creator>
  <dc:description/>
  <dc:language>en-US</dc:language>
  <cp:lastModifiedBy>USER</cp:lastModifiedBy>
  <dcterms:modified xsi:type="dcterms:W3CDTF">2003-02-08T07:35:43Z</dcterms:modified>
  <cp:revision>2</cp:revision>
  <dc:subject/>
  <dc:title>PowerPoint Presentation</dc:title>
</cp:coreProperties>
</file>