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DDE-0316-4039-B630-E7193385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865-F888-4F13-B1A3-0DDE0D7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B3-BF81-43F4-B03F-CE16C7D9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034-258F-42AE-9B84-48F14950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5D1-CA40-4950-BFB3-F42A80D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F9B-6D7F-491E-91FA-8B8FA16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CCF-FD94-42F4-A358-D92BD8CF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7A9-A0F8-4D97-B634-E9B3AFA5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15E-E30E-4996-AC5A-A4BD28A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AC7-9123-42CD-A490-32D5CF2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44A-214F-4E76-9365-1F8C62C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A79-53DB-4A7A-B84E-924CB49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3BB-3448-4BEE-84DE-7D18A9B6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-face+thorns+blood" descr=""/>
          <p:cNvPicPr/>
          <p:nvPr/>
        </p:nvPicPr>
        <p:blipFill>
          <a:blip r:embed="rId2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267080" cy="9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في مشهدٍ أدمى العيون في أَلمٍ لم ينت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ربُّ السماءِ قد روى أرضاً طَغَتْ من دم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أَذكُرُ أني يَومها شاركْتُ في تسمير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عَيني بعينهِ التَقَت رأيتُ دمعةً وق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uswe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3886200"/>
            <a:ext cx="4572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حبَبْتُكم للمنتهى  أحببتكم بلا حد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وصيَّتي " حبّوا كما  أحببتكم بلا حدود</a:t>
            </a:r>
            <a:r>
              <a:rPr b="1" lang="ar-SA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"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786BKgRhTuZiB_ph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3657600" cy="11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عشتُ أياماً طَوَت قلباً لَوى مِن كَرْبِ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ما استطعتُ لَحظَةً أن أَختفي مِن ح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تابَ قلبي نادماً فذاق حُبَّ رَ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جثو وقلبي ينسبي إذ أَسمع الفادي يقول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: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112176uwhvKdoRUB_ph" descr=""/>
          <p:cNvPicPr/>
          <p:nvPr/>
        </p:nvPicPr>
        <p:blipFill>
          <a:blip r:embed="rId1"/>
          <a:stretch/>
        </p:blipFill>
        <p:spPr>
          <a:xfrm>
            <a:off x="3809880" y="0"/>
            <a:ext cx="542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دما يُسيءُ لي أخٌ قريبٌ أن بعيد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تغتلي في داخلي جميعُ أَصْنافِ الوَ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شِكُ أن أَرُدَّها ضِعفاً بإصرارٍ يز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جأةً يَحصُرُني صوتٌ من العُلى يقو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07Z</dcterms:created>
  <dc:creator>SUZANNE.MD</dc:creator>
  <dc:description/>
  <dc:language>en-US</dc:language>
  <cp:lastModifiedBy>SUZANNE.MD</cp:lastModifiedBy>
  <dcterms:modified xsi:type="dcterms:W3CDTF">2003-03-10T10:45:09Z</dcterms:modified>
  <cp:revision>1</cp:revision>
  <dc:subject/>
  <dc:title>PowerPoint Presentation</dc:title>
</cp:coreProperties>
</file>