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7EE-9864-4199-A141-4D6E0AE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6ED-EC63-4E56-9D36-F9EC5D5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27B-0914-4889-BB43-02F05897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60E-7D8E-49A4-B5B2-E8403F36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D12-3666-4BC5-BD09-BE3CA648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BA66-6DAA-4B94-9347-AE6096B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F639-C491-414B-96CC-941A807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4768-65CD-41FD-B62D-A8B5AA5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FFB3-C9E6-4ED3-AA61-0D7B901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56A-7904-4DC2-91D5-9794011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EDA7-844F-46FA-8B9A-2F0003F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BDA-4F3D-4E92-AAAE-A8314F8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E387-21A6-4615-BB4C-21C6131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EC06-1766-46F1-93B8-EE84C61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C49-4F28-413E-8110-593504EA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388-616E-432F-9434-A9825822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6F8B-B775-4DB3-B582-70FF0DC2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9B14-FBCC-40CC-827F-FC203C4C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ABB3-3B6C-4793-82D4-8E655AA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4AD1-2756-4C68-90CF-BF5A9E31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88DB-F607-44E6-92A4-1E5733C3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9E2D-FBFB-4D6C-8B1E-ADE25A4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9AF-E5C5-4198-89D8-42A6DCA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A552-0648-45A3-9939-8FAACE4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B839-0003-4CEA-ADAD-B7E762C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A9F5-8C36-4621-A1AE-6AED193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8C7D-A318-4904-ACEE-8366EC1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691C-43EC-4E0E-9542-362C4AD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8C91-B0DC-47DB-8624-F82BBF00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D3A5-EE6B-4913-8B43-817C13F2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9987-65C5-437C-B90D-89910034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0FFF-4C0A-442A-9A23-EDF17C7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1B78-868A-43AB-90C7-197C823A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4B9-04C2-49A3-B332-85086DCA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5EC1-BEEA-4C31-8844-75D75AA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1D2B-4F7E-47DD-A62E-CF10091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3969-AF93-488E-A7E5-D15598B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5B9F-2A84-4E2E-A68A-CC175B4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9AA9-BA2A-4FC5-9F5B-FE80D5B5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C8F2-5F68-4410-85FF-22A6728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9659-47B9-4A0A-8E58-18611FE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90D3-46B8-47BD-BF0D-99BC219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9A07-52E0-411B-8405-C89A8EEC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780E-C4AF-4BE4-A5DC-C8D8761A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FC6-FF1D-4661-BF1D-700DE0BD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6C3C-D69C-429F-91E4-848F4069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1DF9-074C-4F0A-93D9-546EC1F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DAF2-B22C-430E-A32C-C48E518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B09E-BE43-4897-95A5-A5216C82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24B3-AA1C-4F04-9E6A-020DDE9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E9A3-1426-45C9-A83D-DC8B551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DB76-0282-419B-82D3-F439671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2FB0-AF59-4D2B-95F0-1667290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7032-A048-40B8-9E54-501E0ED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EDD34-59CA-4901-97E4-FD482CA3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8F4-1F24-4F43-AC76-C8C3568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763F-5A6B-44E6-9137-8D6B6C5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A0E-D297-45FE-8C3B-6A4CE12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A70-283C-4E50-8993-D4DED9F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648-FD99-4210-929E-AD8B1FE9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088B-F939-4A4E-973F-9177CADCDB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657-099B-4903-B31B-DB26D32CBC9C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AEB6-4395-4691-BC74-0022D1EE13E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21AE-4285-48D7-B787-B33EC1DFA9F7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04AA-9495-4BB7-9F54-7A02FFD397A0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076640"/>
            <a:ext cx="5076720" cy="55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مسيح قام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5236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4080"/>
            <a:ext cx="5435640" cy="115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قُم الله فيتشتّت جميع أعدائ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ea typeface="Akhbar MT"/>
              </a:rPr>
              <a:t> ويهرُب مُبغضوه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6360" y="192240"/>
            <a:ext cx="5364000" cy="79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َبيدوا كما يُبَدَّد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دخان وكم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يذوب الشمع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 الن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-3492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7000"/>
            <a:ext cx="5219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كذلك يهلك الخطأة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 وجهه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يفرحُ الصدِّيقونَ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سرو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5724360" cy="86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هذا هو الي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ذي صنعه الرب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لنفرح ولنتهلَّل ب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ف</cp:lastModifiedBy>
  <dcterms:modified xsi:type="dcterms:W3CDTF">2006-04-17T20:18:52Z</dcterms:modified>
  <cp:revision>7</cp:revision>
  <dc:subject/>
  <dc:title>Slide 1</dc:title>
</cp:coreProperties>
</file>