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CA5-CBB9-4EEB-AC6A-E2F59253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CCC-3B65-4D46-85BE-16C6F62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C6A-D409-4FE5-8F26-C9F00C74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AE-13D4-4CC1-B420-15C7D912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D7C-F153-4224-A394-A314B4A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F96-89AD-4F39-A831-C5DB1E46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9F8-9494-47A5-9B9B-AF2BC0F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CE1-EF70-4C4C-B381-2C7429F3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E36-F1E8-44ED-92A7-8B75F669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31D-9803-4D1E-A305-94EF55A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69A-F24B-4D15-B677-A76DA6F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572-1562-4B90-A198-9FB43B4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E9E9-833D-432E-9977-F3BEF0893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cross%20and%20faces" descr=""/>
          <p:cNvPicPr/>
          <p:nvPr/>
        </p:nvPicPr>
        <p:blipFill>
          <a:blip r:embed="rId1"/>
          <a:stretch/>
        </p:blipFill>
        <p:spPr>
          <a:xfrm>
            <a:off x="40384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يا أيهذا الرأسُ ما هذهِ الأوجاع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مِنكَ دِماءٌ تجْري سيلاً بلا انقطاع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فيا لهُ  من سوءٍ يُجزى بهِ الجم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إليكَ راسَ ربِّي سلامَنا الجز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0"/>
            <a:ext cx="64771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ناسُ هاكُم جسمَ المُخلّصِ الذب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لْ رأيتُم سُقماً كسُقمِ ذا الجريح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 أجلِكُم دِماهُ تسيلُ يا أُم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قمةٍ لرأسٍ لأَخمَصِ القَد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int%20+%20cross+%20jesus" descr=""/>
          <p:cNvPicPr/>
          <p:nvPr/>
        </p:nvPicPr>
        <p:blipFill>
          <a:blip r:embed="rId1"/>
          <a:stretch/>
        </p:blipFill>
        <p:spPr>
          <a:xfrm>
            <a:off x="4000680" y="-1295280"/>
            <a:ext cx="5829120" cy="1021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36576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ذي يا ربي قد سبَّبَ الآل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فرْطِ ما جَنَاهُ مِن أَثقلِ الآث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يدُ ارحَمْ عبداً يرجو لها الغف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َهَبْ لهُ مَقامَ السماءِ يا رحمان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riends%20with%20god" descr=""/>
          <p:cNvPicPr/>
          <p:nvPr/>
        </p:nvPicPr>
        <p:blipFill>
          <a:blip r:embed="rId1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105520" cy="76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يا ربُّ إنَّا نبكي لذا الموتِ الأل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ومِن صًميمِ قلبٍ ندعوكَ يا رَح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هبنا سلاماً والْطُفْ بِشعبِكَ الأث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نوِّلْنا أخيراً سعادةَ النّعيمْ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0:32:59Z</dcterms:created>
  <dc:creator>SUZANNE.MD</dc:creator>
  <dc:description/>
  <dc:language>en-US</dc:language>
  <cp:lastModifiedBy>SUZANNE.MD</cp:lastModifiedBy>
  <dcterms:modified xsi:type="dcterms:W3CDTF">2003-03-19T06:35:23Z</dcterms:modified>
  <cp:revision>2</cp:revision>
  <dc:subject/>
  <dc:title>PowerPoint Presentation</dc:title>
</cp:coreProperties>
</file>