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21B-E0D6-47DB-82E2-BA70B115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BB9-D9D6-4FE3-931A-2D64A296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109-ECFF-4FC5-A616-B12CA1F9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811-A998-4D7C-A370-3CBA317B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5A43-F621-4158-9BAB-A091170F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7458-8B22-4A85-B6A1-CB5DB20C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3382-ED3D-48AD-8791-6821D220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C56B-1426-4EB0-A9D3-755D972D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907C-C6CA-4A20-9464-16731820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4C46-CD90-4083-8260-F0489C8D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C815-17F0-41C0-9400-1D8D6392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244-91B7-40C8-9116-CA1CBB6A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3052-1D54-4E16-9242-BFDD9AD9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0DDD-321C-4E1A-8164-60B5DB47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73FD-ADD0-45AC-855F-232E3EAD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47FA-C3B1-46D3-BF53-79C85CCA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D450-7639-4B7D-8A3E-7A7A8AF4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10B-C637-4289-91F0-80FEFA3D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9E8-EE58-4C56-B31C-E61D6535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1EE-7D7F-4B3D-8B22-BC177B9C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9F1-4E2F-48D6-96E4-01C792D9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FFF-8666-4D59-8A9A-A998DEBE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EC5-C236-48D6-9AEF-C8D661F2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9C0-2F60-4CC5-A54C-5E119CF6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4FBE-57D6-4BA4-A36D-D2693C47B1E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656A-9B84-40A4-BC1A-87AE9FF73F5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900000"/>
            <a:ext cx="7993080" cy="769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Tahoma"/>
                <a:cs typeface="????Boutros Rokaa"/>
              </a:rPr>
              <a:t>نشيد القيامة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بعد أيام ثلاث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عْدَ أَيَّامٍ ثلاثة صَارَ تَارِيخٌ جَدِيد. كَانَ مَوْتٌ، كَانَ بُغْضٌ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َمْ يَكُنْ يَسُوعُ قَام ثمَّ قَام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أَتَى بالحُبِّ يَهْدِينَا، هَللوي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13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قَدْ مَاتَ فِي ظِلِّ الْقِيَامَة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َمْ يَمُتْ، قَامَ عِنْدَ الْفَجْرِ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يْنَ الْجُنْدِ، رُغْمَ الْمَوْتِ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ْدَ الفَجْرِ قَامَ. بَيْنَ الْجُنْدِ قَامِ،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غْمَ الْمَوْتِ قَامَ، هللوي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َارَعَتْ فِي الْفَجْرِ نَحْوَ الْقَبْرِ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لُّ الْمَرْيَمَاتْ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"أَيْنَ يَسُوعُ "؟ سَأَلْنَ: "أَيْنَ هُو"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ُوا لَهُنَّ: "قَامَ، حَقّاً قَام"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36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ْدَ الفَجْرِ قَامَ.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يْنَ الْجُنْدِ قَامِ،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غْمَ الْمَوْتِ قَامَ، هللويا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2:38:19Z</dcterms:created>
  <dc:creator>Charbel Azar</dc:creator>
  <dc:description/>
  <dc:language>en-US</dc:language>
  <cp:lastModifiedBy>-</cp:lastModifiedBy>
  <dcterms:modified xsi:type="dcterms:W3CDTF">2003-04-27T09:26:49Z</dcterms:modified>
  <cp:revision>9</cp:revision>
  <dc:subject/>
  <dc:title>Slide 1</dc:title>
</cp:coreProperties>
</file>