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3BD6-A87E-4CDC-863A-4A1880E8B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4B4E-E35B-4065-AEDF-39433A07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0D59-5497-4DAF-850F-C3B6AE13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87A6-F26D-4C0F-9FDA-25C7CEA8A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D1BE-858C-4A45-A1EE-9ED4487F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96ED-A382-4D9B-AB60-78B0E553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EFB0-5B01-4E08-8C20-5ED9E17D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B6B7-6012-4255-B192-7F4AA7CD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BFE4-34A6-4883-BE11-CF0BF4F1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4738-3D00-4097-ABA1-A7312B25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A0DC-DF5D-4AF5-BE64-81E93979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0F4D-C20A-472B-9826-4BA75123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7723-303D-4D9B-883B-8FCD970E3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04920" y="0"/>
            <a:ext cx="4724640" cy="98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Arial"/>
                <a:cs typeface="Simplified Arabic"/>
              </a:rPr>
              <a:t>يا مَن أحيانا بالموتِ صلبا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Arial"/>
                <a:cs typeface="Simplified Arabic"/>
              </a:rPr>
              <a:t>إقبل موتانا في دارِ الخُل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Arial"/>
                <a:cs typeface="Simplified Arabic"/>
              </a:rPr>
              <a:t>غيثَ المراحم أَسبِغ عليه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Arial"/>
                <a:cs typeface="Simplified Arabic"/>
              </a:rPr>
              <a:t>يا خيرَ راحم يا بحرَ الجو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Arial"/>
                <a:cs typeface="Simplified Arabic"/>
              </a:rPr>
              <a:t>فليستنيروا مِنْ نورِ وجهِ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Arial"/>
                <a:cs typeface="Simplified Arabic"/>
              </a:rPr>
              <a:t>ولَيستريحوا مَع مَنْ</a:t>
            </a:r>
            <a:r>
              <a:rPr b="1" lang="ar-SA" sz="4000" spc="-1" strike="noStrike">
                <a:solidFill>
                  <a:srgbClr val="ffff66"/>
                </a:solidFill>
                <a:latin typeface="Arial"/>
                <a:ea typeface="Simplified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Arial"/>
                <a:cs typeface="Simplified Arabic"/>
              </a:rPr>
              <a:t>أرضَو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40400" y="152280"/>
            <a:ext cx="45036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09:43:33Z</dcterms:created>
  <dc:creator>HANI SAFI</dc:creator>
  <dc:description/>
  <dc:language>en-US</dc:language>
  <cp:lastModifiedBy>HANI SAFI</cp:lastModifiedBy>
  <dcterms:modified xsi:type="dcterms:W3CDTF">2003-04-10T10:32:56Z</dcterms:modified>
  <cp:revision>2</cp:revision>
  <dc:subject/>
  <dc:title>Slide 1</dc:title>
</cp:coreProperties>
</file>