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341-D4CE-4D8E-B593-B7767BAA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E3C-5D5C-44DE-96A0-CEB9A65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804-9355-427E-9D23-8A9D76A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D72-AE09-4879-B2E0-B7FA263E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10AE-9F69-4B5F-81BA-5857B6CC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04E3-3C3E-4ABF-912D-F6AA3BE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F7C-9670-4E3C-8C83-E29EF002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014A-16D8-402B-84E7-78D43D3B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872-0DDA-490C-B1C4-459C689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9AA7-4E20-436F-8EA7-38D3CFA1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2951-050C-4C86-8B91-D4D6D23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CE2-8FAD-4A33-A470-679A5D4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4EE4-09D4-4EFA-991E-E25B0E3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B2A9-90B3-47CC-8E5E-F3B7AA51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D15-4910-4F72-8A3A-40CDDF7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A1D-F418-480C-8103-4261D5F4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4800-D1B6-496B-A0D7-EF871A78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054-4B46-4D23-A1F2-1DF9CDDE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F75-AF83-4E42-B317-72678650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B59-5997-4776-A4C0-0F0F4643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81C-A23A-47E6-BE9E-FFCC5EB1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861-D11B-49C6-82DB-6AF4E6D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2F5-1540-4FAC-A622-8D3A2BF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E53-F0FD-43E9-8EF6-CFFF4D0E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1B61-3CA8-435F-9047-29570B5D604B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A7C7-88F7-40E8-9558-D2FF34C2D76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156280"/>
            <a:ext cx="6659640" cy="33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نا غلبت المو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0"/>
            <a:ext cx="8136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لأجلِ زلاّتِنا ماتَ الـمسيح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ولأجلِ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تبريرِ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قد قام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5508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نتم أموات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لخطيئ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حياءٌ لله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ـمسيح يسوع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238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0"/>
            <a:ext cx="594036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أنتم قمتم م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حياتُكم هيَ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انظروا إلى الأعا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إلى مجده ارتفعو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1600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-</cp:lastModifiedBy>
  <dcterms:modified xsi:type="dcterms:W3CDTF">2003-04-20T07:08:51Z</dcterms:modified>
  <cp:revision>14</cp:revision>
  <dc:subject/>
  <dc:title>Slide 1</dc:title>
</cp:coreProperties>
</file>