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FA8-9C0E-44CC-9F19-BF51ACD0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021-1832-46DD-B456-8E16059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BD1-E41B-44CF-9918-65844031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782-979E-4D26-B11E-F682E3EC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C93-54EF-4272-A1EB-860BF88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BE5-D967-407D-B40F-7D9B3A4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6CC-45FE-4EB0-8E1E-7AF4D88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3CA-D496-41EC-97F4-11A645F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496-1AB5-4DC2-8AFE-AC13D5E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1C3-CB05-4DB6-B552-B1F3C3A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294-5A83-4420-9CDF-DCA31B9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1B3-9AD0-4319-BB5B-61A31AC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A9C-5203-442A-ADF2-068A3D67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باركٌ من فدانا بموتِهِ وأحيانـ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فادينـــا حقّقْ فينا سرَّ الفـد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لامَ وموتـَـكَ والقيامـــــ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4956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يـا مـن غـدا في المماتِ سـرَّ الفِدا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للحياةِ ربَّ الجودِ فوقَ العودِ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ــا للحـبِ  حـبِّ الـربِ غمـرِ الحــبِ اللامحـدودِ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525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بارك يومُ الجمعة يسقـي الرجـا صِدقَ الدمعـ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دو البيعـة لفاديهـا الإبـنِ الحبيب الممدودِ على الصليب رهنِ التعذ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809880" cy="10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مجدُ الآبَ المحجوب ونحمَدُ الإبنَ المصلوب نشدو الشك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ـروحَ الحنـّانْ ألثالوثَ اللّـهَ الأوحدْ سراً يُعبَدْ طولَ  الأزما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2754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11:23Z</dcterms:created>
  <dc:creator>SUZANNE.MD</dc:creator>
  <dc:description/>
  <dc:language>en-US</dc:language>
  <cp:lastModifiedBy>HANI SAFI</cp:lastModifiedBy>
  <dcterms:modified xsi:type="dcterms:W3CDTF">2003-04-16T13:59:54Z</dcterms:modified>
  <cp:revision>3</cp:revision>
  <dc:subject/>
  <dc:title>PowerPoint Presentation</dc:title>
</cp:coreProperties>
</file>