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A1975-95FD-4108-AF8D-59DC9A459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9A4AB-5C18-45E7-A94F-4AE697BA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2E38B-55F5-4379-B07B-1B51091D6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89705-99E2-4ECD-BD3F-06593958F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EF19-28FB-4420-8764-8AF877A1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699EE-3E6D-47EA-9C30-91581B483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C1FE-C3D6-43E2-B9DF-DED75D682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A22B9-933A-401D-A20A-33EA32FFF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A432-1C54-4EFB-8A5B-A30053CC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EE4E-7A6C-4D09-B456-85D1BE45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0823-9F71-4010-AAD4-AD119AC1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6F71-3B70-49F3-A615-40F777BAC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F038-9F96-4C03-ACF4-F4FC42D86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7506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8652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Simplified Arabic"/>
              </a:rPr>
              <a:t>     </a:t>
            </a:r>
            <a:r>
              <a:rPr b="1" lang="en-US" sz="4000" spc="-1" strike="noStrike">
                <a:solidFill>
                  <a:srgbClr val="ffffcc"/>
                </a:solidFill>
                <a:latin typeface="Times New Roman"/>
                <a:cs typeface="Simplified Arabic"/>
              </a:rPr>
              <a:t>مريمُ الأمُ الحزينة            والبتولةُ الأمينة      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rPr>
              <a:t>أيتها الأم القديســة</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إجعلي جراحات وحيد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فـي قلبــــي منطبعـ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6087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HANI SAFI</cp:lastModifiedBy>
  <dcterms:modified xsi:type="dcterms:W3CDTF">2003-04-11T05:38:09Z</dcterms:modified>
  <cp:revision>2</cp:revision>
  <dc:subject/>
  <dc:title>PowerPoint Presentation</dc:title>
</cp:coreProperties>
</file>