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489B-A7F8-4B8A-A8B1-7B06FC2F9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505A-8F89-4474-8FA0-3CA8086D0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AF99-A3F3-4162-8671-59F1F9E74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9091-DB18-4E1A-A83B-16EC8E00C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E757-A4C5-45E4-8013-D4C28D170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6882-169D-433A-9C63-93D8D38EE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7906-CE62-47B0-A443-46FF854F4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33A5-038E-48CC-A196-17C468AD2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8A5E-D330-4789-8583-54F4FC521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6190-8E2F-42F2-9637-73D6A9F21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B1B2-1FCA-4A7C-AB7A-C440F5E9A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24CD-A423-4C90-B80B-BF04112C6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4F36F-202E-44D8-87D8-2225CE184C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5324937uKhisKVkwI_ph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4572000" cy="102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3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تحت الصليب بركع عندك بتأمل في جراحاتك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3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نا بجيلك بجروحي وأعرف أنه شفائي فيك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3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حتى لو كان الرأس سقيم حتى لو كان الكل مريض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3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نا بجيلك بحروحي وأعرف انه شفائي فيك</a:t>
            </a:r>
            <a:r>
              <a:rPr b="0" lang="ar-SA" sz="4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tat0903" descr=""/>
          <p:cNvPicPr/>
          <p:nvPr/>
        </p:nvPicPr>
        <p:blipFill>
          <a:blip r:embed="rId1"/>
          <a:stretch/>
        </p:blipFill>
        <p:spPr>
          <a:xfrm>
            <a:off x="3733920" y="0"/>
            <a:ext cx="54784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80880" y="1143000"/>
            <a:ext cx="3429000" cy="51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بجلدتك شُفيت بجلدتك شُفيت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jesus%20on%20crossss" descr=""/>
          <p:cNvPicPr/>
          <p:nvPr/>
        </p:nvPicPr>
        <p:blipFill>
          <a:blip r:embed="rId1"/>
          <a:stretch/>
        </p:blipFill>
        <p:spPr>
          <a:xfrm>
            <a:off x="4572000" y="0"/>
            <a:ext cx="486576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0"/>
            <a:ext cx="4572000" cy="110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كل إساءة لم تُغتفر  وجرحي في القلب انحف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حتى لو كان بقالو سنين إيماني فيك إنت يا معي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إرفع المجد لاسمك في صليبك قوة شف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قوة تحرير قوة تبرير قوة سلام وفرح وعزاء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0T09:39:24Z</dcterms:created>
  <dc:creator>SUZANNE.MD</dc:creator>
  <dc:description/>
  <dc:language>en-US</dc:language>
  <cp:lastModifiedBy>SUZANNE.MD</cp:lastModifiedBy>
  <dcterms:modified xsi:type="dcterms:W3CDTF">2003-03-10T10:05:04Z</dcterms:modified>
  <cp:revision>1</cp:revision>
  <dc:subject/>
  <dc:title>PowerPoint Presentation</dc:title>
</cp:coreProperties>
</file>