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F7D-272B-477E-8B7A-857BBA46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467-188D-4D86-A569-C8D19FE5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F2D-C1D2-4A5D-B51C-C69BFA75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8AE-C017-402F-8AD8-4FC99859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2C1-0FE1-4B8C-9701-C9201DE0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452-2568-45AD-BC04-F9099A0E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99E-B500-4339-B193-FEA612A9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D88-4FDF-4B12-B51B-35103DBA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64D-59F5-4C42-B692-6EF35229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F50-DE98-442A-B91B-5B0B48D4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4F7-75CD-498F-9907-8812226B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316-7759-47FE-910C-4A3B0D99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F101-5592-4A68-9971-50AE06055F25}" type="slidenum">
              <a:rPr b="0" lang="ar-SA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200" spc="-1" strike="noStrike">
                <a:solidFill>
                  <a:srgbClr val="ffffff"/>
                </a:solidFill>
                <a:latin typeface="Tahoma"/>
                <a:cs typeface="????Boutros Rokaa"/>
              </a:rPr>
              <a:t>اليوم عُلق</a:t>
            </a:r>
            <a:endParaRPr b="0" lang="en-US" sz="1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ea typeface="Akhbar MT"/>
              </a:rPr>
              <a:t> اليوم عُلِّق على خَشَبَ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ذي عَلَّقَ الأرضَ على المياه. إكليلٌ من شوكٍ وُضِعَ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على هامَةِ مَلِكِ الملائكة.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برفيراً كاذباً تسربل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ذي وشّح السماءَ بالغيوم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قَبلَ لطمةً الذي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أعتقَ آدمَ في الأردُن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خَتَنُ البيعةِ سُمِّرَ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بالمسامير وابنُ العذراءِ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طُعِنَ بحربة.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نسجدُ لآلامِكَ أيها المسيح 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أرِنا قيامَتَكَ المجيدة.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1:44:59Z</dcterms:created>
  <dc:creator>-</dc:creator>
  <dc:description/>
  <dc:language>en-US</dc:language>
  <cp:lastModifiedBy>-</cp:lastModifiedBy>
  <dcterms:modified xsi:type="dcterms:W3CDTF">2003-04-18T11:44:59Z</dcterms:modified>
  <cp:revision>1</cp:revision>
  <dc:subject/>
  <dc:title>Slide 1</dc:title>
</cp:coreProperties>
</file>