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65ADC-419D-4C8F-8614-B5F38DE77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7634C-2D41-47E6-BC8B-1D38C00EA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C3E02-DFD1-4D3C-BB65-27F2BD008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A2198-09B0-4931-8228-643580EFB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E2450-883A-4554-A9F6-B1483D18C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1CCB1-13A2-4AB4-83B9-877C9B32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8A3AB-EB50-436A-AB86-0717154E3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58757-92F2-48FA-921E-B29A79103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A344E-E914-4E3F-AF8C-1896464F2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B996E-3604-4A9F-94D6-48784F5D8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3B78B-DFAC-424C-AFAD-55890252B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0568F-0FEB-4752-B3F7-63CCF2A49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3B5A-6494-4ABA-937B-BEC162584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563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3200" spc="-1" strike="noStrike">
                <a:solidFill>
                  <a:srgbClr val="000000"/>
                </a:solidFill>
                <a:latin typeface="Times New Roman"/>
                <a:ea typeface="Simplified Arabic"/>
              </a:rPr>
              <a:t>(متى: </a:t>
            </a:r>
            <a:r>
              <a:rPr b="0" lang="ar-SA" sz="3200" spc="-1" strike="noStrike">
                <a:solidFill>
                  <a:srgbClr val="000000"/>
                </a:solidFill>
                <a:latin typeface="Times New Roman"/>
                <a:ea typeface="Simplified Arabic"/>
              </a:rPr>
              <a:t>10/38</a:t>
            </a:r>
            <a:r>
              <a:rPr b="0" lang="ar-SA" sz="3200" spc="-1" strike="noStrike">
                <a:solidFill>
                  <a:srgbClr val="000000"/>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8"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9"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10188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10"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st11"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st12"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st13"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9334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st14"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mary%20sad"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Simplified Arabic"/>
              </a:rPr>
              <a:t>    </a:t>
            </a:r>
            <a:r>
              <a:rPr b="1" lang="en-US" sz="4000" spc="-1" strike="noStrike">
                <a:solidFill>
                  <a:srgbClr val="000000"/>
                </a:solidFill>
                <a:latin typeface="Times New Roman"/>
                <a:ea typeface="Simplified Arabic"/>
              </a:rPr>
              <a:t> </a:t>
            </a:r>
            <a:r>
              <a:rPr b="1" lang="ar-SA" sz="4000" spc="-1" strike="noStrike">
                <a:solidFill>
                  <a:srgbClr val="ffffcc"/>
                </a:solidFill>
                <a:latin typeface="Times New Roman"/>
                <a:cs typeface="Simplified Arabic"/>
              </a:rPr>
              <a:t>مريمُ الأمُ الحزينة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لبتولةُ الأمينة</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يا شريكةَ الفداءِ</a:t>
            </a:r>
            <a:r>
              <a:rPr b="1" lang="ar-SA"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أُمَنا أُمَّ العزاءِ</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علّمينا أن نت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8550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2"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3"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4"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5"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6"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SUZANNE.MD</cp:lastModifiedBy>
  <dcterms:modified xsi:type="dcterms:W3CDTF">2003-04-03T09:18:20Z</dcterms:modified>
  <cp:revision>1</cp:revision>
  <dc:subject/>
  <dc:title>PowerPoint Presentation</dc:title>
</cp:coreProperties>
</file>