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60C-A867-462C-8AFE-B511078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7AC-407F-4657-B5D3-B85BC8A1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360-52BF-457D-BCB9-D5F9F3E5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9A2-BFA6-4471-96FC-3E0CE0E2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6C5-2743-4ADB-9390-82AD82C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405-FB93-42C3-8607-AA54A66A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6DE-CB73-4F86-89B9-571E7C6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28E-EEA5-4CEA-B220-77C61BE9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453-2E73-4F18-ACAC-7932804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E18-567D-4E9C-89B3-83E5597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73A-5D77-467B-A74E-AFAF0A7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C44-9D17-44F8-A080-6BCA4A6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17E-CBD9-438C-8067-D3B75EC1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3200400" cy="9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غيثَ المراح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أسبِغ عليه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خيرَ راحِ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بحرَ الج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51460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فَلْيَستنير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ن نورِ وجهِ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ليستريح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ع مَن أرضَ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0:59Z</dcterms:created>
  <dc:creator>HANI SAFI</dc:creator>
  <dc:description/>
  <dc:language>en-US</dc:language>
  <cp:lastModifiedBy>HANI SAFI</cp:lastModifiedBy>
  <dcterms:modified xsi:type="dcterms:W3CDTF">2003-05-19T11:42:17Z</dcterms:modified>
  <cp:revision>1</cp:revision>
  <dc:subject/>
  <dc:title>Slide 1</dc:title>
</cp:coreProperties>
</file>