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179-C7EB-41C7-A546-B74C641F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62F-B9BD-43E9-80EF-0741F008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C73-6F46-4F66-94BE-43D24211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750-A225-47E3-BB1A-2C642208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68D-1CA1-42C9-B391-5F2B0638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EF8-FCEF-4418-85A5-E53EAF3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9A5-6A71-4F9F-AE7A-3BA21D8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89E-FF66-4F61-8040-F5921C03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599-F2E0-423C-97B5-976EAC0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A6F-4EB4-4F8A-8ABD-037659EB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49C-7CAD-410A-9225-FB502FA7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E41-0DFC-44D3-B586-F4360074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1863-C891-40B5-BBCA-92945349018F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4076640"/>
            <a:ext cx="5508720" cy="33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9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يا سيدي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أَلتَ ماءً، ذُقْتَ خَلاً ذُقتَ كُلَّ مَرَارْ 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لَتْ دِمَاكَ مِنْ حَشاكَ لتَفتَدِي الأَشر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وقَ الصلِّيبِ يا حَبيبي كَمْ لَقِيتَ آلامْ 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مَّنْ تَمادَوْا في إِيذَائِكَ وقَدْ غَفَرْتَ آثَام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360" y="0"/>
            <a:ext cx="6443640" cy="71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 كُلُّ هذا يا إِلَهي كَيْ تُعِيدُن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حِمَاكَ أَحْيا مَعَكَ وتُعَزِّيني،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لَيْتَ قَلبِي يَدْنُو مِنْكَ فَأَفُوزُ بكَ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حْيا لأجلِكَ أَمِيناً خَاضِعاً لَكَ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20:03:11Z</dcterms:created>
  <dc:creator>Charbel Azar</dc:creator>
  <dc:description/>
  <dc:language>en-US</dc:language>
  <cp:lastModifiedBy>ف</cp:lastModifiedBy>
  <dcterms:modified xsi:type="dcterms:W3CDTF">2006-04-11T20:19:27Z</dcterms:modified>
  <cp:revision>12</cp:revision>
  <dc:subject/>
  <dc:title>Slide 1</dc:title>
</cp:coreProperties>
</file>