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857-B112-4149-B238-F148401E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850-1EAD-4143-A14F-334359F8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A71-02ED-4CBC-AB5F-6861850C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3B6-3C17-402C-9332-D6E86CF0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A55-0E95-427B-B9E5-FE5610BB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DCA-EF7B-4BB7-9569-395C0DCE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CAC-764F-41F4-B752-E5739F4D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6D1-CF72-4CF3-BC91-77C0E99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502-104D-49BD-AE0C-2C6481AA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7B4-8867-4CEF-AB82-47BADE95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B6F-9A49-4006-B06F-6F9F838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78D-F6F1-4FF2-B276-1D040FA8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A209-CE7A-4A5C-B7D1-89DFA9C10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04920" y="228600"/>
            <a:ext cx="3505320" cy="9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في الزهور والنور والناس خذني دلّني إليك متى تُشرق ونراكَ وجهاً وجهاً لوجه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228600"/>
            <a:ext cx="3505320" cy="10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بالرسمِ والنحت والشعر والنقرِ على الأوتار متى تُشرق مِن عتمة يديَّ </a:t>
            </a:r>
            <a:r>
              <a:rPr b="1" lang="ar-SA" sz="4800" spc="-1" strike="noStrike">
                <a:solidFill>
                  <a:srgbClr val="ffcccc"/>
                </a:solidFill>
                <a:latin typeface="Arial"/>
              </a:rPr>
              <a:t>تُشرق مِن عتمة يديَّ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05:35Z</dcterms:created>
  <dc:creator>HANI SAFI</dc:creator>
  <dc:description/>
  <dc:language>en-US</dc:language>
  <cp:lastModifiedBy>HANI SAFI</cp:lastModifiedBy>
  <dcterms:modified xsi:type="dcterms:W3CDTF">2003-04-25T04:26:15Z</dcterms:modified>
  <cp:revision>1</cp:revision>
  <dc:subject/>
  <dc:title>Slide 1</dc:title>
</cp:coreProperties>
</file>