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166-0BC6-4B37-8A08-C131B583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01F-B534-48BF-B172-623391F4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A97-F571-469B-8CF4-E0A8CC81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1F5-7DE1-40E1-A812-A9C37F68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951-5FE1-4D3F-9CB3-35217139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957-C6AE-45CC-B341-FA1E97DB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26C-515A-4E83-9560-C55B1DFB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B12-0DBA-4A50-AB8D-5385DD56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930-1B06-4FC8-A594-6BC3B8C3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C64-B00C-4451-8147-31D0B839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A39-03DC-4EC4-9668-0786FA70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F4A-60E5-486A-BBD6-97D3B932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73CC-E9E1-47AC-95F8-EEFD67ED9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87869xQRiyRyaRq_ph" descr=""/>
          <p:cNvPicPr/>
          <p:nvPr/>
        </p:nvPicPr>
        <p:blipFill>
          <a:blip r:embed="rId1"/>
          <a:stretch/>
        </p:blipFill>
        <p:spPr>
          <a:xfrm>
            <a:off x="3352680" y="0"/>
            <a:ext cx="6197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048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صوم يُفتح بابُ السماءِ مَن صام يُمنح مُلك العلاء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325118wOgIICHEKd_ph" descr=""/>
          <p:cNvPicPr/>
          <p:nvPr/>
        </p:nvPicPr>
        <p:blipFill>
          <a:blip r:embed="rId1"/>
          <a:stretch/>
        </p:blipFill>
        <p:spPr>
          <a:xfrm>
            <a:off x="3143160" y="0"/>
            <a:ext cx="6000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85800"/>
            <a:ext cx="2590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بُّ العلاءِ يُعلي مقاما مَن بالنقاءِ يقضي الصيام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760642WcABmRMkZD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2133720" cy="10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ي حياتي هَبني غُفرانا واقبل صلاتي صومي قربان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7:29:08Z</dcterms:created>
  <dc:creator>SUZANNE.MD</dc:creator>
  <dc:description/>
  <dc:language>en-US</dc:language>
  <cp:lastModifiedBy>USER</cp:lastModifiedBy>
  <dcterms:modified xsi:type="dcterms:W3CDTF">2003-03-03T15:01:39Z</dcterms:modified>
  <cp:revision>2</cp:revision>
  <dc:subject/>
  <dc:title>PowerPoint Presentation</dc:title>
</cp:coreProperties>
</file>