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E6E-1688-4C7C-BA6A-A38B29A7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36A-5288-49FC-8392-FC89EFAA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331-232B-4772-9115-35019EC6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4FE-D93D-48F8-BE54-0A27B410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A64-C446-44CB-AB5C-A974EE0D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1C5-CBE1-451D-9E00-FBF4F730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AA6-34FE-4485-9FDF-E50218CA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DC4-C60A-46C4-B08D-5451958A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4F80-9617-4505-BB3F-55907EA0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C40-A6E5-45DD-8BDC-A0E2F220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CE0-8478-40A5-B244-7D2CEF77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B44-9616-4B27-A58F-F1029573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4D85-966A-4EEF-861F-8BD075C82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rucifixion2" descr=""/>
          <p:cNvPicPr/>
          <p:nvPr/>
        </p:nvPicPr>
        <p:blipFill>
          <a:blip r:embed="rId1"/>
          <a:stretch/>
        </p:blipFill>
        <p:spPr>
          <a:xfrm>
            <a:off x="40384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86200" cy="10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يا شَعْبي وَصَحْب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أينَ عهدُ الايمـا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أينَ الوفـا بالحـب</a:t>
            </a: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والوَداد والرضـوا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كالقاتِل والعدو دفعتموني</a:t>
            </a: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للهَـوا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وما بيـنَ اللصين صَلبتُموني</a:t>
            </a: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عُريا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sus%20on%20cross%20blck%20bkground" descr=""/>
          <p:cNvPicPr/>
          <p:nvPr/>
        </p:nvPicPr>
        <p:blipFill>
          <a:blip r:embed="rId1"/>
          <a:stretch/>
        </p:blipFill>
        <p:spPr>
          <a:xfrm>
            <a:off x="5072040" y="0"/>
            <a:ext cx="4071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4876920" cy="90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cc99"/>
                </a:solidFill>
                <a:latin typeface="Arial"/>
                <a:cs typeface="Simplified Arabic"/>
              </a:rPr>
              <a:t>تُرى ماذا عملـي   فصارَ هذا جَزائـ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Arial"/>
                <a:ea typeface="Simplified Arabic"/>
              </a:rPr>
              <a:t>  تُرى من هُـوْ المدعي وما هُوْ وُجُوب  قضائ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Arial"/>
                <a:ea typeface="Simplified Arabic"/>
              </a:rPr>
              <a:t> أما تَذكُرون الجميـل    اما تَذكُـرون  سخائ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Arial"/>
                <a:cs typeface="Simplified Arabic"/>
              </a:rPr>
              <a:t>كـم عليـلٍ كم سقيـم  </a:t>
            </a:r>
            <a:r>
              <a:rPr b="1" lang="ar-SA" sz="4400" spc="-1" strike="noStrike">
                <a:solidFill>
                  <a:srgbClr val="ffcc99"/>
                </a:solidFill>
                <a:latin typeface="Arial"/>
              </a:rPr>
              <a:t>قـد شفاهُ اعتنـــائ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t12" descr=""/>
          <p:cNvPicPr/>
          <p:nvPr/>
        </p:nvPicPr>
        <p:blipFill>
          <a:blip r:embed="rId1"/>
          <a:stretch/>
        </p:blipFill>
        <p:spPr>
          <a:xfrm>
            <a:off x="4952880" y="0"/>
            <a:ext cx="47721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4876920" cy="87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  <a:cs typeface="Simplified Arabic"/>
              </a:rPr>
              <a:t>يا ناظرينَ شِدَّتــي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	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     يا مُبصريـنَ  بلوت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  يا سامعيـن بكائــي وحَسَراتِ والدتــ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  هل وجدتــم من بُلي وأصابتـه  مصيبتـ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cc"/>
                </a:solidFill>
                <a:latin typeface="Arial"/>
                <a:cs typeface="Simplified Arabic"/>
              </a:rPr>
              <a:t>هل مَـــن سُقـي كأسي 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</a:rPr>
              <a:t>واستطعـم  مرارتــي</a:t>
            </a:r>
            <a:r>
              <a:rPr b="1" lang="ar-SA" sz="4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581280" cy="10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يا مريـمُ أمَـي   نَحيبُك يَزيدُ أدمُع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إرحمينـي اسْكُتي اتْركيني وارجِع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 يا أبتاه لمــاذا تتركُني  بوجع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خنقتني الحَسَرات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</a:rPr>
              <a:t>وتمزَّقــت أضلعـي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esus%20meets%20his%20mother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8:28:51Z</dcterms:created>
  <dc:creator>SUZANNE.MD</dc:creator>
  <dc:description/>
  <dc:language>en-US</dc:language>
  <cp:lastModifiedBy>SUZANNE.MD</cp:lastModifiedBy>
  <dcterms:modified xsi:type="dcterms:W3CDTF">2003-03-13T05:00:12Z</dcterms:modified>
  <cp:revision>2</cp:revision>
  <dc:subject/>
  <dc:title>PowerPoint Presentation</dc:title>
</cp:coreProperties>
</file>