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04A-F379-41C9-8285-D116B2BC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B1A-C7AD-432A-8F8F-29D59C6B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65E-3AEC-42BE-9AE6-79236361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2DB-BB3F-4EA6-A2D2-17D9D773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078-DB4C-4093-B622-87E6D385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DA6-530F-4BAD-964F-C3C307AE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BE0-354F-447A-B2EF-526E1941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C73-63C6-4C0B-B63A-67A76F92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2BA-D7A1-44F9-8DBD-BEE11BBA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4B4-2BEC-4D42-B8D7-92335087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E24-7B3E-481D-BE64-849587DD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647-1953-4AFE-9890-2C8B3FB9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6A99-8A9A-45F5-BE97-B969F199F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5421725fFfbzrbssG_th" descr=""/>
          <p:cNvPicPr/>
          <p:nvPr/>
        </p:nvPicPr>
        <p:blipFill>
          <a:blip r:embed="rId1"/>
          <a:stretch/>
        </p:blipFill>
        <p:spPr>
          <a:xfrm>
            <a:off x="0" y="0"/>
            <a:ext cx="504828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0"/>
            <a:ext cx="4343400" cy="61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الرب، هو الرب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قام من الأموات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و الر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ركبة تنحني ولسانٍ يعترف أنَّ يسوعَ المسيح                 هو ال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181480"/>
            <a:ext cx="883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ا قام، حقا قام،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قد قام من الأموات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ا ق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ركبة تنحني ولسانٍ يعترف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َّ يسوعَ المسيح حقا ق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5:45:11Z</dcterms:created>
  <dc:creator>USER</dc:creator>
  <dc:description/>
  <dc:language>en-US</dc:language>
  <cp:lastModifiedBy>USER</cp:lastModifiedBy>
  <dcterms:modified xsi:type="dcterms:W3CDTF">2003-02-08T04:20:10Z</dcterms:modified>
  <cp:revision>6</cp:revision>
  <dc:subject/>
  <dc:title>PowerPoint Presentation</dc:title>
</cp:coreProperties>
</file>