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D46-66EA-40FE-87D3-D6D48275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7D1-531A-4427-A61E-BB3274B1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DF7-F273-483B-8E9D-70492804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F1A-0834-4822-9C7E-B529CB4F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2D3-6A3A-46D0-B8D7-2300983E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216-2506-47BC-A995-37D82167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6DB-C71F-4848-9BB3-1DECEFB6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0F2-2EA1-4936-AF19-0B91963C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DE6-EDBA-41AB-B022-C2F82B17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308-73FF-44E8-B9C0-8BAEF841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A18-6723-452A-B830-BF85B46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8BB-F12E-4F07-AAF3-817432CA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63BE-5203-457F-ACF9-5F7A9BF0B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1948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048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القيامة ، مَن آمنَ بي يَحيا وإن 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236232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حنُ الذين لنا باكورةُ الرو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ئنُ منتظرين التّبني، إفتداءَ أجسادنا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ذا كان أحدٌ في المسيح فهو خلقٌ جد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42:38Z</dcterms:created>
  <dc:creator>SUZANNE.MD</dc:creator>
  <dc:description/>
  <dc:language>en-US</dc:language>
  <cp:lastModifiedBy>HANI SAFI</cp:lastModifiedBy>
  <dcterms:modified xsi:type="dcterms:W3CDTF">2003-04-16T14:08:13Z</dcterms:modified>
  <cp:revision>2</cp:revision>
  <dc:subject/>
  <dc:title>PowerPoint Presentation</dc:title>
</cp:coreProperties>
</file>