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25D-F59B-40CA-A495-D781CC2D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C31-0350-46A9-8A1B-52E2EA04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511-37F2-477F-B298-18BE3673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EF8-01AE-43BF-95C9-74CDEBE7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4F8-E82D-4D4D-ACE5-166EDE2E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5F8-0C68-4916-AEFA-0180A0AD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403-9D62-4C92-A746-74687013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8A8-742C-49AE-A88C-873DAB5A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FB0-A428-474D-9877-B39EBE54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77D-5C25-4EBA-8A02-705D2842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8BE-C1C3-426B-AA13-075E7AEB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B08-F96A-4437-A62A-D0934B6F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2DAB-5B65-4853-9B79-A348AD065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57520" y="0"/>
            <a:ext cx="5586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34290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ا لن أرى حباً أعظم وأقوى من حبك فوق الصليب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خترتَه طوعا...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وهو عقابٌ عادلٌ  لآثم متمر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29718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ُمنا وعيَّرنا بطرس بالجبن يومَ أَنكر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</a:rPr>
              <a:t>كلُّنا  قد قلنا خائن ليهوذا حين أسلمك</a:t>
            </a:r>
            <a:r>
              <a:rPr b="0" lang="ar-SA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11010960" cy="792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352680" cy="9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اليوم أمامَ الناس نستحي بك ننك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طعتين من النحاس مثل يهوذا نُسلم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رغم ذاك ... نحن نراك... تنسى أساك...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حبك المتجدد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3733920" cy="87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جمع كان ينادي لباراباس يطلق بالإفرا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لبَك كان مطلبهم أن تُجلد أنت بالكرباج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86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191120" cy="9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اكموك عيّروك حمّلوك صليب الع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ين لصوص علّقوك أيها القدوس الب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رغم ذاك ... نحن نراك... تنسى أساك...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حبك المتجدد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0:43:39Z</dcterms:created>
  <dc:creator>SUZANNE.MD</dc:creator>
  <dc:description/>
  <dc:language>en-US</dc:language>
  <cp:lastModifiedBy>HANI SAFI</cp:lastModifiedBy>
  <dcterms:modified xsi:type="dcterms:W3CDTF">2003-03-17T14:23:37Z</dcterms:modified>
  <cp:revision>7</cp:revision>
  <dc:subject/>
  <dc:title>PowerPoint Presentation</dc:title>
</cp:coreProperties>
</file>