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AB7-8529-40F1-BFAA-3A7F47E4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DD9-7061-43CF-85C2-F219655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3B9-C955-4069-AFD7-EFBED09F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482-903B-4388-94CD-248829ED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FFE-0932-41C7-91AC-8196810D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3B7-7637-4770-A080-D5255B4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501-94DB-487A-AE7E-FB6B48C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583-103F-409A-8A41-93AFC620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A58-0047-4442-A85B-547A9C16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24E-41F4-407D-9A32-CF73906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A3C-1CC1-4CBA-80A9-6FF59C9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39C-9FDF-40D5-8DD4-0D36277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EA2F-2EAE-435D-AEDC-007A1AB9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e%20face%20of%20jesuss" descr=""/>
          <p:cNvPicPr/>
          <p:nvPr/>
        </p:nvPicPr>
        <p:blipFill>
          <a:blip r:embed="rId1"/>
          <a:stretch/>
        </p:blipFill>
        <p:spPr>
          <a:xfrm>
            <a:off x="3505320" y="0"/>
            <a:ext cx="567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لتك الغفـران يا من صلب فوق الصليـــب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لتُكَ العَوْن يا من تعذب من أجل أن يحيا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1305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عرفت العذاب فأنقذنــي من ظلمة العـــذا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أغفــر لي وسامحنـي وأمنـح قلبـي ايمانـ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أغلــب به العالم من أجل محبتـــك ... </a:t>
            </a: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آمين</a:t>
            </a:r>
            <a:r>
              <a:rPr b="0" lang="ar-SA" sz="2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35:57Z</dcterms:created>
  <dc:creator>SUZANNE.MD</dc:creator>
  <dc:description/>
  <dc:language>en-US</dc:language>
  <cp:lastModifiedBy>SUZANNE.MD</cp:lastModifiedBy>
  <dcterms:modified xsi:type="dcterms:W3CDTF">2003-03-16T09:41:50Z</dcterms:modified>
  <cp:revision>2</cp:revision>
  <dc:subject/>
  <dc:title>PowerPoint Presentation</dc:title>
</cp:coreProperties>
</file>