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425-3FA4-4BAE-8CE4-664FEBAA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9F1-EB7B-4563-A09D-9D311861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A98-BEF3-471C-9EA2-F17ED650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4DC-50E2-41F3-B18A-D226FB20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DA5-54A9-4675-9196-D7007532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AFD-3205-4970-8E27-F726E35C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797-32FE-4FFF-96FA-01C8231F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C8D-C887-4608-AE71-5DE68497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DF7-41FC-4013-A8BC-D442AD59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0FE-C259-4C4A-9C9C-82905494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0020-143E-4DF2-8D49-1929263A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FE7-C7CF-4575-853A-8FB4C182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FB92-1D63-488D-ACB2-25DB58AD0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-face+thorns+blood" descr=""/>
          <p:cNvPicPr/>
          <p:nvPr/>
        </p:nvPicPr>
        <p:blipFill>
          <a:blip r:embed="rId2"/>
          <a:stretch/>
        </p:blipFill>
        <p:spPr>
          <a:xfrm>
            <a:off x="430200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267080" cy="9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في مشهدٍ أدمى العيون في أَلمٍ لم ينت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ربُّ السماءِ قد روى أرضاً طَغَتْ من دم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أَذكُرُ أني يَومها شاركْتُ في تسمير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عَيني بعينهِ التَقَت رأيتُ دمعةً وقال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uswep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0" y="3886200"/>
            <a:ext cx="4572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أحبَبْتُكم للمنتهى  أحببتكم بلا حد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وصيَّتي " حبّوا كما  أحببتكم بلا حدود</a:t>
            </a:r>
            <a:r>
              <a:rPr b="1" lang="ar-SA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"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257786BKgRhTuZiB_ph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0"/>
            <a:ext cx="3657600" cy="11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عشتُ أياماً طَوَت قلباً لَوى مِن كَرْبِ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ما استطعتُ لَحظَةً أن أَختفي مِن حبِّ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تابَ قلبي نادماً فذاق حُبَّ رَبِّ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جثو وقلبي ينسبي إذ أَسمع الفادي يقول</a:t>
            </a:r>
            <a:r>
              <a:rPr b="1" lang="ar-SA" sz="4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: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7112176uwhvKdoRUB_ph" descr=""/>
          <p:cNvPicPr/>
          <p:nvPr/>
        </p:nvPicPr>
        <p:blipFill>
          <a:blip r:embed="rId1"/>
          <a:stretch/>
        </p:blipFill>
        <p:spPr>
          <a:xfrm>
            <a:off x="3809880" y="0"/>
            <a:ext cx="542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9880" cy="89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ندما يُسيءُ لي أخٌ قريبٌ أن بعيد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تغتلي في داخلي جميعُ أَصْنافِ الوَ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شِكُ أن أَرُدَّها ضِعفاً بإصرارٍ يز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فجأةً يَحصُرُني صوتٌ من العُلى يقول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0:32:07Z</dcterms:created>
  <dc:creator>SUZANNE.MD</dc:creator>
  <dc:description/>
  <dc:language>en-US</dc:language>
  <cp:lastModifiedBy>SUZANNE.MD</cp:lastModifiedBy>
  <dcterms:modified xsi:type="dcterms:W3CDTF">2003-03-10T10:45:09Z</dcterms:modified>
  <cp:revision>1</cp:revision>
  <dc:subject/>
  <dc:title>PowerPoint Presentation</dc:title>
</cp:coreProperties>
</file>