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5FF-30D1-452E-800B-D83776A9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DCE-F912-4E55-9F99-6D1B91F2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D9DB-F4E2-4E53-AEB4-91D86928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06E-BD9F-4B5C-A459-63915945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B2B-31FF-4F06-B890-C6D5E4F9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DE1-60FE-4B1A-959C-CD03C178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AAD-D231-4A47-8E31-602F4185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304-009F-4D01-B223-3822BCDF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89F-B222-41E6-8046-0E043D17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38E-A7A3-4272-936A-9A2816B7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472-F473-457E-8EF5-CFE88546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5AB-3646-4F41-A751-EB9A1303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F7D9-C083-4CF9-B134-2FD831C1A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9580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09480"/>
            <a:ext cx="3200400" cy="9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غيثَ المراح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أسبِغ عليه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خيرَ راحِ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بحرَ الج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2514600" cy="70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فَلْيَستنيرو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من نورِ وجهِ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وليستريحو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مع مَن أرضَو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1:40:59Z</dcterms:created>
  <dc:creator>HANI SAFI</dc:creator>
  <dc:description/>
  <dc:language>en-US</dc:language>
  <cp:lastModifiedBy>HANI SAFI</cp:lastModifiedBy>
  <dcterms:modified xsi:type="dcterms:W3CDTF">2003-05-19T11:42:17Z</dcterms:modified>
  <cp:revision>1</cp:revision>
  <dc:subject/>
  <dc:title>Slide 1</dc:title>
</cp:coreProperties>
</file>