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436-1AF0-4DE4-9B73-50054D0F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A50-0B87-42D6-BF19-0BDDF93F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851-A4B1-4451-B48D-29B4503B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EAA-131C-4A98-94D9-AAFDDBC8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ACF-4E59-497F-9D47-D63194CF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F9A-512C-410F-9B81-229FF736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0135-2932-40CE-BF43-0281AA08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6218-FA4A-462F-9466-5D36136C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738-B3A9-4B67-9B8C-8600055C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B03-821E-43AD-A7C9-EBA72954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409-918E-4181-91E7-E8FCA632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218-59A9-4DB8-B2F8-EA95BE14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B60D-53A6-4EB7-885D-30666E625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7010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733920" cy="10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قامت مريم بنتُ داود حِذاء العـو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تندبُ إبنَها المصلوب بأيـدي    الجنو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رمـحُ الحُزنِ غائــص فـي  نفسهــ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ومن ألمِـهِ غابـَتْ عـن  حسّها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ثم فاقت الوالدة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وصاحـت آه يـا ولـد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3886200" cy="10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حبيبي حبيبـي يـا ولـداه خاطِبْن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كيــف أراك عُريـان ولا أندُبـك يا  إب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أوجاعك حَرَقَت أكبا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آلامـك خرَقـت  فــؤا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كيـف تحيــــا والدتـــ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يا ولــداه بعـــدَ  موتــك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457200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يـا عـزّ أمك وثمـرتَها الفريـد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يـا وحيـدْ أبيك وصورتَــه المجيـد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إفتراقـَـكْ كسكيـن جرحَتْنِ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وعذابـك كحربــة طعنَتْنـِ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إسمــح لـــي أمُــتْ قبلـ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</a:rPr>
              <a:t>ولا أنـظـــر أحـوالَــــ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98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يا أمَّ يســوع بنــتَ 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 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الآبِ الأكـ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يا عـروس الـروحِ القـّدوس الأعظـ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أشرِكيـنا بـآلام فادينا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 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زَّينـيـنا بنعـمة باري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Simplified Arabic"/>
              </a:rPr>
              <a:t>لِنخدُمكِ على الدو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مدى الساعـات والأيـام</a:t>
            </a:r>
            <a:r>
              <a:rPr b="0" lang="ar-SA" sz="2400" spc="-1" strike="noStrike">
                <a:solidFill>
                  <a:srgbClr val="cc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8:54:23Z</dcterms:created>
  <dc:creator>SUZANNE.MD</dc:creator>
  <dc:description/>
  <dc:language>en-US</dc:language>
  <cp:lastModifiedBy>HANI SAFI</cp:lastModifiedBy>
  <dcterms:modified xsi:type="dcterms:W3CDTF">2003-03-14T12:14:02Z</dcterms:modified>
  <cp:revision>3</cp:revision>
  <dc:subject/>
  <dc:title>PowerPoint Presentation</dc:title>
</cp:coreProperties>
</file>