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4AE-CC70-42A3-968D-655C2001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9AB-A7D5-4820-866F-992AFE1A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DE6-49E9-4720-ADF1-2556E3AD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8A6-146F-45A2-A30F-8D84AFDE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788-B0F3-485F-BDF7-E8961649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7BC-F4F1-4C30-B751-33BF8B71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C6E-9E80-4240-A546-355F5884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261-6260-445D-A453-1F0D88EE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62F-0EFE-4049-A006-C23C9F93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B52-D876-4C07-BAAD-B67DE6CA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57C-3072-477F-A4BF-F494E421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EB9-229D-4B45-85A7-75E5ACD7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0AE-B29A-4C43-8A36-1AF530C41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rucifixion2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شَعْبي وَصَحْب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عهدُ الايمـ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الوفـا بالحـب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لوَداد والرض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كالقاتِل والعدو دفعت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للهَ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ما بيـنَ اللصين صَلبتُ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عُريا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%20on%20cross%20blck%20bkground" descr=""/>
          <p:cNvPicPr/>
          <p:nvPr/>
        </p:nvPicPr>
        <p:blipFill>
          <a:blip r:embed="rId1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تُرى ماذا عملـي   فصارَ هذا جَزائـ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 تُرى من هُـوْ المدعي وما هُوْ وُجُوب  قض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أما تَذكُرون الجميـل    اما تَذكُـرون  سخ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كـم عليـلٍ كم سقيـم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</a:rPr>
              <a:t>قـد شفاهُ اعتنـــ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12" descr=""/>
          <p:cNvPicPr/>
          <p:nvPr/>
        </p:nvPicPr>
        <p:blipFill>
          <a:blip r:embed="rId1"/>
          <a:stretch/>
        </p:blipFill>
        <p:spPr>
          <a:xfrm>
            <a:off x="495288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876920" cy="87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ناظرينَ شِدَّتــي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   يا مُبصريـنَ  بلوت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يا سامعيـن بكائــي وحَسَراتِ والدتـ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هل وجدتــم من بُلي وأصابتـه  مصيبت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هل مَـــن سُقـي كأسي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</a:rPr>
              <a:t>واستطعـم  مرارتــي</a:t>
            </a:r>
            <a:r>
              <a:rPr b="1" lang="ar-SA" sz="4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581280" cy="10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مريـمُ أمَـي   نَحيبُك يَزيدُ أدمُع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إرحمينـي اسْكُتي اتْركيني وارجِ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يا أبتاه لمــاذا تتركُني  بوج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خنقتني الحَسَرات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</a:rPr>
              <a:t>وتمزَّقــت أضلع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esus%20meets%20his%20mother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28:51Z</dcterms:created>
  <dc:creator>SUZANNE.MD</dc:creator>
  <dc:description/>
  <dc:language>en-US</dc:language>
  <cp:lastModifiedBy>SUZANNE.MD</cp:lastModifiedBy>
  <dcterms:modified xsi:type="dcterms:W3CDTF">2003-03-13T05:00:12Z</dcterms:modified>
  <cp:revision>2</cp:revision>
  <dc:subject/>
  <dc:title>PowerPoint Presentation</dc:title>
</cp:coreProperties>
</file>