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599-C5CE-4E13-B646-2243A96E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284-89F5-4238-9C10-0AE2D222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4C6-E0F1-44F0-9576-F092C4B6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FF8-6BD9-463A-8C43-C19783F6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173-E891-4322-93B0-15D1F330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BDD-2A5F-49F9-9CB0-04B3010A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05B-D295-4555-8741-5B747979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0F6-41CA-4C36-B738-7700BE3C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A71-743A-4C7D-9CFB-22BA9920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D3F-71DF-4630-B00B-FB5579EF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0EA-C350-4D5D-9348-992ED6B7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F82-ECFC-4DB3-8DE4-79E2A038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7729-3B00-4EA9-8124-60105EF90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358128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Arabic Transparent"/>
              </a:rPr>
              <a:t>خلِّني قربَ الصليب حيث سالَ المج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Arabic Transparent"/>
              </a:rPr>
              <a:t>مِن دمِ الفادي الحبيب داءُ نفسي يبرأ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50532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قد محا عندَ الصليب دمُ ربي إثم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عنِ القلبِ الكئيب زالَ كلُّ الهمّ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19320"/>
            <a:ext cx="320040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قد رأينا في الصليب قوَّةَ الرَّحمان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إذ بدا أمرٌ عجيب فِديةٌ للجاني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04920"/>
            <a:ext cx="2209680" cy="89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َن قضى فوقَ الصليب ذاكَ جُلُّ القَصد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َأراهُ عن قريب فوقَ عرشِ المجد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1066680"/>
            <a:ext cx="17524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8500" spc="-1" strike="noStrike">
                <a:solidFill>
                  <a:srgbClr val="ffcccc"/>
                </a:solidFill>
                <a:latin typeface="Times New Roman"/>
              </a:rPr>
              <a:t>مات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8500" spc="-1" strike="noStrike">
                <a:solidFill>
                  <a:srgbClr val="ffcccc"/>
                </a:solidFill>
                <a:latin typeface="Times New Roman"/>
              </a:rPr>
              <a:t>عنّا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09:52:21Z</dcterms:created>
  <dc:creator>SUZANNE.MD</dc:creator>
  <dc:description/>
  <dc:language>en-US</dc:language>
  <cp:lastModifiedBy>HANI SAFI</cp:lastModifiedBy>
  <dcterms:modified xsi:type="dcterms:W3CDTF">2003-03-17T14:16:02Z</dcterms:modified>
  <cp:revision>2</cp:revision>
  <dc:subject/>
  <dc:title>PowerPoint Presentation</dc:title>
</cp:coreProperties>
</file>