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CA01-65BA-4725-A284-27568321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0FC-A826-408C-8219-39C1AA9A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76D-EF88-432E-91C0-355C82F7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178-2D51-4E6D-94A7-36D4373A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1A3-0678-43C3-A43C-0A90661E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36A7-8458-4B17-9510-552E0806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5C8-46BF-41C6-96FB-33E58CCE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80B-8590-4B31-97CD-10BFA393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9A9-B50E-4EDF-AB40-EA1709EF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BE4-D6BD-41C3-AC51-76862420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D33B-6DB1-4AB2-9FA4-32E4DF73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220-B047-4693-93B6-F4CC6A31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418D-74C8-40EA-B77E-8BD288E93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124080"/>
            <a:ext cx="3200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Arabic Transparent"/>
              </a:rPr>
              <a:t>يا سيدي كم كان قاسيا موتُ صليبِ العار وقبلَ أن يحمِلَك حمَلته يا با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0880"/>
            <a:ext cx="3581280" cy="61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وق الصليب يا حبيبي كم لقيتَ آلا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ممَّن تمادَوا في إيذائك وقد غفرتَ آث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124080"/>
            <a:ext cx="3200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Arabic Transparent"/>
              </a:rPr>
              <a:t>يا سيدي كم كان قاسيا موتُ صليبِ العار وقبلَ أن يحمِلَك حمَلته يا با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380880"/>
            <a:ext cx="2971800" cy="85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هل كل هذا يا إلهي كي تُعيدَ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إلى حِماكَ أحيا معك وتعزين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124080"/>
            <a:ext cx="3200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Arabic Transparent"/>
              </a:rPr>
              <a:t>يا سيدي كم كان قاسيا موتُ صليبِ العار وقبلَ أن يحمِلَك حمَلته يا با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94000" y="0"/>
            <a:ext cx="4950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380880"/>
            <a:ext cx="3581280" cy="60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يا ليتَ قلبي يدنو منك فأفوزُ ب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أحيا لأجلك أمينا خاضعاً ل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124080"/>
            <a:ext cx="3200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Arabic Transparent"/>
              </a:rPr>
              <a:t>يا سيدي كم كان قاسيا موتُ صليبِ العار وقبلَ أن يحمِلَك حمَلته يا با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09:22:10Z</dcterms:created>
  <dc:creator>SUZANNE.MD</dc:creator>
  <dc:description/>
  <dc:language>en-US</dc:language>
  <cp:lastModifiedBy>HANI SAFI</cp:lastModifiedBy>
  <dcterms:modified xsi:type="dcterms:W3CDTF">2003-03-14T12:19:06Z</dcterms:modified>
  <cp:revision>2</cp:revision>
  <dc:subject/>
  <dc:title>PowerPoint Presentation</dc:title>
</cp:coreProperties>
</file>