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BDD-8754-4345-9BB0-8F11977E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6EB-0390-4490-843C-9B7BC398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2FE-0A31-4475-9067-228A7248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D3C-E96F-4FDF-A6FB-D01BB358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3A4-4059-43F0-B670-A01B61E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0B9-B9EE-4AA5-8D1C-B9CBD0F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417-3443-4D35-B24D-E250BA85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1F5-3B89-47E1-9C8D-ADEC745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1A3-527A-4520-BFF4-F09862E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804-04AE-4D30-85F2-90ABB1B5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5FA-44C0-4C44-AD05-1A7E553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D2A-9D50-46D5-BDBD-2328DAB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ACC-66C0-48A5-BD27-87DF7DB8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e%20face%20of%20jesuss" descr=""/>
          <p:cNvPicPr/>
          <p:nvPr/>
        </p:nvPicPr>
        <p:blipFill>
          <a:blip r:embed="rId1"/>
          <a:stretch/>
        </p:blipFill>
        <p:spPr>
          <a:xfrm>
            <a:off x="3505320" y="0"/>
            <a:ext cx="567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لتك الغفـران يا من صلب فوق الصليـــب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لتُكَ العَوْن يا من تعذب من أجل أن يحيا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1305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عرفت العذاب فأنقذنــي من ظلمة العـــذا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أغفــر لي وسامحنـي وأمنـح قلبـي ايمانـ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أغلــب به العالم من أجل محبتـــك ... </a:t>
            </a: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آمين</a:t>
            </a:r>
            <a:r>
              <a:rPr b="0" lang="ar-SA" sz="2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35:57Z</dcterms:created>
  <dc:creator>SUZANNE.MD</dc:creator>
  <dc:description/>
  <dc:language>en-US</dc:language>
  <cp:lastModifiedBy>SUZANNE.MD</cp:lastModifiedBy>
  <dcterms:modified xsi:type="dcterms:W3CDTF">2003-03-16T09:41:50Z</dcterms:modified>
  <cp:revision>2</cp:revision>
  <dc:subject/>
  <dc:title>PowerPoint Presentation</dc:title>
</cp:coreProperties>
</file>