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CD18-EC8A-4460-8AD1-36049A9B2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E231-7785-41FA-A542-D5497A9D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81E6-B3AC-4EA2-AC95-57405DA1D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45CA-2644-4402-92F9-0782031E4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0401-D367-443B-AA18-B56E128A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D6A4-3AA1-4974-96DC-BB66A9E0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1F20-10A9-49E5-95FE-08496530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60EA-460B-4397-AE73-F469B379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4FFE-B666-4BF7-AB3F-FEC5AB3F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3187-216A-4D1D-805F-3132021E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251A-F63A-4821-9B61-8A4AFE80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3596-6B58-4C97-BC51-EE525240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A780-6DAB-4CB4-B8D8-C32835B11ABE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5280" y="4076640"/>
            <a:ext cx="5508720" cy="335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900" spc="-1" strike="noStrike">
                <a:solidFill>
                  <a:srgbClr val="ffffff"/>
                </a:solidFill>
                <a:latin typeface="Times New Roman"/>
                <a:cs typeface="????Boutros Rokaa"/>
              </a:rPr>
              <a:t>يا سيدي</a:t>
            </a: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00360" y="0"/>
            <a:ext cx="6443640" cy="9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سيِّدي كَمْ كانَ قاسياً مَوتُ صَليبِ العارْ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َقبلَ أنْ يَحمِلَكَ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َمَلْتَهُ يا بَار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700360" y="0"/>
            <a:ext cx="6443640" cy="853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أَلتَ ماءً، ذُقْتَ خَلاً ذُقتَ كُلَّ مَرَارْ ،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َالَتْ دِمَاكَ مِنْ حَشاكَ لتَفتَدِي الأَشرار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700360" y="0"/>
            <a:ext cx="6443640" cy="853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َوقَ الصلِّيبِ يا حَبيبي كَمْ لَقِيتَ آلامْ 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ِمَّنْ تَمادَوْا في إِيذَائِكَ وقَدْ غَفَرْتَ آثَام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700360" y="0"/>
            <a:ext cx="6443640" cy="9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سيِّدي كَمْ كانَ قاسياً مَوتُ صَليبِ العارْ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َقبلَ أنْ يَحمِلَكَ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َمَلْتَهُ يا بَار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700360" y="0"/>
            <a:ext cx="6443640" cy="713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َل كُلُّ هذا يا إِلَهي كَيْ تُعِيدُني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لى حِمَاكَ أَحْيا مَعَكَ وتُعَزِّيني،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700360" y="0"/>
            <a:ext cx="6443640" cy="853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لَيْتَ قَلبِي يَدْنُو مِنْكَ فَأَفُوزُ بكَ،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َحْيا لأجلِكَ أَمِيناً خَاضِعاً لَكَ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00360" y="0"/>
            <a:ext cx="6443640" cy="9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سيِّدي كَمْ كانَ قاسياً مَوتُ صَليبِ العارْ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َقبلَ أنْ يَحمِلَكَ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َمَلْتَهُ يا بَار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2T20:03:11Z</dcterms:created>
  <dc:creator>Charbel Azar</dc:creator>
  <dc:description/>
  <dc:language>en-US</dc:language>
  <cp:lastModifiedBy>ف</cp:lastModifiedBy>
  <dcterms:modified xsi:type="dcterms:W3CDTF">2006-04-11T20:19:27Z</dcterms:modified>
  <cp:revision>12</cp:revision>
  <dc:subject/>
  <dc:title>Slide 1</dc:title>
</cp:coreProperties>
</file>