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FA3-D286-460D-87A9-5661C5B7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175-541B-4AEA-A198-30C050BC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D4C-A884-45EA-8DDD-C1C00B54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3A6-0F70-4176-BAF4-6DC40505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F027-E53A-4092-ACC5-1FE3761A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C62-34B1-4B6B-8BD7-383A8EF7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9DD-8FA9-44BC-941F-E7F447CB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E03-2412-4092-B746-2B22C7DD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BA0B-736E-415B-80BF-12850DE9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713-D3B9-4BD0-A9F3-94A803F8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639-E92A-420C-8DDB-6C67B851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CCE-4CC8-4E72-A7CD-07E66073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DBB4-D961-4319-8242-FB51E9DCB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04920" y="0"/>
            <a:ext cx="4724640" cy="9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يا مَن أحيانا بالموتِ صلبا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إقبل موتانا في دارِ الخُل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غيثَ المراحم أَسبِغ عليه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يا خيرَ راحم يا بحرَ الجو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فليستنيروا مِنْ نورِ وجهِ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ولَيستريحوا مَع مَنْ</a:t>
            </a:r>
            <a:r>
              <a:rPr b="1" lang="ar-SA" sz="4000" spc="-1" strike="noStrike">
                <a:solidFill>
                  <a:srgbClr val="ffff66"/>
                </a:solidFill>
                <a:latin typeface="Arial"/>
                <a:ea typeface="Simplified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أرضَو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40400" y="152280"/>
            <a:ext cx="4503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9:43:33Z</dcterms:created>
  <dc:creator>HANI SAFI</dc:creator>
  <dc:description/>
  <dc:language>en-US</dc:language>
  <cp:lastModifiedBy>HANI SAFI</cp:lastModifiedBy>
  <dcterms:modified xsi:type="dcterms:W3CDTF">2003-04-10T10:32:56Z</dcterms:modified>
  <cp:revision>2</cp:revision>
  <dc:subject/>
  <dc:title>Slide 1</dc:title>
</cp:coreProperties>
</file>