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BA4-9573-4CD9-B9CD-944D4329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D63A-0E8B-4CAB-89CF-FE431F49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27B5-1AD5-4A16-AE30-C786B7E6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FE3-31AB-4613-AD45-9C1ED997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C4F-087A-4F4C-9979-7B8A459A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FCFE-A258-4809-B0FF-7E9DFA7A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19D-130E-41E1-8C73-038D652E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702-9DEB-4F81-9653-72293172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BEBE-F681-486A-9A50-48747A7E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883-C180-4884-BC27-F99980E0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97D-085D-46BF-B530-5B85C32A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F24-C8B0-448B-AC31-F44BB886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73B1-2261-4E7A-AC54-988188A10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029200"/>
            <a:ext cx="8001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4800600"/>
            <a:ext cx="739116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اليوم، عُلّقَ على خشب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ذي علَّقَ الأرضَ على المي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4572000" cy="90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كليلٌ من شوك وُضِعَ على هامةِ ملكِ الملائك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رفيراً كاذبا أُلبِسَ، الذي وشَّح السماءَ بالغيوم </a:t>
            </a:r>
            <a:r>
              <a:rPr b="0" lang="ar-SA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4114800" cy="85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قبِلَ لطمةً ، الذي أعتقَ آدمَ في الأُرد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ختَنُ البيعةِ سُمِّرَ بالمسامي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وابن العذراءِ طُعِنَ بحربةٍ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304920"/>
            <a:ext cx="2895840" cy="85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99ff"/>
                </a:solidFill>
                <a:latin typeface="Times New Roman"/>
                <a:cs typeface="Simplified Arabic"/>
              </a:rPr>
              <a:t>نسجدُ لآلِمِكَ أيها المسيح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99ff"/>
                </a:solidFill>
                <a:latin typeface="Times New Roman"/>
                <a:cs typeface="Times New Roman"/>
              </a:rPr>
              <a:t>فأَرِنا قيامَتَكَ المجيدة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6:47:04Z</dcterms:created>
  <dc:creator>SUZANNE.MD</dc:creator>
  <dc:description/>
  <dc:language>en-US</dc:language>
  <cp:lastModifiedBy>HANI SAFI</cp:lastModifiedBy>
  <dcterms:modified xsi:type="dcterms:W3CDTF">2003-04-16T13:52:11Z</dcterms:modified>
  <cp:revision>2</cp:revision>
  <dc:subject/>
  <dc:title>PowerPoint Presentation</dc:title>
</cp:coreProperties>
</file>