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FFC-57DE-47EA-8805-4197D52B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BF4-EF8E-4959-8468-DA7C916F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E53-22B3-48EE-90AA-4BD51F74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9D9-5252-4A70-B771-5B4E566B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308-8485-4DC5-92E6-B8ED639B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512-2015-488B-9607-C14D6625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497-9833-49ED-86BF-C5ABC886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5B2-061A-4B64-8F16-2CBC18D5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F00-808A-44BB-AEA9-F275363F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E4C-6178-43C6-8C0D-D8207780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D02-8408-4B17-87FE-DE072DC3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CF5-23AE-4295-A9B2-EF5B0D46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5198-744D-4353-B3F3-56D127CD8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14880" y="0"/>
            <a:ext cx="4971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86200" cy="10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مباركٌ من فدانا بموتِهِ وأحيانـ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يا فادينـــا حقّقْ فينا سرَّ الفـد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الآلامَ وموتـَـكَ والقيامـــــ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44956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يـا مـن غـدا في المماتِ سـرَّ الفِدا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        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للحياةِ ربَّ الجودِ فوقَ العودِ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     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ــا للحـبِ  حـبِّ الـربِ غمـرِ الحــبِ اللامحـدودِ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52578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بارك يومُ الجمعة يسقـي الرجـا صِدقَ الدمعـ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شدو البيعـة لفاديهـا الإبـنِ الحبيب الممدودِ على الصليب رهنِ التعذي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809880" cy="10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نمجدُ الآبَ المحجوب ونحمَدُ الإبنَ المصلوب نشدو الشكر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ـروحَ الحنـّانْ ألثالوثَ اللّـهَ الأوحدْ سراً يُعبَدْ طولَ  الأزمان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27544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6:11:23Z</dcterms:created>
  <dc:creator>SUZANNE.MD</dc:creator>
  <dc:description/>
  <dc:language>en-US</dc:language>
  <cp:lastModifiedBy>HANI SAFI</cp:lastModifiedBy>
  <dcterms:modified xsi:type="dcterms:W3CDTF">2003-04-16T13:59:54Z</dcterms:modified>
  <cp:revision>3</cp:revision>
  <dc:subject/>
  <dc:title>PowerPoint Presentation</dc:title>
</cp:coreProperties>
</file>