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F26-A882-4F9A-B9FE-2E6CFA9E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3F4-8B4E-4812-B743-276916B6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485-E9D5-4D97-B3B0-5A997D9B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688-D374-4DAB-BBFC-DB65AE3A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7A2F-D35A-49BF-A97A-85F6066A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A1EC-C012-4CFB-89DA-52443C3C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68B3-D10B-4280-9C96-56A26D88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8944-79A2-4A2B-8D08-879E8EC7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F7AA-2B9A-4864-B758-F3109B1E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4F2A-4884-4F2C-BFE5-C453F305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8DC6-CBB9-4117-9471-03966554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FAD6-C8E6-4DCE-97DE-A92FB898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BB95-4AC3-45AE-BCB0-F7968AE2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B920-31C9-4D22-81CD-D823AFC7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74FC-10B2-41C8-8AEA-3374B097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1BFB-D8C8-4242-816B-1CCCEB50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F64D-CC82-46EE-A306-A85999CE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E57-FE57-4810-AC3D-0F834375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679-785E-4E14-86CD-5FF4E796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D29-D968-4926-9FC9-FAAC7875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5AE-DC6F-4356-815B-76CF2959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455-6D45-45DC-98DE-095D7F7D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EAE-B6E2-4100-A8DC-BE97E54B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195-1B41-45A0-92AF-71BE92F2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0436-1E5E-42C6-A0AF-5B9EBD22CF06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6A0D-449B-437F-ADA1-00F3E99F9A68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7640" y="260280"/>
            <a:ext cx="6048720" cy="9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 u="sng">
                <a:solidFill>
                  <a:srgbClr val="ffffff"/>
                </a:solidFill>
                <a:uFillTx/>
                <a:latin typeface="Tahoma"/>
                <a:cs typeface="AF_Diwani"/>
              </a:rPr>
              <a:t>نشيد المناولة: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Tahoma"/>
              </a:rPr>
              <a:t>قام الل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ِلتَ المجدَ يا إشعاع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بِ الهادي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ُتَّ جسماً فوقَ العود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بّاً فادي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وتٌ أعطى الـموتى بهجاً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ضاءَ الوعدُ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ورُ الوَعدِ ملءَ الدُّنيا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كَ المجدُ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يدُ الفصحِ بهجُ الروح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عدَ الآلام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ذكراكَ يا ابنَ الله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اضَ الإلهام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لثالوثِ طابَ الـمدحُ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ذبَ الأنغام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شكرانُ ملءَ الدنيا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لءَ الأيام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م اللهُ من مثواهُ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مَ الجبّار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حيي الـموتى حولَ القب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بَّ الأنوار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جدُ الربِّ هزَّ العمق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زَّ الأقط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اجُ الـموتِ أهوى أمسى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زءاً وانهار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ن أقبَلنَ بالأطياب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ادى السّاه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م تطلُبْنَ بينَ الـموتى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حيَّ القاد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خذنَ البشرى للأحبابِ: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مَ الظاف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ُروي الدنيا من يَنبوع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جنبِ الطّاهر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ضُ النّورِ نصفَ الليل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ولَ القب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ثلُ الليلِ الـماحي النّور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لظّه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ـمّا ماتَ عِندَ الظّه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ليلُ حلّ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ـمّا قامَ نِصفَ الليل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نّورُ هلّ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َ القدسِ روحَ الحقّ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بدا الأنو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د أعطَيتَ أهلَ البشرى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اً من ن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جدِّد فينا وسمَ الربّ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لمَ الأبر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إنجيلِ والصَّليب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َهدي الأفك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9:52:31Z</dcterms:created>
  <dc:creator>Charbel Azar</dc:creator>
  <dc:description/>
  <dc:language>en-US</dc:language>
  <cp:lastModifiedBy>Charbel Azar</cp:lastModifiedBy>
  <dcterms:modified xsi:type="dcterms:W3CDTF">2002-07-03T11:15:24Z</dcterms:modified>
  <cp:revision>5</cp:revision>
  <dc:subject/>
  <dc:title>PowerPoint Presentation</dc:title>
</cp:coreProperties>
</file>