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052-F734-4585-8A3B-097467FB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A71-6146-42DB-AF64-4D275791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4FB-B125-49B4-BDC5-5C335EE4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3E8-1DBE-4C4C-8977-84C76EA3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7FD-37C7-4976-84AE-24B5CC3D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A84-6730-4A5B-8E9F-CCE41B0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816-AA51-44B2-86B7-595CFCF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A68-9A02-472A-8286-706C094C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B4D-C614-4009-AB40-36D8423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2EE-611C-4F82-82CE-477FEB1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4B-92EC-4775-BDFA-FA68C95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DE8-9CFB-4CD6-99E4-1B32DEC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0BB-377F-4915-8C36-082557AB7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73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وذا عودُ الصلي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عليه عُلِّقَ خلاصُ العا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لموا نسجدُ ل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36:23Z</dcterms:created>
  <dc:creator>SUZANNE.MD</dc:creator>
  <dc:description/>
  <dc:language>en-US</dc:language>
  <cp:lastModifiedBy>HANI SAFI</cp:lastModifiedBy>
  <dcterms:modified xsi:type="dcterms:W3CDTF">2003-04-17T11:12:14Z</dcterms:modified>
  <cp:revision>1</cp:revision>
  <dc:subject/>
  <dc:title>PowerPoint Presentation</dc:title>
</cp:coreProperties>
</file>