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642-D9B1-495E-BA39-5C33E531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9D7-A629-49E2-9705-DBCC31B7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5E2-44D0-4D79-AE61-144F635A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5F1-0B25-4A3C-8CE4-40EB11AF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417-F0BD-44B2-8BE1-8C829534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B8B-DA40-4D71-B7F0-BE50956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CD3-F084-4E64-81E7-C0EACC24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A72-8671-4D7A-AD96-CD26C1D8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DB3-927F-4574-B85C-B093F9DE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F72-4EE8-405B-8374-F8F63A4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655-89D0-450B-8624-2665352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E5F-3F02-4B2D-B03B-DD79EE89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6C2-3A1E-4B71-8BB4-6B4DDCEAF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10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ت الصليب بركع عندك بتأمل في جراحات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بجيلك بجروحي وأعرف أنه شفائي في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تى لو كان الرأس سقيم حتى لو كان الكل مريض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بجيلك بحروحي وأعرف انه شفائي فيك</a:t>
            </a:r>
            <a:r>
              <a:rPr b="0" lang="ar-SA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0903" descr=""/>
          <p:cNvPicPr/>
          <p:nvPr/>
        </p:nvPicPr>
        <p:blipFill>
          <a:blip r:embed="rId1"/>
          <a:stretch/>
        </p:blipFill>
        <p:spPr>
          <a:xfrm>
            <a:off x="373392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143000"/>
            <a:ext cx="34290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جلدتك شُفيت بجلدتك شُفي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esus%20on%20crossss" descr=""/>
          <p:cNvPicPr/>
          <p:nvPr/>
        </p:nvPicPr>
        <p:blipFill>
          <a:blip r:embed="rId1"/>
          <a:stretch/>
        </p:blipFill>
        <p:spPr>
          <a:xfrm>
            <a:off x="4572000" y="0"/>
            <a:ext cx="4865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11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 إساءة لم تُغتفر  وجرحي في القلب انحف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تى لو كان بقالو سنين إيماني فيك إنت يا مع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رفع المجد لاسمك في صليبك قوة شف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وة تحرير قوة تبرير قوة سلام وفرح وعز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39:24Z</dcterms:created>
  <dc:creator>SUZANNE.MD</dc:creator>
  <dc:description/>
  <dc:language>en-US</dc:language>
  <cp:lastModifiedBy>SUZANNE.MD</cp:lastModifiedBy>
  <dcterms:modified xsi:type="dcterms:W3CDTF">2003-03-10T10:05:04Z</dcterms:modified>
  <cp:revision>1</cp:revision>
  <dc:subject/>
  <dc:title>PowerPoint Presentation</dc:title>
</cp:coreProperties>
</file>