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7F9-09E0-4828-AF19-49C17FB6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743-940B-4EFA-8F7F-3410659F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2C8-CD6A-4BC5-B0E1-99D231E1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1DD6-CD3A-40F2-B55E-4AB1B347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FC87-77DA-423E-A7E7-43D8FED5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10B0-49DB-42FE-8AA7-1C261961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531A-5DCC-42AB-A0DA-D9E5576F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352C-E82F-42BF-8FBA-B4FDFB0C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3C23-4B5B-4F25-9C87-5125713C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C09A-87AE-4EF5-BF6F-721B02CC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FEAD-A00E-4C00-A84B-14373D54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D9F-1F80-41CA-8F0F-DA1EC73B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F20E-DB89-4F5D-92A0-A6006805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7A97-AC95-4778-9EA2-E01DA2A4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0279-1D7E-4C40-952C-97662CB9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A1B2-7F23-46DB-8ECF-8315A85B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D4A2-9D8A-4134-8950-DFBDE2E7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059-2ED2-4C26-9E02-0D887C9C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EF9-B2CF-462F-8298-FF0381FD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5A8-AB4D-40FC-938D-6500FA45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A23-187A-44AD-BBA4-2C883DF2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8DCF-ED41-4541-B4E5-5F90C34F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9389-2F8B-424F-A8BD-6C19847F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345-B8C2-4473-A393-6757D3CF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A845-F4B9-430D-93D9-004020B14E38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5DC7-ECA8-47DD-9A88-D41F4B75BE24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47640" y="260280"/>
            <a:ext cx="6048720" cy="9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 u="sng">
                <a:solidFill>
                  <a:srgbClr val="ffffff"/>
                </a:solidFill>
                <a:uFillTx/>
                <a:latin typeface="Tahoma"/>
                <a:cs typeface="AF_Diwani"/>
              </a:rPr>
              <a:t>نشيد المناولة: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Tahoma"/>
              </a:rPr>
              <a:t>قام الل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ِلتَ المجدَ يا إشعاع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آبِ الهادي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ُتَّ جسماً فوقَ العود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بّاً فادي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وتٌ أعطى الـموتى بهجاً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ضاءَ الوعدُ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ورُ الوَعدِ ملءَ الدُّنيا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كَ المجدُ.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يدُ الفصحِ بهجُ الروح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عدَ الآلام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ذكراكَ يا ابنَ الله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اضَ الإلهام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لثالوثِ طابَ الـمدحُ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ذبَ الأنغام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شكرانُ ملءَ الدنيا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لءَ الأيام.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م اللهُ من مثواهُ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مَ الجبّار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حيي الـموتى حولَ القبر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بَّ الأنوار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جدُ الربِّ هزَّ العمق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زَّ الأقط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اجُ الـموتِ أهوى أمسى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زءاً وانهار.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َن أقبَلنَ بالأطياب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ادى السّاه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م تطلُبْنَ بينَ الـموتى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حيَّ القاد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خذنَ البشرى للأحبابِ: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مَ الظاف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ُروي الدنيا من يَنبوع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جنبِ الطّاهر.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ضُ النّورِ نصفَ الليل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ولَ القبر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ثلُ الليلِ الـماحي النّور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لظّهر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ـمّا ماتَ عِندَ الظّهر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ليلُ حلّ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ـمّا قامَ نِصفَ الليل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نّورُ هلّ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َ القدسِ روحَ الحقّ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بدا الأنو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د أعطَيتَ أهلَ البشرى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اً من ن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جدِّد فينا وسمَ الربّ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لمَ الأبر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الإنجيلِ والصَّليب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َهدي الأفك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9:52:31Z</dcterms:created>
  <dc:creator>Charbel Azar</dc:creator>
  <dc:description/>
  <dc:language>en-US</dc:language>
  <cp:lastModifiedBy>Charbel Azar</cp:lastModifiedBy>
  <dcterms:modified xsi:type="dcterms:W3CDTF">2002-07-03T11:15:24Z</dcterms:modified>
  <cp:revision>5</cp:revision>
  <dc:subject/>
  <dc:title>PowerPoint Presentation</dc:title>
</cp:coreProperties>
</file>