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4A5-BC38-4A35-A765-EFCF3F4E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D9A-24C2-4005-85F8-EAB8607C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412-B0B2-4DDC-A53F-D67842A6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339-F492-44F4-A5CA-1876F3DD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B9B-02AB-4972-9DBF-B408800B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189-2B0C-4BB8-86C0-FBF272EA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5A2-6B3F-4CA9-BBDA-E27CEDFE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F05-B8CD-43E4-A198-CDC4A05C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535-FC9C-4031-B7EA-3921D6F1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16C-6B72-479A-8FD5-CF9AC01A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971-95A9-45CE-8726-0CE9EAA9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341-66F9-4422-A17B-FCAD23C1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C4CE-BCC8-45AC-B90B-4F85A0135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7055312TKFvGq_ph" descr=""/>
          <p:cNvPicPr/>
          <p:nvPr/>
        </p:nvPicPr>
        <p:blipFill>
          <a:blip r:embed="rId1"/>
          <a:stretch/>
        </p:blipFill>
        <p:spPr>
          <a:xfrm>
            <a:off x="2057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505320" cy="9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يا من مات على الصليب من أجل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فلتكن كأس دمك مشعلاً  لهدايت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 أيها الربُ الإله يا من خلصتنا من خطايانــا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طلـب منك اليـوم أن تخلصنـا من آلامنـ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9:28:14Z</dcterms:created>
  <dc:creator>SUZANNE.MD</dc:creator>
  <dc:description/>
  <dc:language>en-US</dc:language>
  <cp:lastModifiedBy>SUZANNE.MD</cp:lastModifiedBy>
  <dcterms:modified xsi:type="dcterms:W3CDTF">2003-03-16T09:29:47Z</dcterms:modified>
  <cp:revision>1</cp:revision>
  <dc:subject/>
  <dc:title>PowerPoint Presentation</dc:title>
</cp:coreProperties>
</file>